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9.wmf" ContentType="image/x-wmf"/>
  <Override PartName="/ppt/media/image5.jpeg" ContentType="image/jpeg"/>
  <Override PartName="/ppt/media/image7.gif" ContentType="image/gif"/>
  <Override PartName="/ppt/media/image12.gif" ContentType="image/gif"/>
  <Override PartName="/ppt/media/image8.wmf" ContentType="image/x-wmf"/>
  <Override PartName="/ppt/media/image13.wmf" ContentType="image/x-wmf"/>
  <Override PartName="/ppt/media/image11.png" ContentType="image/png"/>
  <Override PartName="/ppt/media/image6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</p:sldIdLst>
  <p:sldSz cx="9144000" cy="6858000"/>
  <p:notesSz cx="9979025" cy="6832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9979200" cy="683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dt" idx="40"/>
          </p:nvPr>
        </p:nvSpPr>
        <p:spPr>
          <a:xfrm>
            <a:off x="5654160" y="0"/>
            <a:ext cx="43246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ftr" idx="41"/>
          </p:nvPr>
        </p:nvSpPr>
        <p:spPr>
          <a:xfrm>
            <a:off x="0" y="6492960"/>
            <a:ext cx="4324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 type="sldNum" idx="42"/>
          </p:nvPr>
        </p:nvSpPr>
        <p:spPr>
          <a:xfrm>
            <a:off x="565416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592F-2037-4549-9A47-ABBED7486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1C32-E2F3-4F6F-9FF9-EC4D442BE0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5C91-5746-4C99-BF41-A0643BD936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6956-CD2B-43FB-8BA2-496B613250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CordiaUPC"/>
              </a:rPr>
              <a:t>-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เรียงตามปริมาณงาน  ชื่อแรกเป็นผู้มีส่วนร่วมในการศึกษามากที่สุด    ชื่อถัดไปก็มีส่วนร่วมน้อยรองลงไปจากชื่อแร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CordiaUPC"/>
              </a:rPr>
              <a:t>-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ไม่จำเป็นต้องใส่ชื่อผู้ร่วมงานทุกค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rdiaUPC"/>
              </a:rPr>
              <a:t>-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CordiaUPC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ระบุที่ทำงานของผู้แต่งทุกค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ถ้ามีการย้ายที่ทำงานให้เพิ่ม 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CordiaUPC"/>
              </a:rPr>
              <a:t>“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CordiaUPC"/>
              </a:rPr>
              <a:t> ที่อยู่ปัจจุบัน 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CordiaUPC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rdiaUPC"/>
              </a:rPr>
              <a:t>Present  address) </a:t>
            </a:r>
            <a:r>
              <a:rPr b="0" lang="th-TH" sz="1600" spc="-1" strike="noStrike">
                <a:solidFill>
                  <a:srgbClr val="000000"/>
                </a:solidFill>
                <a:latin typeface="Tahoma"/>
                <a:ea typeface="CordiaUPC"/>
              </a:rPr>
              <a:t>”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CordiaUPC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ของผู้แต่งรายนั้นด้ว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ถ้ามีหลายๆ  คน  ส่วนใหญ่จะไม่ระบุตำแหน่ง  ระบุเฉพาะหน่วย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ถ้ามีหลายหน่วยงานจะใส่หมายเลขไว้ข้างบนชื่อ  เช่น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rdiaUPC"/>
              </a:rPr>
              <a:t>1.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อยู่ในหน่วยงานที่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rdiaUPC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4C6A-8472-4B24-8DA7-AF6282E2CC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เป็นส่วนที่สรุปสาระสำคัญ   โดยครอบคลุมเนื่อหาตั้งแต่  ความเป็นมาโดยย่อ  วัตถุประสงค์  วิธีการศึกษา  ผลวิจารณ์และสรุปผลที่สำคั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ไม่เกินหน้า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rdiaUPC"/>
              </a:rPr>
              <a:t>A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มีหัวข้อหลั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สรุปย่อราย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69F8-DD9A-4202-9351-7A355F4B90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71EB-1033-49F3-903F-4E94A3E40E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ในรายละเอียดของการสอบสวนโรคเริ่มจากบทน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เป็นส่วนที่บอกถึงมูลเหตุของการออกไปสอบสวนโรค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การได้รับข่าวการเกิดโรคจากที่ใด  เมื่อไหร่  ใครเป็นผู้แจ้ง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คณะที่ออกไปร่วมสอบสวนประกอบด้วยใครบ้าง  เรื่มสอบสวนตั้งแต่เมื่อไหร่  สิ้นสุดเมื่อไหร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ECE2-8711-4942-86EA-04CFA3483A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เป็นส่วนที่สำคัญมากในการสอบสวนโรค   เป็นตัวกำหนดแนวทางและขอบเขตในการหาคำตอบในการดำเนินการสอบสวนโรค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ซึ่งวัตถุประสงค์ของการออกไปสอบสวนโรค  แต่ละโรคไม่เหมือนกัน  เช่น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ไข้เลือดออ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ยืนยันการวินิจฉัย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หาสถานที่รับเชื้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ประเมินกิจกรรมควบคุมโร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F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หาเชื้อก่อโรค  ภาวะแทรกซ้อ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ค้นหาว่ามีการผู้ป่วยเป็นกลุ่มก้อน  หรือมีการระบาดหรือไม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หาแหล่งโรค  สถานที่รับเชื้อ  และปัจจัยที่ทำให้มีการถ่ายทอดโร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หามาตรการในการควบคุมโร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F885-00C7-486A-A51D-1F6A343245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เป็นส่วนที่บอกถึงว่าการสอบสวนโรคครั้งนี้  มีวิธีการศึกษาอย่างไร  บอกถึงเครื่องมือที่ใช้   วัสดุอุปกรณ์   และวิธีการเก็บรวบรวมข้อมูล  สถิติที่ใช้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อธิบายถึงคำจำกัดความ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CordiaUPC"/>
              </a:rPr>
              <a:t>(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ผู้ป่วย กลุ่มควบคุม ปัจจัยเสี่ยง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CordiaUPC"/>
              </a:rPr>
              <a:t>)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การเลือกตัวอย่าง  การออกแบบการศึกษา   เครื่องมือ   การตรวจทางห้อง ปฏิบัติการ  และกระบวนการอื่น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อธิบายถึงวิธีการวิเคราะห์ข้อมูล  และสถิติที่ใช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การอธิบายต้องชัดเจน  เป็นไปตาม</a:t>
            </a:r>
            <a:r>
              <a:rPr b="0" lang="th-TH" sz="1600" spc="-1" strike="noStrike" u="sng">
                <a:solidFill>
                  <a:srgbClr val="000000"/>
                </a:solidFill>
                <a:uFillTx/>
                <a:latin typeface="Arial"/>
                <a:cs typeface="CordiaUPC"/>
              </a:rPr>
              <a:t>วัตถุประสงค์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CordiaUPC"/>
              </a:rPr>
              <a:t> และมีรายละเอียดเพียงพอให้ผู้อื่นไปทำการศึกษาต่อได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33DC-4788-4073-9A88-41639408A3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5038-C6D9-40C8-A7FA-E66E19F656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เป็นส่วนที่อธิบายสิ่งที่พบ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Times New Roman"/>
              </a:rPr>
              <a:t>เป็นส่วนที่แสดงผลจากการสอบสวนโรคทั้งหมด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นำมาเรียบเรียงตามตัวแปรบุคคล เวลา  สถานที่   ประกอบการนำเสนอด้วย ตาราง  กราฟ  แผนภูมิตามความเหมาะสม   </a:t>
            </a:r>
            <a:r>
              <a:rPr b="1" lang="th-TH" sz="1800" spc="-1" strike="noStrike">
                <a:solidFill>
                  <a:srgbClr val="000000"/>
                </a:solidFill>
                <a:latin typeface="Times New Roman"/>
              </a:rPr>
              <a:t>การนำเสนอผลต้องสอดคล้องกับวัตถุประสงค์และวิธีการศึกษ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แนวทางการเขีย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ยืนยันการเกิดโรค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แสดงข้อมูลให้เห็นว่ามีการเกิดโรคจริง   อาศัยผลการวินิจฉัยของแพทย์   ผ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b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ถ้าไม่มีใช้ข้อมูลอาการและอาการแสดงของผู้ป่ว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F2B7-DCF6-4648-A174-9111354BD5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ยืนยันการระบา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แสดงข้อมูลให้เห็นว่ามีการระบาดเกิดขึ้น   กรณ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break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แสดงจำนวนผู้ป่วยในเหตุการณ์นั้นทั้งหมด   กรณ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idemic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แสดงข้อมูลเปรียบเทียบจำนวนผู้ป่วย  กับค่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n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หรือจำนวนผู้ป่วยในช่วงเวลาเดียวกันในปีที่ผ่านม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DE1D-5D9E-4682-BA51-DB0A731B0B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D794-B49D-4AB1-A9ED-7F73668BED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ข้อมูลทั่วไ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เป็นส่วนที่แสดงให้เห็นสภาพทั่วไป ของพื้นที่เกิดโรค  ในด้านต่างๆ  ซึ่งอาจมีความสัมพันธ์กับการเกิดโร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659F-11BC-4F90-AAD4-54E87447CB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ผลการสอบสวนทางระบาดวิทย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ระบาดวิทยาเชิงพรรณา   เป็นส่วนที่แสดงให้เห็นถึงลักษณะของการเกิดโรคตามตัวแปรทางระบาดวิทยา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ลักษณะการกระจายของโรคตามบุคคล    แสดงอัตราป่ว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ttack rate)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ที่เกิดขึ้นทั้งหมด  อธิบายถึงกลุ่มอายุ  หรือเพศที่มีอัตราป่วยสูงสุด  ต่ำสุด  และกลุ่มใดเกิดโรคมากที่สุ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ลักษณะการกระจายตามเวลา   แสดงระยะเวลาเกิดโรค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ation of outbreak)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ตั้งแต่รายแรกถึงรายสุดท้าย   ระยะฟักตัวโรค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idermic  curve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บอกหรืออธิบายลักษณะการเกิดโรคเป็นแบบใ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ลักษณะการกระจายตามสถานที่    แสดงให้เห็นถึงความแตกต่างของการเกิดโรคในแต่ละพื้นที่  ในรูปของ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tack rate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เช่น จำแนกตามชั้นเรียน  จำแนกตามหมู่บ้าน   รวมถึงการทำ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t map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แสดงการกระจายของผู้ป่วยตามพื้นที่    โดยแสดงให้เห็นถึงจุดที่เกิดผู้ป่วยรายแร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3EC7-F35F-41C6-8D04-6E8DE72348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4607-AEAD-4F8A-96AB-9C5A2F7C28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3D16-FCBC-489D-BEF5-7ED7B3E149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ข้อถัดมาแสดงผลการศึกษาระบาดวิทยาเชิงวิเคราะห์   อธิบายผลและนำเสนอตารา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วิเคราะห์   ตัวอย่างเป็นการศึกษาแบบ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rdiaUPC"/>
              </a:rPr>
              <a:t>case -  control  study  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หาค่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rdiaUPC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ปัญหาที่พบคือ ตารางไม่ตรงกับรูปแบบการศึกษาที่ใช้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rdiaUPC"/>
              </a:rPr>
              <a:t>Case – control  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เริ่มจากป่วย   กิน  ไม่กิน  ไม่ป่วย   กิน  ไม่กิ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rdiaUPC"/>
              </a:rPr>
              <a:t>Retrospective   study 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เริ่มจาก   ได้รับปัจจัย  ป่วย  ไม่ป่วย   หาค่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rdiaUPC"/>
              </a:rPr>
              <a:t>AR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หรือ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rdiaUPC"/>
              </a:rPr>
              <a:t>attract   rate 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ได้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การพิจารณาทางระบาดนิยมใช้  ค่า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rdiaUPC"/>
              </a:rPr>
              <a:t>RR  OR 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กับ ค่า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rdiaUPC"/>
              </a:rPr>
              <a:t>95% CI   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นอกจากดูว่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ค่าคร่อม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  <a:ea typeface="CordiaUPC"/>
              </a:rPr>
              <a:t>1 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แล้ว  ต้องดูว่า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  <a:ea typeface="CordiaUPC"/>
              </a:rPr>
              <a:t>9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rdiaUPC"/>
              </a:rPr>
              <a:t>%CI 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ตัวไหนแคบที่สุด  ตัวนั้นมีความน่าเชื่อถือมากที่สุ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0492-5299-4703-BAEE-CB8A4DBF88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ถัดจากผลการศึกษาทางระบาดวิทยา  เป็นผลการตรวจทางห้องปฏิบัติการ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แสดงให้เห็นว่า  เก็บตัวอย่างในคนและสิ่งแวดล้อม  เก็บอะไรบ้าง   จำนวนเท่าไหร่  เก็บตัวอย่างในคนและในผู้ป่วยส่งตรวจอะไรบ้าง  เก็บใครบ้างกี่ราย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ตรวจด้วยวิธีอะไร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ส่งตรวจที่ไหน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ผลการตรวจพบอะไร  แสดงสัดส่วนของการตรวจพบเชื้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บอกรายละเอียดของผลการตรวจทั้งหมด   ตั้งแต่ตัวเชื้อ  ผลการตรวจความจำเพาะของเชื้อ เช่น  ดื้อยาของเชื้อ  ตรวจห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otype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ให้ละเอียดว่าผลเป็นอย่างไร  ถ้าเป็นเชื้อแบคทีเรียควรมีผลการตรวจ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sitivity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ต่อยาด้วย  แสดงสัดส่วนการตรวจพบเป็นร้อยละเท่าไหร่   จำแนกเป็นเก็บตัวอย่างในคน  และสิ่งแวดล้อม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FE46-C8FE-45FD-9CE4-7B53667B96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หัวข้อต่อมาอธิบายถึงผลการศึกษาสิ่งแวดล้อม  อธิบายสิ่งแวดล้อมที่เกี่ยวข้องกับการเกิดโรค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ตัวอย่างเช่น   การระบาดของโรคอาหารเป็นพิษ   สิ่งแวดล้อมที่เกี่ยวข้อง ได้แก่สถานที่ประกอบอาหาร ขั้นตอนการปรุงอาหาร   ตั้งแต่ขั้นเตรียมวัตถุดิบ  ปรุงถึงเสริพอาหารมีใครที่เกี่ยวข้องบ้าง  มีอุปกรณ์อะไรที่เกี่ยวข้องบ้า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ซึ่งใช้ช่วยอธิบายสาเหตุและปัจจัยที่เกี่ยวข้องกับการเกิดโร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7A23-9D3A-4E5E-8B12-0EDD645225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หัวข้อสุดท้ายในผลการศึกษา  คือ  ผลการเฝ้าระวังโรค  อธิบายผลการเฝ้าระวังโรคหลังวันเริ่มป่วยของผู้ป่วยรายสุดท้าย  ครบ </a:t>
            </a: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2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เท่าของระยะฟักตัวของโรคในวันที่เท่าไหร่  ผลเป็นอย่างไร  มีผู้ป่วยรายใหม่หรือไม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ไมต้อง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2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เท่าของระยะฟักตัวของโรค  คือหลังจากที่เชื้อถ่ายทอดไปแล้ว</a:t>
            </a: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ตาม </a:t>
            </a: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spectum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ของการเกิดโรคจะเกิด  ผู้ป่วยอาการรุนแรง    อาการไม่รุนแรงที่ไม่ต้องไปรักษา  และติดเชื้อไม่แสดงอาการ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(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าหะ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)   </a:t>
            </a:r>
            <a:r>
              <a:rPr b="0" lang="th-TH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ซึ่งพาหะเราจะค้นไม่เจอและสามารถแพร่เชื้อได้  ถ้ายังมีพาหะเหลือก็จะเกิดผู้ป่วยอีกระลอกหนึ่งได้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0D53-6911-4AEF-9B7C-3E556950F8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โดยสรุปการเขียนผลการศึกษ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00FB-4FC2-44A3-937A-3C7FF29F95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ถัดจากการเขียนผลการศึกษา  เป็นมาตรการควบคุมและป้องกันโรค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แสดงให้เห็นว่า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ในการสอบสวนโรคได้ทำอะไรไปบ้าง  ในการกำจัดแหล่งโรค    การตัดวงจรการถ่ายทอดโรต  และการป้องกันในกลุ่มเสี่ย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และถ้าจะป้องกันไม่ให้เกิดการระบาดขึ้นอีก  จะมีวิธีป้องกันอย่างไรบ้าง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CE6A-5AA3-4157-AB70-82E95EF77E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C267-13CA-40F6-874E-76170C585E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ถัดจากมาตรการควบคุมป้องกันโรค  เป็นวิจารณ์ผลการสอบสวนโร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เป็นการแปลผลการสอบสวนและให้เหตุผลการแปลนั้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เริ่มจากอธิบายเหตุการณืที่เกิดขึ้นสั้นๆ  ว่าตรงกับวัตถุประสงค์หรือสมมุติฐานของการเกิดโรคหรือไม่   โยงกับวรรณกรรมที่ทบทวน  ว่าอะไรที่เหมือนเดิม   อะไรที่แตกต่างอย่างไร  เพราะเหตุใ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ใช้ความรู้ที่ค้นคว้าเพิ่มเติม  มาอธิบายการเกิดโรค  วิเคราะห์หาสาเหตุและสมมุติฐานให้เห็นภาพชัดเจนขึ้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วิจารณ์ให้เห็นว่าการเกิดโรคในครั้งนี้ต่าง  จากที่ผ่านมาในประเด็นไหนบ้า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บอกว่าการสอบสวนโรคในครั้งนี้ประสบความสำเร็จหรือไม่สำเร็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เน้นการนำไปใช้ประโยชน์     การให้ประเด็นคำถามการวิจัยสำหรับการศึกษาต่อไ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2ECF-1231-4596-BFAB-BF4640726A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หัวข้อถัดไปเขียนปัญหาและข้อจำกัดในการสอบสวนโร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มีปัญหาอะไรบ้าง   ที่ทำให้การสอบสวนเป็นไปไม่ได้อย่างเต็มที่  หรือไม่สามารถตอบคำถามได้ทุกข้อ   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หรือไม่สามารถตอบตามวัตถุประสงค์ได้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CordiaUPC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เขียนเป็นข้อๆ  และควรมีข้อเสนอแนะไว้ด้วยทุกข้อ จะมีประโยชน์มากในการสอบสวนครั้งต่อไ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60DE-D480-4810-8C57-429877BB07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ถัดมาเป็นการเขียนสรุปผลการสอบสวนโร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เขียนสรุปตอบวัตถุประสงค์และสมมุติฐานที่ตั้งไว้   โดยการสรุปจะต้องตอบประเด็นหลักๆ นี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CordiaUPC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rdiaUPC"/>
              </a:rPr>
              <a:t>- 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เป็นโรคอะไร  ด้วยเหตุผลอะไร   เป็นการระบาดหรือไม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CordiaUPC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rdiaUPC"/>
              </a:rPr>
              <a:t>- 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แหล่งโรคคืออะไร  หาได้หรือไม่ได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CordiaUPC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rdiaUPC"/>
              </a:rPr>
              <a:t>- 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มีวิธีการถ่ายทอดโรคอย่างไ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CordiaUPC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rdiaUPC"/>
              </a:rPr>
              <a:t>- 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กลุ่มเสี่ยงคือใค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CordiaUPC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rdiaUPC"/>
              </a:rPr>
              <a:t>- 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ปัจจัยเสี่ยงของการเกิดโรคมีอะไรบ้า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CordiaUPC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ordiaUPC"/>
              </a:rPr>
              <a:t>-  </a:t>
            </a: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สถานการณ์ล่าสุดเป็นอย่างไร  ยังพบผู้ป่วยหรือไม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0EE5-1340-44CA-AC95-A34825A798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ถัดมาเป็นข้อเสนอแนะ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ข้อเสนอที่ทีมสอบสวนโรค  เสนอให้ผู้เกี่ยวข้องเกี่ยวกับมาตรการควบคุมโรคไม่ให้เกิดในอนาคค  หรือข้อเสนอที่จะช่วยให้การสอบสวนโรคมีประสิทธิภาพมากขึ้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ข้อเสนอจะต้องสอดคล้องกับผลการศึกษ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B09D-B240-48BF-B893-8EDCF5C6A8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ถัดมาเป็นกิตติกรรมกา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แจ้งให้ทราบว่าการช่วยเหลือที่สำคัญมาจากที่ใดบ้าง  เช่นผู้บริหารที่สนับสนุนการศึกษา  ผู้ช่วยเหลือเทคนิคบางอย่าง   และผู้สนับสนุนทุนการศึกษา    แต่การใส่ชื่อคนมากๆ  อาจทำให้บทความด้อยความภูมิฐาน   เพราะผู้อ่านจะอนุมานว่างานส่วนใหญ่มีคนช่วยทำทั้งหม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เขียนขอบคุณผู้ที่ให้ความร่วมมือในการสอบสวนโรคเป็นอย่างดี  และผู้ร่วมทำการสอบสวนโรค  ที่มีส่วนช่วยในการทำรายงานให้สำเร็จไปด้วยดีโดยที่ไม่มีชื่อในกลุ่มผู้เขียนราย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cs typeface="CordiaUPC"/>
              </a:rPr>
              <a:t>การเขียนเอกสารอ้างอิง   บทความที่นำมาอ้างอิงในรายงานสอบสวนโรค  ให้ใส่ชื่อไว้ในเอกสารอ้างอิงด้วย  เพื่อให้ผู้อ่านสามารถไปศึกษาต่อได้  รูปแบบการเขียนอ้าง อิงที่นิยมใช้คือ  รูปแบบแวนคูเวอร์   หรือถ้าลงตีพิมพ์ก็ใช้รูปแบบตามที่วารสารกำหน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2CB6-3B45-4971-90D8-2E89D15C10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เขียนหลังจากกลับจากสอบสวนภายใน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-48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ชั่วโมง  เพื่อให้ผู้บริหารทราบและมีการดำเนินงานในขั้นต่อไป   มีความยาวไม่เกิน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หน้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03B9-3F1F-492B-AF76-0415007FD6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ใช้หลักการเดียวกันทั้งกรณีเป็นการสอบสวนเฉพาะรายและระบา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กรณีสอบสวนเฉพาะรายให้ระบุรายละเอียดข้อมูลผู้ป่วยแต่ละรา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กรณีสอบสวนการระบาดให้สรุปรายละเอียดข้อมูลผู้ป่วยทุกราย  นำเสนอเป็นภาพรวมการระบา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AD5C-A1A3-4E7C-8D36-4109FC2B54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F08D-3AF2-4C9B-BC88-05604865D8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การเขียนความเป็นมาเหมือนกับ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rdiaUPC"/>
              </a:rPr>
              <a:t>full  report 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เพิ่มวัตถุประสงค์ของการสอบสวนในส่วนนี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CB11-AB44-425B-ABD8-439D0D2BB4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ถ้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ดจากความเป็นมาเป็นผลการศึกษา  อธิบายรายละเอียดเหตุการณ์ที่เกิดขึ้น  มีผู้ป่วยเท่าไหร่ กลุ่มเสี่ยงเป็นใคร  อะไรเป็นแหล่งรังโรค  มีวิธีการถ่ายทอดอย่างไร สาเหตุของการระบาดคืออะไร  มีปัจจัยอะไรที่ทำให้แพร่ระบาด   และผลตรวจทางห้องปฏิบัติการและสิ่งแวดล้อ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  <a:ea typeface="CordiaUPC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กรณีการระบาด  อาจ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นำเสนอ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ordiaUPC"/>
              </a:rPr>
              <a:t>epidemic  curve   spot  map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แสดงการกระจายของผู้ป่วยตามพื้นที่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ordiaUPC"/>
              </a:rPr>
              <a:t>  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หรือภาพถ่ายแนบมาในผลการสอบสวนโรคด้วยได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C047-7C4B-4429-9756-FD205BD2C2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วัตถุประสงค์หลักของการเขียนรายงานสอบสวนโรค  บอกว่าเกิดเหตุการณ์อะไรขึ้น  มีมาตรการอะไรที่ใช้ได้ผล  และมีปัญหาอุปสรรคอะไรที่จะต้องแก้ไขในครั้งต่อๆ ไ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เป็นบันทึกเหตุการณ์ระบาดของโรคหรือปัญหาสาธารณสุขที่เกิดขึ้น  จะทำให้เรารู้ว่าปัญหาในพื้นที่เรามีอะไรบ้าง ถ้ารวบรวมแต่ละเหตุการณ์มาสงเคราะห์ก็จะทำให้เราเห็นรายละเอียดของปัญหาชัดเจนขึ้น  เช่นจุดอ่อนจุดแข็งของระบบเฝ้าระวัง   ปัจจัยต่างๆที่ทำให้เกิดโรคมีอะไรบ้าง  ซึ่งสามารถที่จะนำไปวางแผนป้องกันควบคุมโรคล่วงหน้าได้อย่างมีประสิทธิภาพมากขึ้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63BD-3A79-4B5C-B60D-F7B25AD8AD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ถัดจากผลการศึกษาเป็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9306-3B0C-4B06-AB92-7D4F29E98D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ถ้ดจากกิจกรรมควบคุมเป็นบอกแนวโน้มการระบา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บอกว่าโรคยังมีแนวโน้มจะระบาด  หรือสงบ   หรือบอกไม่ได้  เนื่องจากเหตุผลอะไร   ซึ่งมีความสำคัญสำหรับผู้บริหารในการตัดสินใจสั่งการหรือให้การสนับสนุนการทำงานโดยประมวลแนวโน้มการระบาดจากข้อมูลผู้ป่วย  ผลการสอบสวน  ผลการควบคุมและลักษณะระบาดวิทยาของโรค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AEE9-0C21-4902-A88E-AADFD33CC3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หัวข้อถัดไปคือสรุปความสำคัญทางสาธารณสุขและความเร่งด่วน  โดยพิจารณาจากขนาดปัญหา  ผลกระทบต่อประชาชน ต่อเศรษฐกิจและการท่องเที่ยวหรือไม่ เป็นการระบาดหรือเป็นโรคอุบัติใหม่   และต้องมีความเร่งด่วนในการแก้ไขปัญหาหรือไม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70E8-9AB0-4B8E-A208-896694B86A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หัวข้อสุดท้ายคือ  ข้อเสนอเพื่อพิจารณาดำเนินการ  ส่วนใหญ่จะบอกถึงมาตรการที่ต้องดำเนินการต่อ  หรือทำเพิ่มให้ใครทำ  และเร่งรัดการเฝ้าระวังโรคให้เข้มแข็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98CF-9BE1-442D-8F60-9C1C56F811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ม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ข้อหลั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A057-854B-4A7B-BF03-8DE0EAE1AC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คนเขียนมีความเข้าใจในขั้นตอนการสอบสวน  และมีทักษะในการเขียนเพิ่มขึ้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ผู้บริหารรู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ผู้อ่านได้ความรู้ได้แนวทางในการสอบสว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ช่วยพัฒนาคุณภาพการสอบสวน  คือได้กำจัดจุดอ่อนของการสอบสวนครั้งก่อน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02BA-266C-45B0-85EC-1CAF70CB73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ไม่สื่อถึงมูลเหตุที่ต้องออกสอบสวน   ไม่บอกทีมสอบสวนและระยะเวลาที่สอบสว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6B88-7F89-4957-BF95-5BCFF4F2CD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ผลการสอบสวน  เขียนแค่รายงานผู้ปวย  ไม่มีข้อมูลอื่นๆ  ประกอบ เช่นการค้นหาผู้สัมผัส ผู้ป่วยรายอื่น  ข้อมูลสิ่งแวดล้อมที่เกี่ยวข้อ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2CEE-F6D5-458B-B4C6-24BFC83FD5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รายงานสอบสวนโรคเบื้องต้น   เขียนทันทีหลังจากกลับจากสอบสวนในพื้นที่  เพื่อรายงานให้ผู้บริหารทราบโดยเร็ว  ถึงสถานการณ์ในปัจจุบันและแนวโน้ม  ผลการดำเนินการและข้อเสนอแนะะ   รายงานอาจขาดความสมบูรณ์ในด้านเนื้อหา  และมีความสำคัญต่อการดำเนินการควบคุมโรคให้ทันท่วงทีต่อสถานการณ์ในขณะนั้น  ความยาวไม่เกิน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หน้า   มีหลายฉบั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รายงานการสอบสวนสรุปเสนอผู้บริหาร  เขียนเมื่อการสอบสวนโรคสิ้นสุด  เพื่อสรุปรายละเอียดของผลการสอบสวนโรคทั้งหมด  รวมทั้งผลของการควบคุมโรค   ซึ่งจะใช้เป็นหลักฐานสำหรับอ้างอิงต่อไป  มีบันทึกปะหน้า   เป็น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utive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ก่อน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l  report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 report 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ทำเพื่อสรุปรายละเอียดของเหตุการณ์ทั้งหมด   โดยมีหัวข้อหลักทั้งหม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ข้อ ซึ่งใช้เป็นตัวชี้วัดผลงานของเจ้าหน้าที่และหน่วย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บทความวิชาการ   เขียนเพื่อใช้ตีพิมพ์เผยแพร่  รูปแบบการเขียนมักจะขึ้นกับวารสารที่จะนำไปลงตีพิมพ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5436-4B6A-4874-ADE2-59F29E3758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ใช้หลักการและรูปแบบการเขียนเหมือนกับการเขียนเอกสารทางวิชาการ  ซึ่งสามารถใช้เป็นผลงานทางวิชาการของจนท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ได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622D-D663-4EED-917B-FE313FC65F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องค์ประกอบของรายงานม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 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หัวข้อหลัก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26A9-3C61-475E-914A-72BBCF5FF1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5654520" y="6492960"/>
            <a:ext cx="43246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B919-C6E5-4347-930B-4195258BA9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3281400" y="512640"/>
            <a:ext cx="3416400" cy="256248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1329840" y="3246480"/>
            <a:ext cx="73184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</a:rPr>
              <a:t>สิ่อความหมายสั้นๆ  และดึงดูดความสนใจผู้อ่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A071-1D9F-469B-863C-510ADED0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B258-81E8-483F-9294-9381806A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44CA6-F94D-4EAA-83EC-185B6CA5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A5409-93CF-4E6E-A393-9196D574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AC4B0-3FC1-4D68-8CEA-B2741710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EC309-E2F3-46B6-ADCE-56B06B68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DED4F-E789-4E0E-8F28-CC8612A4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CED54-A746-4826-9C08-E130E17F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A17E9-BA0E-48AD-BD93-3B3E7551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380D4-0036-48F7-B32F-83865DA4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0B107-B0AA-449E-959F-3AAB5062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14586-3110-410D-B7EA-18DAA264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163-5C36-4533-BAFA-7B12E3E2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47921-DE1C-4C34-906A-A02BA7AB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996F0-4BD5-4613-A304-02E319BD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17A3A-A7C4-46E6-B5BC-69B44228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E8D40-6E49-444D-8FC0-887FB83C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4BE0D-84A8-4FF1-A926-BC06F735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E3F33-49D3-446C-8E82-D1EF26A5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5C55F-A18B-4476-A547-38271971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7D730-BE7B-4459-A283-A6B3754E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C6812-27BA-4190-BC86-220970A8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A963F-B163-47FB-8383-5956ECB8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919-3BBD-44BA-BC92-1FA5B4A3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6B18F-75EE-4734-B03D-21960F82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BB684-CF93-499F-892A-054CE516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B3277-EE0E-4920-9B62-27AD2790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BDF30-4633-412B-BE25-EE7153F3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570AA-333E-43C2-9A53-F0BE56A4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37D23-4BC0-4036-8967-915AD744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48BBD-29B5-4C97-9A9D-3FE067C0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0F314-CB6D-4ECF-9D43-6F1C852A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C6C0D-D48E-4E98-B980-DC5EF7BE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9010F-8F84-4B27-B070-C694A832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99FE-F4DC-4EC9-897D-26CF4CE0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44AEA-70DD-4639-93E0-D9ACE631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597BE-2C98-40FC-8A64-5429CE5B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9DC8A-9733-4769-83B9-92F77DE7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E9EBF-0D33-4971-81DD-619F4911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AB128-FEA7-4F72-871C-D4597D02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08C07-9085-44EB-B19A-A412039D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E7418-6488-48B5-9E69-946914A0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FE7D4-F9CD-4EC0-9595-2C12FE75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3AC1E-0CC7-4E60-8528-7F3F1FDB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0BBC9-759E-48FE-9631-AD2F7DF2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3762-BBFB-45B7-8A81-51372418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D1612-D1F2-4C50-9102-7EE772B8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2FFBE-14F0-47BC-BC1B-B97270DD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DBB99-F3A3-45A4-8471-8838DA9D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44680-8825-4943-B164-B07D0835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6AC46-4C8E-46CA-AEB8-4FA79F31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8DC19A-EB29-4733-BD6E-A7437DD5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F06CF8-8623-4F1F-B6F2-13CDC9F1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27DDF-53D6-4E0F-BA42-576FFDED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A67F5-9D18-4B19-BF62-E5DC5B20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0CDDF-3DF9-4E5E-B2E1-A1391BC7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7A85-8817-45D9-977A-F69992BF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D9568-5D41-4B8C-8768-D1BF60EC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1F908-BB93-482A-B212-D68B7B7D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63929-EE40-4554-A638-E287E9A6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CD6EC9-4423-4F3F-9248-E2EB0B02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8E065-78C7-4F32-8674-29C4C54F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B3227-809E-4F87-8422-DFEA9CD8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C0DFA6-6E71-4E62-A429-7668332B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AEAC-91F1-4688-A818-3DE44DCB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BE66-795A-4C5B-B134-B37A61E5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ACAA-F8BA-449E-9E7B-0DBB3214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135B-348E-4259-8CE0-8F5B83CF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B8D-73DA-420C-9564-51C702B1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2E19-0D76-4591-A122-7D628145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0955-D91D-4D89-A9E2-539C2AF8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F5AD-A1CE-4E40-9942-D12DA6FF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C118-E2B8-4C6D-A42B-10FE637D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6256-719B-4B21-98D3-09DE2C1B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D09E9-1AA0-4E46-AB3D-A6C9629B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21405-0EE5-4446-8D40-3CB16388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58AF6-AD37-4C20-A2EE-4B9C88AB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451BE-2EF4-4E57-875A-83879832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BF167-9DA9-44E5-8521-0D2984B3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F166-5E26-4DD9-97A1-73ADF351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6B789-801A-4C3F-8BA2-1541BD98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37397-5B30-4183-A856-13045690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78FF8-141E-4421-8B45-6BA8ADD5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EFA48-DD23-4B83-854D-218B5F45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4ADB4-FB6D-48D6-A8CD-33D4BA6B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67952-F518-4EE1-8CA9-936DFD9F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E66CD-7FCA-4C13-9D22-C390D30B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FFE76-EC9D-4745-A027-91A6977D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1D049-DC93-4954-AB5D-CD0BA519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E2EF9-711D-41F1-8068-30E469E0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258E-9853-4C96-8FA3-C57AB5C4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5ADE8-B37E-4E04-8125-18FD3632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0A400-C50D-4CE6-B687-0A2902C6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BB0FB-1D76-41B3-B28F-8561E7E5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5A73F-D1DC-4BA6-A7CA-C286B429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79DE0-4E16-4503-970B-A52BB65E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13C8F-FCE6-4190-8CE8-73CF4525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DE1A9-327E-49F9-AF68-213FCE79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4995D-9BDD-4BBC-B93D-AEEF0206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05755-DFAC-41F6-A4D0-647B3435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F0AFF-29DA-44B3-8251-93F0116D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A3A-8F26-415A-9CED-36B53051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5AEF2-4F00-475C-AA6B-67794219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A5468-E5FF-4D06-BECD-B221F285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19A7C-F19F-4A9C-8893-917020E4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6567F-E9FC-43B9-B87C-1F27651B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E12B4-7E02-4102-BF39-FE42818A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9E058-0A75-4E02-8E87-64C3A03C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95BCC-40DF-47EA-AF56-A5BB744E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875A9-F49C-4878-B653-D8F3E278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BCBD2-111D-4D96-A705-756CEA30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D2827-DC00-419F-B437-8A152213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7E43-DF85-438B-920B-936AB304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3BD05-8A37-42FC-94B6-4D05C7DF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7E78B-CA48-4514-82CD-3F97694E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609AB-AE74-43D1-B455-62C158EB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5252B-824F-4DD8-88E9-94B29375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22C61-4C64-4F31-ABEB-16A52AA2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A808D-1B12-46C3-9570-84E5C671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77D7B-E7A4-4793-A6A1-2A7E0F38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38FE5-5651-4E1D-809D-58AE787C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1AB37-B31F-4303-9FAE-AB02EC93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2412F-3DA1-47D1-AA1C-E0D31EF9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505-0DAD-4C59-B97D-77E68A2E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57396-F901-4CF8-BAC3-43D19B05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A4FE1-FE83-4203-9A95-BCF6708D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51D01-AE8A-448E-8F0C-536391F1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3FAD1-3178-4A73-AA2D-8BAB09A8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FAFD4-CCC6-42F3-953E-043E52BB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35BC4-1C3A-4BB9-BC63-C95C913D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2C217-1F8E-4121-9715-CC6A01F2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12802-F406-4918-8AEF-81EA9661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7DC68-1ACB-47E0-9370-EDAE91B2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D6D55-49B4-4935-B727-AF1329B0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629C-49CC-4175-ADF3-75ECF5D1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9E00C-7915-4785-B663-B4E27375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788E5-E243-45A9-A242-B67D1490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0E1E3-D31A-49B6-AA40-34FE3573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41BEA-2EE3-4EF6-967F-0A44831A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696BD-C9BA-4994-A57A-1E260843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D8D79-5108-406E-BF12-B1D53F0F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E9570-51AB-4FC4-A61F-BE78B74E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2BAC2-6F5D-450B-BBA3-37CD5F35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849AB-C2A9-4E74-8403-4D4627FC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3A094-C7AD-4F85-BFD9-36C772A3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9613-A02C-4C56-996D-2E85F797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936FE-2F09-49F7-B4FC-E942304D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547CB-1920-4A7E-B097-4DE94F89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1D793-87D5-445F-A8A1-85E6DD99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8076F-ABC6-476E-A614-BA8411D2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F66C2-65CD-45CA-B479-1B650FDE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F4F8C-FB52-4511-AB89-8121EE4B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5E5F3-CB6F-41FE-B695-C525253E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774A1-A09F-4EA6-94AC-F0AFC0BA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AFF83-37F2-4AB6-BDCB-8C94C6A9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CD9D3-DEBA-4EE0-A1F4-FA8AB1EC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F007-0BE6-4E71-BF14-17CD0AE06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A182-E044-4153-BF9D-A7356B992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ABEC-D180-4F14-AE5B-444D2A943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FFC9-FEE4-4C32-B67D-83F983D42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EDFA-DE69-4CFA-96EC-452C0CD284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54BF-1AF2-41A0-A07B-E76D9751F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21AB-CC66-48AD-81B1-2D58F6BD8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C4E1-B72B-4083-A6A1-F9D010A22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444E-6F93-4C84-999E-30B26A56F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A449-35BE-47A2-A503-54A86A3FA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1FE2-1328-47A0-A1AA-53927A2A8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ACD1-186C-4ED1-8085-0D7F97112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7BA0-5865-45A0-BFFB-E77766838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17"/>
          <p:cNvGrpSpPr/>
          <p:nvPr/>
        </p:nvGrpSpPr>
        <p:grpSpPr>
          <a:xfrm>
            <a:off x="1066680" y="1371600"/>
            <a:ext cx="7086600" cy="6524640"/>
            <a:chOff x="1066680" y="1371600"/>
            <a:chExt cx="7086600" cy="6524640"/>
          </a:xfrm>
        </p:grpSpPr>
        <p:sp>
          <p:nvSpPr>
            <p:cNvPr id="547" name="WordArt 3"/>
            <p:cNvSpPr txBox="1"/>
            <p:nvPr/>
          </p:nvSpPr>
          <p:spPr>
            <a:xfrm>
              <a:off x="1066680" y="1371600"/>
              <a:ext cx="7086600" cy="6524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latin typeface="BrowalliaUPC"/>
                </a:rPr>
                <a:t>การเขียนรายงานการสอบสวนทางระบาดวิทยา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latin typeface="BrowalliaUPC"/>
                <a:ea typeface="BrowalliaUPC"/>
              </a:endParaRPr>
            </a:p>
          </p:txBody>
        </p:sp>
        <p:sp>
          <p:nvSpPr>
            <p:cNvPr id="548" name="WordArt 5"/>
            <p:cNvSpPr txBox="1"/>
            <p:nvPr/>
          </p:nvSpPr>
          <p:spPr>
            <a:xfrm>
              <a:off x="1752480" y="1928520"/>
              <a:ext cx="5715000" cy="5462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000000"/>
                  </a:solidFill>
                  <a:latin typeface="CordiaUPC"/>
                </a:rPr>
                <a:t>HOW TO WRITE EPIDEMIOLOGIC INVESTIGATION REPORT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latin typeface="CordiaUPC"/>
                <a:ea typeface="CordiaUPC"/>
              </a:endParaRPr>
            </a:p>
          </p:txBody>
        </p:sp>
      </p:grpSp>
      <p:pic>
        <p:nvPicPr>
          <p:cNvPr id="549" name="Picture 7" descr="bs00554_"/>
          <p:cNvPicPr/>
          <p:nvPr/>
        </p:nvPicPr>
        <p:blipFill>
          <a:blip r:embed="rId1"/>
          <a:stretch/>
        </p:blipFill>
        <p:spPr>
          <a:xfrm>
            <a:off x="3200400" y="2819520"/>
            <a:ext cx="3048120" cy="26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2"/>
          <p:cNvSpPr txBox="1"/>
          <p:nvPr/>
        </p:nvSpPr>
        <p:spPr>
          <a:xfrm>
            <a:off x="452520" y="387360"/>
            <a:ext cx="81518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cc66"/>
                  </a:solidFill>
                  <a:miter/>
                </a:ln>
                <a:solidFill>
                  <a:srgbClr val="0e2a7c"/>
                </a:solidFill>
                <a:latin typeface="Tahoma"/>
              </a:rPr>
              <a:t>รูปแบบการเขียนรายงานสอบสวนโรค</a:t>
            </a:r>
            <a:endParaRPr b="0" lang="en-US" sz="2400" spc="1" strike="noStrike">
              <a:ln w="9360">
                <a:solidFill>
                  <a:srgbClr val="ffcc66"/>
                </a:solidFill>
                <a:miter/>
              </a:ln>
              <a:solidFill>
                <a:srgbClr val="0e2a7c"/>
              </a:solidFill>
              <a:latin typeface="Tahoma"/>
              <a:ea typeface="Tahoma"/>
            </a:endParaRPr>
          </a:p>
        </p:txBody>
      </p:sp>
      <p:pic>
        <p:nvPicPr>
          <p:cNvPr id="620" name="Picture 3" descr="WBW02SRO"/>
          <p:cNvPicPr/>
          <p:nvPr/>
        </p:nvPicPr>
        <p:blipFill>
          <a:blip r:embed="rId1"/>
          <a:stretch/>
        </p:blipFill>
        <p:spPr>
          <a:xfrm>
            <a:off x="7956720" y="275580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4"/>
          <p:cNvSpPr/>
          <p:nvPr/>
        </p:nvSpPr>
        <p:spPr>
          <a:xfrm>
            <a:off x="727200" y="2133720"/>
            <a:ext cx="787716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2060"/>
                </a:solidFill>
                <a:latin typeface="Tahoma"/>
                <a:cs typeface="Tahoma"/>
              </a:rPr>
              <a:t>รายงานการสอบสวนโรค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  <a:ea typeface="Tahoma"/>
              </a:rPr>
              <a:t>.......................</a:t>
            </a:r>
            <a:r>
              <a:rPr b="1" lang="th-TH" sz="3200" spc="-1" strike="noStrike">
                <a:solidFill>
                  <a:srgbClr val="002060"/>
                </a:solidFill>
                <a:latin typeface="Tahoma"/>
                <a:ea typeface="Tahoma"/>
              </a:rPr>
              <a:t>...</a:t>
            </a:r>
            <a:r>
              <a:rPr b="1" lang="th-TH" sz="3200" spc="-1" strike="noStrike">
                <a:solidFill>
                  <a:srgbClr val="002060"/>
                </a:solidFill>
                <a:latin typeface="Tahoma"/>
                <a:cs typeface="Tahoma"/>
              </a:rPr>
              <a:t>เกิดขึ้นที่ไหน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  <a:ea typeface="Tahoma"/>
              </a:rPr>
              <a:t>..........................</a:t>
            </a:r>
            <a:r>
              <a:rPr b="1" lang="th-TH" sz="3200" spc="-1" strike="noStrike">
                <a:solidFill>
                  <a:srgbClr val="002060"/>
                </a:solidFill>
                <a:latin typeface="Tahoma"/>
                <a:cs typeface="Tahoma"/>
              </a:rPr>
              <a:t>เมื่อไร</a:t>
            </a:r>
            <a:r>
              <a:rPr b="1" lang="en-US" sz="3200" spc="-1" strike="noStrike">
                <a:solidFill>
                  <a:srgbClr val="002060"/>
                </a:solidFill>
                <a:latin typeface="Tahoma"/>
                <a:ea typeface="Tahoma"/>
              </a:rPr>
              <a:t>..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533520" y="1413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ff"/>
                </a:solidFill>
                <a:latin typeface="Tahoma"/>
                <a:cs typeface="Tahoma"/>
              </a:rPr>
              <a:t>ชื่อเรื่อ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3635280" y="3429000"/>
            <a:ext cx="50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2060"/>
                </a:solidFill>
                <a:latin typeface="Tahoma"/>
                <a:cs typeface="Tahoma"/>
              </a:rPr>
              <a:t>นาย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/</a:t>
            </a:r>
            <a:r>
              <a:rPr b="0" lang="th-TH" sz="2000" spc="-1" strike="noStrike">
                <a:solidFill>
                  <a:srgbClr val="002060"/>
                </a:solidFill>
                <a:latin typeface="Tahoma"/>
                <a:cs typeface="Tahoma"/>
              </a:rPr>
              <a:t>นาง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/</a:t>
            </a:r>
            <a:r>
              <a:rPr b="0" lang="th-TH" sz="2000" spc="-1" strike="noStrike">
                <a:solidFill>
                  <a:srgbClr val="002060"/>
                </a:solidFill>
                <a:latin typeface="Tahoma"/>
                <a:cs typeface="Tahoma"/>
              </a:rPr>
              <a:t>น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.</a:t>
            </a:r>
            <a:r>
              <a:rPr b="0" lang="th-TH" sz="2000" spc="-1" strike="noStrike">
                <a:solidFill>
                  <a:srgbClr val="002060"/>
                </a:solidFill>
                <a:latin typeface="Tahoma"/>
                <a:cs typeface="Tahoma"/>
              </a:rPr>
              <a:t>ส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. ..........................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2060"/>
                </a:solidFill>
                <a:latin typeface="Tahoma"/>
                <a:cs typeface="Tahoma"/>
              </a:rPr>
              <a:t>สำนักงาน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....................................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Rectangle 7"/>
          <p:cNvSpPr/>
          <p:nvPr/>
        </p:nvSpPr>
        <p:spPr>
          <a:xfrm>
            <a:off x="727200" y="4130640"/>
            <a:ext cx="7796160" cy="2149560"/>
          </a:xfrm>
          <a:prstGeom prst="rect">
            <a:avLst/>
          </a:prstGeom>
          <a:noFill/>
          <a:ln w="9360">
            <a:solidFill>
              <a:srgbClr val="153f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2060"/>
                </a:solidFill>
                <a:latin typeface="Tahoma"/>
                <a:ea typeface="Tahoma"/>
              </a:rPr>
              <a:t>                            </a:t>
            </a:r>
            <a:r>
              <a:rPr b="1" lang="th-TH" sz="2800" spc="-1" strike="noStrike">
                <a:solidFill>
                  <a:srgbClr val="002060"/>
                </a:solidFill>
                <a:latin typeface="Tahoma"/>
                <a:cs typeface="Tahoma"/>
              </a:rPr>
              <a:t>บทคัดย่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3"/>
          <p:cNvSpPr/>
          <p:nvPr/>
        </p:nvSpPr>
        <p:spPr>
          <a:xfrm>
            <a:off x="4800600" y="3733920"/>
            <a:ext cx="2895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1447920" y="1055520"/>
            <a:ext cx="6095880" cy="703440"/>
          </a:xfrm>
          <a:prstGeom prst="rect">
            <a:avLst/>
          </a:prstGeom>
          <a:solidFill>
            <a:srgbClr val="ff0033"/>
          </a:solidFill>
          <a:ln w="9360">
            <a:solidFill>
              <a:srgbClr val="2bf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BrowalliaUPC"/>
              </a:rPr>
              <a:t>ผู้รายงานและทีมสอบสว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15"/>
          <p:cNvSpPr/>
          <p:nvPr/>
        </p:nvSpPr>
        <p:spPr>
          <a:xfrm>
            <a:off x="533520" y="201600"/>
            <a:ext cx="79246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2060"/>
                </a:solidFill>
                <a:latin typeface="Angsana New"/>
                <a:cs typeface="CordiaUPC"/>
              </a:rPr>
              <a:t>องค์ประกอบและวิธีการเขียนรายงาน ฉบับสมบูรณ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16"/>
          <p:cNvSpPr/>
          <p:nvPr/>
        </p:nvSpPr>
        <p:spPr>
          <a:xfrm>
            <a:off x="990720" y="1909800"/>
            <a:ext cx="7010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ordiaUPC"/>
                <a:ea typeface="CordiaUPC"/>
              </a:rPr>
              <a:t>- </a:t>
            </a:r>
            <a:r>
              <a:rPr b="1" lang="th-TH" sz="3600" spc="-1" strike="noStrike">
                <a:solidFill>
                  <a:srgbClr val="002060"/>
                </a:solidFill>
                <a:latin typeface="CordiaUPC"/>
                <a:cs typeface="CordiaUPC"/>
              </a:rPr>
              <a:t>ชื่อ  หน่วยงาน  ตำแหน่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2060"/>
                </a:solidFill>
                <a:latin typeface="CordiaUPC"/>
                <a:ea typeface="CordiaUPC"/>
              </a:rPr>
              <a:t>- </a:t>
            </a:r>
            <a:r>
              <a:rPr b="1" lang="th-TH" sz="3600" spc="-1" strike="noStrike">
                <a:solidFill>
                  <a:srgbClr val="002060"/>
                </a:solidFill>
                <a:latin typeface="CordiaUPC"/>
                <a:cs typeface="CordiaUPC"/>
              </a:rPr>
              <a:t>เรียงตามปริมาณงาน  ชื่อแรกเป็นผู้มีส่วนร่วมในการศึกษาที่สุด    ชื่อถัดไปก็มีส่วนร่วมน้อยรองลงไปจากชื่อแร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2060"/>
                </a:solidFill>
                <a:latin typeface="CordiaUPC"/>
                <a:ea typeface="CordiaUPC"/>
              </a:rPr>
              <a:t>- </a:t>
            </a:r>
            <a:r>
              <a:rPr b="1" lang="th-TH" sz="3600" spc="-1" strike="noStrike">
                <a:solidFill>
                  <a:srgbClr val="002060"/>
                </a:solidFill>
                <a:latin typeface="CordiaUPC"/>
                <a:cs typeface="CordiaUPC"/>
              </a:rPr>
              <a:t>ไม่จำเป็นต้องใส่ชื่อผู้ร่วมงานทุกค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ordiaUPC"/>
                <a:ea typeface="CordiaUPC"/>
              </a:rPr>
              <a:t>-</a:t>
            </a:r>
            <a:r>
              <a:rPr b="1" lang="th-TH" sz="3600" spc="-1" strike="noStrike">
                <a:solidFill>
                  <a:srgbClr val="002060"/>
                </a:solidFill>
                <a:latin typeface="CordiaUPC"/>
                <a:ea typeface="CordiaUPC"/>
              </a:rPr>
              <a:t> </a:t>
            </a:r>
            <a:r>
              <a:rPr b="1" lang="th-TH" sz="3600" spc="-1" strike="noStrike">
                <a:solidFill>
                  <a:srgbClr val="002060"/>
                </a:solidFill>
                <a:latin typeface="CordiaUPC"/>
                <a:cs typeface="CordiaUPC"/>
              </a:rPr>
              <a:t>ระบุที่ทำงานของผู้แต่งทุกค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9" name="Picture 14" descr="pe01832_"/>
          <p:cNvPicPr/>
          <p:nvPr/>
        </p:nvPicPr>
        <p:blipFill>
          <a:blip r:embed="rId1"/>
          <a:stretch/>
        </p:blipFill>
        <p:spPr>
          <a:xfrm>
            <a:off x="6553080" y="3886200"/>
            <a:ext cx="2745000" cy="25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13"/>
          <p:cNvSpPr/>
          <p:nvPr/>
        </p:nvSpPr>
        <p:spPr>
          <a:xfrm>
            <a:off x="563400" y="144360"/>
            <a:ext cx="7925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2060"/>
                </a:solidFill>
                <a:latin typeface="Angsana New"/>
                <a:cs typeface="CordiaUPC"/>
              </a:rPr>
              <a:t>องค์ประกอบและวิธีการเขียนรายงาน ฉบับสมบูรณ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1" name="Group 14"/>
          <p:cNvGrpSpPr/>
          <p:nvPr/>
        </p:nvGrpSpPr>
        <p:grpSpPr>
          <a:xfrm>
            <a:off x="1371600" y="990720"/>
            <a:ext cx="3657600" cy="914400"/>
            <a:chOff x="1371600" y="990720"/>
            <a:chExt cx="3657600" cy="914400"/>
          </a:xfrm>
        </p:grpSpPr>
        <p:sp>
          <p:nvSpPr>
            <p:cNvPr id="632" name="Rectangle 15"/>
            <p:cNvSpPr/>
            <p:nvPr/>
          </p:nvSpPr>
          <p:spPr>
            <a:xfrm>
              <a:off x="1371600" y="990720"/>
              <a:ext cx="3657600" cy="9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Text Box 16"/>
            <p:cNvSpPr/>
            <p:nvPr/>
          </p:nvSpPr>
          <p:spPr>
            <a:xfrm>
              <a:off x="1371600" y="990720"/>
              <a:ext cx="3600360" cy="76428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2b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400" spc="-1" strike="noStrike">
                  <a:solidFill>
                    <a:srgbClr val="ffffff"/>
                  </a:solidFill>
                  <a:latin typeface="Angsana New"/>
                  <a:cs typeface="BrowalliaUPC"/>
                </a:rPr>
                <a:t>บทคัดย่อ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4" name="Rectangle 31"/>
          <p:cNvSpPr/>
          <p:nvPr/>
        </p:nvSpPr>
        <p:spPr>
          <a:xfrm>
            <a:off x="533520" y="18795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e2a7c"/>
                </a:solidFill>
                <a:latin typeface="CordiaUPC"/>
                <a:cs typeface="CordiaUPC"/>
              </a:rPr>
              <a:t>เป็นเนื้อความย่อที่เสนอประเด็นสำคัญของการสอบสว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74960" indent="-17496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e2a7c"/>
                </a:solidFill>
                <a:latin typeface="CordiaUPC"/>
                <a:cs typeface="CordiaUPC"/>
              </a:rPr>
              <a:t>สั้น  ไม่ควรเกิน  </a:t>
            </a:r>
            <a:r>
              <a:rPr b="1" lang="th-TH" sz="3600" spc="-1" strike="noStrike">
                <a:solidFill>
                  <a:srgbClr val="0e2a7c"/>
                </a:solidFill>
                <a:latin typeface="CordiaUPC"/>
                <a:ea typeface="CordiaUPC"/>
              </a:rPr>
              <a:t>200 -250 </a:t>
            </a:r>
            <a:r>
              <a:rPr b="1" lang="th-TH" sz="3600" spc="-1" strike="noStrike">
                <a:solidFill>
                  <a:srgbClr val="0e2a7c"/>
                </a:solidFill>
                <a:latin typeface="CordiaUPC"/>
                <a:cs typeface="CordiaUPC"/>
              </a:rPr>
              <a:t>ค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Rectangle 32"/>
          <p:cNvSpPr/>
          <p:nvPr/>
        </p:nvSpPr>
        <p:spPr>
          <a:xfrm>
            <a:off x="563400" y="313200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e2a7c"/>
                </a:solidFill>
                <a:latin typeface="CordiaUPC"/>
                <a:cs typeface="CordiaUPC"/>
              </a:rPr>
              <a:t>เนื้อหา ความเป็นมาโดยย่อ  วัตถุประสงค์ของการศึกษา  วิธีการศึกษา  ผลที่สำคัญ  และความคิดเห็น  หรือข้อเสนอแน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Rectangle 33"/>
          <p:cNvSpPr/>
          <p:nvPr/>
        </p:nvSpPr>
        <p:spPr>
          <a:xfrm>
            <a:off x="533520" y="477504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e2a7c"/>
                </a:solidFill>
                <a:latin typeface="CordiaUPC"/>
                <a:cs typeface="CordiaUPC"/>
              </a:rPr>
              <a:t>ควรเขียนสุดท้าย  ภายหลังเขียนส่วนอื่น ๆ  เสร็จสิ้นแล้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34"/>
          <p:cNvSpPr/>
          <p:nvPr/>
        </p:nvSpPr>
        <p:spPr>
          <a:xfrm>
            <a:off x="530280" y="54100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e2a7c"/>
                </a:solidFill>
                <a:latin typeface="CordiaUPC"/>
                <a:cs typeface="CordiaUPC"/>
              </a:rPr>
              <a:t>บทคัดย่อจะเป็นเครื่องตัดสินใจให้ผู้อ่านว่าจะอ่านต่อไปหรือไม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6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680" y="42696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 u="sng">
                <a:solidFill>
                  <a:srgbClr val="0e2a7c"/>
                </a:solidFill>
                <a:uFillTx/>
                <a:latin typeface="CordiaUPC"/>
                <a:cs typeface="CordiaUPC"/>
              </a:rPr>
              <a:t>หลีกเลี่ยง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70c0"/>
                </a:solidFill>
                <a:latin typeface="CordiaUPC"/>
                <a:cs typeface="CordiaUPC"/>
              </a:rPr>
              <a:t>ตัวย่อ  เช่น  รร</a:t>
            </a:r>
            <a:r>
              <a:rPr b="1" lang="th-TH" sz="4000" spc="-1" strike="noStrike">
                <a:solidFill>
                  <a:srgbClr val="0070c0"/>
                </a:solidFill>
                <a:latin typeface="CordiaUPC"/>
                <a:ea typeface="CordiaUPC"/>
              </a:rPr>
              <a:t>.  </a:t>
            </a:r>
            <a:r>
              <a:rPr b="1" lang="th-TH" sz="4000" spc="-1" strike="noStrike">
                <a:solidFill>
                  <a:srgbClr val="0070c0"/>
                </a:solidFill>
                <a:latin typeface="CordiaUPC"/>
                <a:cs typeface="CordiaUPC"/>
              </a:rPr>
              <a:t>เป็นต้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70c0"/>
                </a:solidFill>
                <a:latin typeface="CordiaUPC"/>
                <a:cs typeface="CordiaUPC"/>
              </a:rPr>
              <a:t>ระบุเอกสารอ้างอิง  ตาราง  หรือรูปภาพในบทคัดย่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70c0"/>
                </a:solidFill>
                <a:latin typeface="CordiaUPC"/>
                <a:cs typeface="CordiaUPC"/>
              </a:rPr>
              <a:t>การเขียนผลการศึกษา  หรือข้อสรุป  ซึ่งไม่ปรากฏอยู่ในเนื้อเรื่องเล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10"/>
          <p:cNvSpPr/>
          <p:nvPr/>
        </p:nvSpPr>
        <p:spPr>
          <a:xfrm>
            <a:off x="5157720" y="218124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  <a:cs typeface="BrowalliaUPC"/>
              </a:rPr>
              <a:t>เกิดอะไร ที่ไหน เมื่อไหร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Text Box 11"/>
          <p:cNvSpPr/>
          <p:nvPr/>
        </p:nvSpPr>
        <p:spPr>
          <a:xfrm>
            <a:off x="5172120" y="283356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  <a:cs typeface="BrowalliaUPC"/>
              </a:rPr>
              <a:t>แหล่งข่าวใด  ผู้ให้ข่าวเป็นใค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xt Box 12"/>
          <p:cNvSpPr/>
          <p:nvPr/>
        </p:nvSpPr>
        <p:spPr>
          <a:xfrm>
            <a:off x="5186520" y="3490920"/>
            <a:ext cx="34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ngsana New"/>
                <a:cs typeface="BrowalliaUPC"/>
              </a:rPr>
              <a:t>ข้อมูลเบื้องต้นของ </a:t>
            </a:r>
            <a:r>
              <a:rPr b="1" lang="en-US" sz="2800" spc="-1" strike="noStrike">
                <a:solidFill>
                  <a:srgbClr val="0000ff"/>
                </a:solidFill>
                <a:latin typeface="Angsana New"/>
                <a:ea typeface="BrowalliaUPC"/>
              </a:rPr>
              <a:t>Index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Text Box 13"/>
          <p:cNvSpPr/>
          <p:nvPr/>
        </p:nvSpPr>
        <p:spPr>
          <a:xfrm>
            <a:off x="5195880" y="423864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  <a:cs typeface="BrowalliaUPC"/>
              </a:rPr>
              <a:t>ขนาดของปัญห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Text Box 14"/>
          <p:cNvSpPr/>
          <p:nvPr/>
        </p:nvSpPr>
        <p:spPr>
          <a:xfrm>
            <a:off x="5186520" y="4848120"/>
            <a:ext cx="40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  <a:cs typeface="BrowalliaUPC"/>
              </a:rPr>
              <a:t>คณะสอบสวนประกอบด้วยหน่วยใ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Text Box 15"/>
          <p:cNvSpPr/>
          <p:nvPr/>
        </p:nvSpPr>
        <p:spPr>
          <a:xfrm>
            <a:off x="5210280" y="5472000"/>
            <a:ext cx="39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  <a:cs typeface="BrowalliaUPC"/>
              </a:rPr>
              <a:t>เริ่มสอบสวนและ เสร็จสิ้นเมื่อไหร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Line 16"/>
          <p:cNvSpPr/>
          <p:nvPr/>
        </p:nvSpPr>
        <p:spPr>
          <a:xfrm>
            <a:off x="4052880" y="2438280"/>
            <a:ext cx="990720" cy="0"/>
          </a:xfrm>
          <a:prstGeom prst="line">
            <a:avLst/>
          </a:prstGeom>
          <a:ln w="38160">
            <a:solidFill>
              <a:srgbClr val="2bff01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Line 17"/>
          <p:cNvSpPr/>
          <p:nvPr/>
        </p:nvSpPr>
        <p:spPr>
          <a:xfrm>
            <a:off x="4023000" y="2592720"/>
            <a:ext cx="1050480" cy="502560"/>
          </a:xfrm>
          <a:prstGeom prst="line">
            <a:avLst/>
          </a:prstGeom>
          <a:ln w="38160">
            <a:solidFill>
              <a:srgbClr val="2bff01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Line 18"/>
          <p:cNvSpPr/>
          <p:nvPr/>
        </p:nvSpPr>
        <p:spPr>
          <a:xfrm>
            <a:off x="3886200" y="2666880"/>
            <a:ext cx="1219320" cy="1067040"/>
          </a:xfrm>
          <a:prstGeom prst="line">
            <a:avLst/>
          </a:prstGeom>
          <a:ln w="38160">
            <a:solidFill>
              <a:srgbClr val="2bff01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Line 19"/>
          <p:cNvSpPr/>
          <p:nvPr/>
        </p:nvSpPr>
        <p:spPr>
          <a:xfrm>
            <a:off x="3733920" y="2743200"/>
            <a:ext cx="1371600" cy="1752480"/>
          </a:xfrm>
          <a:prstGeom prst="line">
            <a:avLst/>
          </a:prstGeom>
          <a:ln w="38160">
            <a:solidFill>
              <a:srgbClr val="2bff01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Line 20"/>
          <p:cNvSpPr/>
          <p:nvPr/>
        </p:nvSpPr>
        <p:spPr>
          <a:xfrm>
            <a:off x="3733920" y="2971800"/>
            <a:ext cx="1371600" cy="2133720"/>
          </a:xfrm>
          <a:prstGeom prst="line">
            <a:avLst/>
          </a:prstGeom>
          <a:ln w="38160">
            <a:solidFill>
              <a:srgbClr val="2bff01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Line 21"/>
          <p:cNvSpPr/>
          <p:nvPr/>
        </p:nvSpPr>
        <p:spPr>
          <a:xfrm>
            <a:off x="3505320" y="3048120"/>
            <a:ext cx="1600200" cy="2666880"/>
          </a:xfrm>
          <a:prstGeom prst="line">
            <a:avLst/>
          </a:prstGeom>
          <a:ln w="38160">
            <a:solidFill>
              <a:srgbClr val="2bff01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2" name="Object 22"/>
          <p:cNvGraphicFramePr/>
          <p:nvPr/>
        </p:nvGraphicFramePr>
        <p:xfrm>
          <a:off x="504720" y="4888080"/>
          <a:ext cx="62064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4888080"/>
                    <a:ext cx="6206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4" name="Group 27"/>
          <p:cNvGrpSpPr/>
          <p:nvPr/>
        </p:nvGrpSpPr>
        <p:grpSpPr>
          <a:xfrm>
            <a:off x="1125360" y="3659040"/>
            <a:ext cx="2971800" cy="1293480"/>
            <a:chOff x="1125360" y="3659040"/>
            <a:chExt cx="2971800" cy="1293480"/>
          </a:xfrm>
        </p:grpSpPr>
        <p:sp>
          <p:nvSpPr>
            <p:cNvPr id="655" name="AutoShape 23"/>
            <p:cNvSpPr/>
            <p:nvPr/>
          </p:nvSpPr>
          <p:spPr>
            <a:xfrm>
              <a:off x="1125360" y="3659040"/>
              <a:ext cx="2971800" cy="1293480"/>
            </a:xfrm>
            <a:prstGeom prst="wedgeEllipseCallout">
              <a:avLst>
                <a:gd name="adj1" fmla="val -47435"/>
                <a:gd name="adj2" fmla="val 59226"/>
              </a:avLst>
            </a:prstGeom>
            <a:solidFill>
              <a:srgbClr val="cc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Text Box 24"/>
            <p:cNvSpPr/>
            <p:nvPr/>
          </p:nvSpPr>
          <p:spPr>
            <a:xfrm>
              <a:off x="1280880" y="3659040"/>
              <a:ext cx="266076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ffffff"/>
                  </a:solidFill>
                  <a:latin typeface="Angsana New"/>
                  <a:cs typeface="CordiaUPC"/>
                </a:rPr>
                <a:t>บอกมูลเหตุของการออกไปสอบสวนโร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7" name="Group 39"/>
          <p:cNvGrpSpPr/>
          <p:nvPr/>
        </p:nvGrpSpPr>
        <p:grpSpPr>
          <a:xfrm>
            <a:off x="1295280" y="1066680"/>
            <a:ext cx="3505320" cy="2286000"/>
            <a:chOff x="1295280" y="1066680"/>
            <a:chExt cx="3505320" cy="2286000"/>
          </a:xfrm>
        </p:grpSpPr>
        <p:sp>
          <p:nvSpPr>
            <p:cNvPr id="658" name="AutoShape 8"/>
            <p:cNvSpPr/>
            <p:nvPr/>
          </p:nvSpPr>
          <p:spPr>
            <a:xfrm>
              <a:off x="1295280" y="1066680"/>
              <a:ext cx="3505320" cy="2286000"/>
            </a:xfrm>
            <a:custGeom>
              <a:avLst/>
              <a:gdLst>
                <a:gd name="textAreaLeft" fmla="*/ 800280 w 3505320"/>
                <a:gd name="textAreaRight" fmla="*/ 2705040 w 3505320"/>
                <a:gd name="textAreaTop" fmla="*/ 521640 h 2286000"/>
                <a:gd name="textAreaBottom" fmla="*/ 1764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33"/>
                </a:gs>
                <a:gs pos="100000">
                  <a:srgbClr val="760018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2b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Text Box 9"/>
            <p:cNvSpPr/>
            <p:nvPr/>
          </p:nvSpPr>
          <p:spPr>
            <a:xfrm>
              <a:off x="1523880" y="1143000"/>
              <a:ext cx="3081600" cy="16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25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25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25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400" spc="-1" strike="noStrike">
                  <a:solidFill>
                    <a:srgbClr val="ffffff"/>
                  </a:solidFill>
                  <a:latin typeface="Angsana New"/>
                  <a:cs typeface="BrowalliaUPC"/>
                </a:rPr>
                <a:t>บทนำหรือ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25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400" spc="-1" strike="noStrike">
                  <a:solidFill>
                    <a:srgbClr val="ffffff"/>
                  </a:solidFill>
                  <a:latin typeface="Angsana New"/>
                  <a:cs typeface="BrowalliaUPC"/>
                </a:rPr>
                <a:t>ความเป็นมา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0" name="Text Box 40"/>
          <p:cNvSpPr/>
          <p:nvPr/>
        </p:nvSpPr>
        <p:spPr>
          <a:xfrm>
            <a:off x="752400" y="77760"/>
            <a:ext cx="7925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งค์ประกอบและวิธีการเขียนรายงาน ฉบับสมบูรณ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oup 38"/>
          <p:cNvGrpSpPr/>
          <p:nvPr/>
        </p:nvGrpSpPr>
        <p:grpSpPr>
          <a:xfrm>
            <a:off x="990720" y="814320"/>
            <a:ext cx="4723920" cy="918720"/>
            <a:chOff x="990720" y="814320"/>
            <a:chExt cx="4723920" cy="918720"/>
          </a:xfrm>
        </p:grpSpPr>
        <p:grpSp>
          <p:nvGrpSpPr>
            <p:cNvPr id="662" name="Group 30"/>
            <p:cNvGrpSpPr/>
            <p:nvPr/>
          </p:nvGrpSpPr>
          <p:grpSpPr>
            <a:xfrm>
              <a:off x="990720" y="814320"/>
              <a:ext cx="4428000" cy="761400"/>
              <a:chOff x="990720" y="814320"/>
              <a:chExt cx="4428000" cy="761400"/>
            </a:xfrm>
          </p:grpSpPr>
          <p:sp>
            <p:nvSpPr>
              <p:cNvPr id="663" name="Rectangle 17"/>
              <p:cNvSpPr/>
              <p:nvPr/>
            </p:nvSpPr>
            <p:spPr>
              <a:xfrm>
                <a:off x="990720" y="814320"/>
                <a:ext cx="4280400" cy="68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Rectangle 18"/>
              <p:cNvSpPr/>
              <p:nvPr/>
            </p:nvSpPr>
            <p:spPr>
              <a:xfrm>
                <a:off x="1137600" y="890280"/>
                <a:ext cx="4281120" cy="685440"/>
              </a:xfrm>
              <a:prstGeom prst="rect">
                <a:avLst/>
              </a:pr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5" name="Text Box 19"/>
            <p:cNvSpPr/>
            <p:nvPr/>
          </p:nvSpPr>
          <p:spPr>
            <a:xfrm>
              <a:off x="1137960" y="1090440"/>
              <a:ext cx="457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Times New Roman"/>
                </a:rPr>
                <a:t>วัตถุประสงค์ในการสอบสวนโรค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Text Box 20"/>
          <p:cNvSpPr/>
          <p:nvPr/>
        </p:nvSpPr>
        <p:spPr>
          <a:xfrm>
            <a:off x="533520" y="1709640"/>
            <a:ext cx="822960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CordiaUPC"/>
                <a:ea typeface="Cordia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เป็นตัวกำหนดแนวทางและขอบเขตในการหาคำตอบในการสอบสวนโรค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CordiaUPC"/>
              </a:rPr>
              <a:t>ให้ระบุวัตถุประสงค์เฉพาะของการสอบสวนโรค เช่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buClr>
                <a:srgbClr val="ffff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66"/>
                </a:solidFill>
                <a:latin typeface="Angsana New"/>
                <a:ea typeface="CordiaUPC"/>
              </a:rPr>
              <a:t> </a:t>
            </a:r>
            <a:r>
              <a:rPr b="1" lang="th-TH" sz="3200" spc="-1" strike="noStrike">
                <a:solidFill>
                  <a:srgbClr val="0000bf"/>
                </a:solidFill>
                <a:latin typeface="Angsana New"/>
                <a:cs typeface="CordiaUPC"/>
              </a:rPr>
              <a:t>เพื่อยืนยันการวินิจฉัยและการระบาดของโร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buClr>
                <a:srgbClr val="0000b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bf"/>
                </a:solidFill>
                <a:latin typeface="Angsana New"/>
                <a:ea typeface="CordiaUPC"/>
              </a:rPr>
              <a:t> </a:t>
            </a:r>
            <a:r>
              <a:rPr b="1" lang="th-TH" sz="3200" spc="-1" strike="noStrike">
                <a:solidFill>
                  <a:srgbClr val="0000bf"/>
                </a:solidFill>
                <a:latin typeface="Angsana New"/>
                <a:cs typeface="CordiaUPC"/>
              </a:rPr>
              <a:t>เพื่อศึกษาลักษณะทางระบาดวิทยาของโรคตาม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bf"/>
                </a:solidFill>
                <a:latin typeface="Angsana New"/>
                <a:ea typeface="CordiaUPC"/>
              </a:rPr>
              <a:t>   </a:t>
            </a:r>
            <a:r>
              <a:rPr b="1" lang="th-TH" sz="3200" spc="-1" strike="noStrike">
                <a:solidFill>
                  <a:srgbClr val="0000bf"/>
                </a:solidFill>
                <a:latin typeface="Angsana New"/>
                <a:cs typeface="CordiaUPC"/>
              </a:rPr>
              <a:t>บุคคล เวลา สถานที่</a:t>
            </a:r>
            <a:r>
              <a:rPr b="0" lang="th-TH" sz="3200" spc="-1" strike="noStrike">
                <a:solidFill>
                  <a:srgbClr val="0000bf"/>
                </a:solidFill>
                <a:latin typeface="Times New Roman"/>
              </a:rPr>
              <a:t> </a:t>
            </a:r>
            <a:r>
              <a:rPr b="1" lang="th-TH" sz="3200" spc="-1" strike="noStrike">
                <a:solidFill>
                  <a:srgbClr val="0000b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buClr>
                <a:srgbClr val="0000b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bf"/>
                </a:solidFill>
                <a:latin typeface="Angsana New"/>
                <a:ea typeface="CordiaUPC"/>
              </a:rPr>
              <a:t> </a:t>
            </a:r>
            <a:r>
              <a:rPr b="1" lang="th-TH" sz="3200" spc="-1" strike="noStrike">
                <a:solidFill>
                  <a:srgbClr val="0000bf"/>
                </a:solidFill>
                <a:latin typeface="Angsana New"/>
                <a:cs typeface="CordiaUPC"/>
              </a:rPr>
              <a:t>เพื่อค้นหาแหล่งโรค วิธีการถ่ายทอดโรค  และผู้สัมผัสโร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buClr>
                <a:srgbClr val="0000b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bf"/>
                </a:solidFill>
                <a:latin typeface="Angsana New"/>
                <a:ea typeface="CordiaUPC"/>
              </a:rPr>
              <a:t> </a:t>
            </a:r>
            <a:r>
              <a:rPr b="1" lang="th-TH" sz="3200" spc="-1" strike="noStrike">
                <a:solidFill>
                  <a:srgbClr val="0000bf"/>
                </a:solidFill>
                <a:latin typeface="Angsana New"/>
                <a:cs typeface="CordiaUPC"/>
              </a:rPr>
              <a:t>เพื่อหามาตรการในการป้องกันควบคุมโร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buClr>
                <a:srgbClr val="0000b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bf"/>
                </a:solidFill>
                <a:latin typeface="Angsana New"/>
                <a:ea typeface="CordiaUPC"/>
              </a:rPr>
              <a:t> </a:t>
            </a:r>
            <a:r>
              <a:rPr b="1" lang="th-TH" sz="3200" spc="-1" strike="noStrike">
                <a:solidFill>
                  <a:srgbClr val="0000bf"/>
                </a:solidFill>
                <a:latin typeface="Angsana New"/>
                <a:cs typeface="CordiaUPC"/>
              </a:rPr>
              <a:t>อื่นๆ ตามแต่กรณี เช่น ศึกษาประสิทธิภาพวัคซี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xt Box 37"/>
          <p:cNvSpPr/>
          <p:nvPr/>
        </p:nvSpPr>
        <p:spPr>
          <a:xfrm>
            <a:off x="533520" y="93600"/>
            <a:ext cx="79246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งค์ประกอบและวิธีการเขียนรายงาน ฉบับสมบูรณ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33"/>
          <p:cNvGrpSpPr/>
          <p:nvPr/>
        </p:nvGrpSpPr>
        <p:grpSpPr>
          <a:xfrm>
            <a:off x="-265680" y="1162080"/>
            <a:ext cx="7427520" cy="762120"/>
            <a:chOff x="-265680" y="1162080"/>
            <a:chExt cx="7427520" cy="762120"/>
          </a:xfrm>
        </p:grpSpPr>
        <p:sp>
          <p:nvSpPr>
            <p:cNvPr id="669" name="Rectangle 32"/>
            <p:cNvSpPr/>
            <p:nvPr/>
          </p:nvSpPr>
          <p:spPr>
            <a:xfrm>
              <a:off x="850680" y="1238400"/>
              <a:ext cx="533412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Rectangle 31"/>
            <p:cNvSpPr/>
            <p:nvPr/>
          </p:nvSpPr>
          <p:spPr>
            <a:xfrm>
              <a:off x="774720" y="1162080"/>
              <a:ext cx="5333760" cy="68580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Rectangle 30"/>
            <p:cNvSpPr/>
            <p:nvPr/>
          </p:nvSpPr>
          <p:spPr>
            <a:xfrm>
              <a:off x="-265680" y="1162080"/>
              <a:ext cx="7427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000" spc="-1" strike="noStrike">
                  <a:solidFill>
                    <a:srgbClr val="ffffff"/>
                  </a:solidFill>
                  <a:latin typeface="Times New Roman"/>
                </a:rPr>
                <a:t>วิธีการศึกษาที่ใช้ในการสอบสวนโรค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2" name="Group 52"/>
          <p:cNvGrpSpPr/>
          <p:nvPr/>
        </p:nvGrpSpPr>
        <p:grpSpPr>
          <a:xfrm>
            <a:off x="6477120" y="4780080"/>
            <a:ext cx="2342880" cy="1482480"/>
            <a:chOff x="6477120" y="4780080"/>
            <a:chExt cx="2342880" cy="1482480"/>
          </a:xfrm>
        </p:grpSpPr>
        <p:sp>
          <p:nvSpPr>
            <p:cNvPr id="673" name="AutoShape 27"/>
            <p:cNvSpPr/>
            <p:nvPr/>
          </p:nvSpPr>
          <p:spPr>
            <a:xfrm>
              <a:off x="6991200" y="4780080"/>
              <a:ext cx="381240" cy="3016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Text Box 28"/>
            <p:cNvSpPr/>
            <p:nvPr/>
          </p:nvSpPr>
          <p:spPr>
            <a:xfrm>
              <a:off x="6477120" y="5157720"/>
              <a:ext cx="234288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5000"/>
                </a:lnSpc>
                <a:spcBef>
                  <a:spcPts val="1749"/>
                </a:spcBef>
                <a:buClr>
                  <a:srgbClr val="0000bf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bf"/>
                  </a:solidFill>
                  <a:latin typeface="Angsana New"/>
                </a:rPr>
                <a:t> </a:t>
              </a:r>
              <a:r>
                <a:rPr b="1" lang="en-US" sz="2800" spc="-1" strike="noStrike">
                  <a:solidFill>
                    <a:srgbClr val="0000bf"/>
                  </a:solidFill>
                  <a:latin typeface="Angsana New"/>
                </a:rPr>
                <a:t>Case-control  stud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25000"/>
                </a:lnSpc>
                <a:spcBef>
                  <a:spcPts val="1749"/>
                </a:spcBef>
                <a:buClr>
                  <a:srgbClr val="0000bf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bf"/>
                  </a:solidFill>
                  <a:latin typeface="Angsana New"/>
                </a:rPr>
                <a:t> </a:t>
              </a:r>
              <a:r>
                <a:rPr b="1" lang="en-US" sz="2800" spc="-1" strike="noStrike">
                  <a:solidFill>
                    <a:srgbClr val="0000bf"/>
                  </a:solidFill>
                  <a:latin typeface="Angsana New"/>
                </a:rPr>
                <a:t>Cohort  stud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5" name="Group 53"/>
          <p:cNvGrpSpPr/>
          <p:nvPr/>
        </p:nvGrpSpPr>
        <p:grpSpPr>
          <a:xfrm>
            <a:off x="5486400" y="2943360"/>
            <a:ext cx="2979720" cy="1924920"/>
            <a:chOff x="5486400" y="2943360"/>
            <a:chExt cx="2979720" cy="1924920"/>
          </a:xfrm>
        </p:grpSpPr>
        <p:sp>
          <p:nvSpPr>
            <p:cNvPr id="676" name="Line 25"/>
            <p:cNvSpPr/>
            <p:nvPr/>
          </p:nvSpPr>
          <p:spPr>
            <a:xfrm flipV="1">
              <a:off x="5486400" y="3200400"/>
              <a:ext cx="83196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Line 26"/>
            <p:cNvSpPr/>
            <p:nvPr/>
          </p:nvSpPr>
          <p:spPr>
            <a:xfrm>
              <a:off x="5486400" y="3581280"/>
              <a:ext cx="831960" cy="685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8" name="Group 36"/>
            <p:cNvGrpSpPr/>
            <p:nvPr/>
          </p:nvGrpSpPr>
          <p:grpSpPr>
            <a:xfrm>
              <a:off x="5869080" y="2943360"/>
              <a:ext cx="2519280" cy="915840"/>
              <a:chOff x="5869080" y="2943360"/>
              <a:chExt cx="2519280" cy="915840"/>
            </a:xfrm>
          </p:grpSpPr>
          <p:sp>
            <p:nvSpPr>
              <p:cNvPr id="679" name="Oval 23"/>
              <p:cNvSpPr/>
              <p:nvPr/>
            </p:nvSpPr>
            <p:spPr>
              <a:xfrm>
                <a:off x="5869080" y="2943360"/>
                <a:ext cx="2514600" cy="671400"/>
              </a:xfrm>
              <a:prstGeom prst="ellipse">
                <a:avLst/>
              </a:prstGeom>
              <a:solidFill>
                <a:srgbClr val="ff0033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Text Box 29"/>
              <p:cNvSpPr/>
              <p:nvPr/>
            </p:nvSpPr>
            <p:spPr>
              <a:xfrm>
                <a:off x="6026400" y="3033720"/>
                <a:ext cx="2361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400" spc="-1" strike="noStrike">
                    <a:solidFill>
                      <a:srgbClr val="ffff00"/>
                    </a:solidFill>
                    <a:latin typeface="Angsana New"/>
                  </a:rPr>
                  <a:t>ระบาดวิทยาเชิงพรรณนา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Group 35"/>
            <p:cNvGrpSpPr/>
            <p:nvPr/>
          </p:nvGrpSpPr>
          <p:grpSpPr>
            <a:xfrm>
              <a:off x="5904000" y="3979800"/>
              <a:ext cx="2562120" cy="888480"/>
              <a:chOff x="5904000" y="3979800"/>
              <a:chExt cx="2562120" cy="888480"/>
            </a:xfrm>
          </p:grpSpPr>
          <p:sp>
            <p:nvSpPr>
              <p:cNvPr id="682" name="Oval 24"/>
              <p:cNvSpPr/>
              <p:nvPr/>
            </p:nvSpPr>
            <p:spPr>
              <a:xfrm>
                <a:off x="5904000" y="3979800"/>
                <a:ext cx="2514600" cy="671400"/>
              </a:xfrm>
              <a:prstGeom prst="ellipse">
                <a:avLst/>
              </a:prstGeom>
              <a:solidFill>
                <a:srgbClr val="ff0033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Text Box 34"/>
              <p:cNvSpPr/>
              <p:nvPr/>
            </p:nvSpPr>
            <p:spPr>
              <a:xfrm>
                <a:off x="6104160" y="4116240"/>
                <a:ext cx="23619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400" spc="-1" strike="noStrike">
                    <a:solidFill>
                      <a:srgbClr val="ffff00"/>
                    </a:solidFill>
                    <a:latin typeface="Angsana New"/>
                  </a:rPr>
                  <a:t>ระบาดวิทยาเชิงวิเคราะห์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4" name="Group 54"/>
          <p:cNvGrpSpPr/>
          <p:nvPr/>
        </p:nvGrpSpPr>
        <p:grpSpPr>
          <a:xfrm>
            <a:off x="659160" y="2495520"/>
            <a:ext cx="4917600" cy="3238560"/>
            <a:chOff x="659160" y="2495520"/>
            <a:chExt cx="4917600" cy="3238560"/>
          </a:xfrm>
        </p:grpSpPr>
        <p:sp>
          <p:nvSpPr>
            <p:cNvPr id="685" name="Text Box 17"/>
            <p:cNvSpPr/>
            <p:nvPr/>
          </p:nvSpPr>
          <p:spPr>
            <a:xfrm>
              <a:off x="1386000" y="3257280"/>
              <a:ext cx="191916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</a:rPr>
                <a:t>-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</a:rPr>
                <a:t>นิยามผู้ป่วย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Rectangle 19"/>
            <p:cNvSpPr/>
            <p:nvPr/>
          </p:nvSpPr>
          <p:spPr>
            <a:xfrm>
              <a:off x="711000" y="2557440"/>
              <a:ext cx="389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</a:rPr>
                <a:t>-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</a:rPr>
                <a:t>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</a:rPr>
                <a:t>รูปแบบที่ใช้ในการศึกษา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Rectangle 18"/>
            <p:cNvSpPr/>
            <p:nvPr/>
          </p:nvSpPr>
          <p:spPr>
            <a:xfrm>
              <a:off x="1236600" y="2495520"/>
              <a:ext cx="4192560" cy="6476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Rectangle 20"/>
            <p:cNvSpPr/>
            <p:nvPr/>
          </p:nvSpPr>
          <p:spPr>
            <a:xfrm>
              <a:off x="1236600" y="3143160"/>
              <a:ext cx="4192560" cy="6476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Rectangle 21"/>
            <p:cNvSpPr/>
            <p:nvPr/>
          </p:nvSpPr>
          <p:spPr>
            <a:xfrm>
              <a:off x="1236600" y="3790800"/>
              <a:ext cx="4192560" cy="6476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Rectangle 22"/>
            <p:cNvSpPr/>
            <p:nvPr/>
          </p:nvSpPr>
          <p:spPr>
            <a:xfrm>
              <a:off x="1236600" y="4438440"/>
              <a:ext cx="4192560" cy="6476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Text Box 39"/>
            <p:cNvSpPr/>
            <p:nvPr/>
          </p:nvSpPr>
          <p:spPr>
            <a:xfrm>
              <a:off x="659160" y="4519440"/>
              <a:ext cx="452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</a:rPr>
                <a:t>-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</a:rPr>
                <a:t>เครื่องมือที่ใช้ในการสอบสวน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Text Box 40"/>
            <p:cNvSpPr/>
            <p:nvPr/>
          </p:nvSpPr>
          <p:spPr>
            <a:xfrm>
              <a:off x="667800" y="5162400"/>
              <a:ext cx="461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</a:rPr>
                <a:t>-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</a:rPr>
                <a:t>สถิติที่ใช้ในการวิเคราะห์ข้อมูล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Rectangle 48"/>
            <p:cNvSpPr/>
            <p:nvPr/>
          </p:nvSpPr>
          <p:spPr>
            <a:xfrm>
              <a:off x="1233360" y="5086080"/>
              <a:ext cx="4189680" cy="648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Text Box 49"/>
            <p:cNvSpPr/>
            <p:nvPr/>
          </p:nvSpPr>
          <p:spPr>
            <a:xfrm>
              <a:off x="1382760" y="3881160"/>
              <a:ext cx="419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gsana New"/>
                </a:rPr>
                <a:t>-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</a:rPr>
                <a:t>ศึกษาทางห้องปฏิบัติการ  สิ่งแวดล้อม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5" name="Text Box 55"/>
          <p:cNvSpPr/>
          <p:nvPr/>
        </p:nvSpPr>
        <p:spPr>
          <a:xfrm>
            <a:off x="493560" y="276120"/>
            <a:ext cx="7925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งค์ประกอบและวิธีการเขียนรายงาน ฉบับสมบูรณ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313920" y="480600"/>
            <a:ext cx="882036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99ff33"/>
                </a:solidFill>
                <a:latin typeface="CordiaUPC"/>
                <a:ea typeface="CordiaUP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rdiaUPC"/>
                <a:ea typeface="CordiaUPC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CordiaUPC"/>
                <a:ea typeface="CordiaUPC"/>
              </a:rPr>
              <a:t>1. 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การศึกษาระบาดวิทยาเชิงพรรณน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99ff33"/>
                </a:solidFill>
                <a:latin typeface="CordiaUPC"/>
                <a:ea typeface="CordiaUPC"/>
              </a:rPr>
              <a:t>	</a:t>
            </a:r>
            <a:r>
              <a:rPr b="1" lang="th-TH" sz="2400" spc="-1" strike="noStrike">
                <a:solidFill>
                  <a:srgbClr val="0000bf"/>
                </a:solidFill>
                <a:latin typeface="CordiaUPC"/>
                <a:cs typeface="CordiaUPC"/>
              </a:rPr>
              <a:t>ข้อมูลผู้ป่วยได้จาก   </a:t>
            </a:r>
            <a:r>
              <a:rPr b="1" lang="th-TH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- </a:t>
            </a:r>
            <a:r>
              <a:rPr b="1" lang="th-TH" sz="2400" spc="-1" strike="noStrike">
                <a:solidFill>
                  <a:srgbClr val="0000bf"/>
                </a:solidFill>
                <a:latin typeface="CordiaUPC"/>
                <a:cs typeface="CordiaUPC"/>
              </a:rPr>
              <a:t>ทบทวน </a:t>
            </a:r>
            <a:r>
              <a:rPr b="1" lang="th-TH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/ </a:t>
            </a:r>
            <a:r>
              <a:rPr b="1" lang="th-TH" sz="2400" spc="-1" strike="noStrike">
                <a:solidFill>
                  <a:srgbClr val="0000bf"/>
                </a:solidFill>
                <a:latin typeface="CordiaUPC"/>
                <a:cs typeface="CordiaUPC"/>
              </a:rPr>
              <a:t>รวบรวม 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…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.</a:t>
            </a:r>
            <a:r>
              <a:rPr b="1" lang="th-TH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 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(passive case find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	</a:t>
            </a:r>
            <a:r>
              <a:rPr b="1" lang="th-TH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	</a:t>
            </a:r>
            <a:r>
              <a:rPr b="1" lang="th-TH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	</a:t>
            </a:r>
            <a:r>
              <a:rPr b="1" lang="th-TH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               </a:t>
            </a:r>
            <a:r>
              <a:rPr b="1" lang="th-TH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- </a:t>
            </a:r>
            <a:r>
              <a:rPr b="1" lang="th-TH" sz="2400" spc="-1" strike="noStrike">
                <a:solidFill>
                  <a:srgbClr val="0000bf"/>
                </a:solidFill>
                <a:latin typeface="CordiaUPC"/>
                <a:cs typeface="CordiaUPC"/>
              </a:rPr>
              <a:t>ค้นหาผู้ป่วย </a:t>
            </a:r>
            <a:r>
              <a:rPr b="1" lang="th-TH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(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active case finding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	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	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	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	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   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- </a:t>
            </a:r>
            <a:r>
              <a:rPr b="1" lang="th-TH" sz="2400" spc="-1" strike="noStrike">
                <a:solidFill>
                  <a:srgbClr val="0000bf"/>
                </a:solidFill>
                <a:latin typeface="CordiaUPC"/>
                <a:cs typeface="CordiaUPC"/>
              </a:rPr>
              <a:t>นิยามที่ใช้ในการค้นหาผู้ป่วย</a:t>
            </a:r>
            <a:r>
              <a:rPr b="1" lang="th-TH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/</a:t>
            </a:r>
            <a:r>
              <a:rPr b="1" lang="th-TH" sz="2400" spc="-1" strike="noStrike">
                <a:solidFill>
                  <a:srgbClr val="0000bf"/>
                </a:solidFill>
                <a:latin typeface="CordiaUPC"/>
                <a:cs typeface="CordiaUPC"/>
              </a:rPr>
              <a:t>ผู้สัมผั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	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	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	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               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- </a:t>
            </a:r>
            <a:r>
              <a:rPr b="1" lang="th-TH" sz="2400" spc="-1" strike="noStrike">
                <a:solidFill>
                  <a:srgbClr val="0000bf"/>
                </a:solidFill>
                <a:latin typeface="CordiaUPC"/>
                <a:cs typeface="CordiaUPC"/>
              </a:rPr>
              <a:t>วินิจฉัยผู้ป่วยจากอะไร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:- </a:t>
            </a:r>
            <a:r>
              <a:rPr b="0" lang="th-TH" sz="2400" spc="-1" strike="noStrike">
                <a:solidFill>
                  <a:srgbClr val="0000bf"/>
                </a:solidFill>
                <a:latin typeface="CordiaUPC"/>
                <a:cs typeface="CordiaUPC"/>
              </a:rPr>
              <a:t>อาการ อาการแสดง ผล</a:t>
            </a:r>
            <a:r>
              <a:rPr b="0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Lab </a:t>
            </a:r>
            <a:r>
              <a:rPr b="0" lang="th-TH" sz="2400" spc="-1" strike="noStrike">
                <a:solidFill>
                  <a:srgbClr val="0000bf"/>
                </a:solidFill>
                <a:latin typeface="CordiaUPC"/>
                <a:cs typeface="CordiaUPC"/>
              </a:rPr>
              <a:t>อะไรบ้า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rdiaUPC"/>
                <a:ea typeface="CordiaUPC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CordiaUPC"/>
                <a:ea typeface="CordiaUPC"/>
              </a:rPr>
              <a:t>2. 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การศึกษาระบาดวิทยาเชิงวิเคราะห์ 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ถ้ามี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66"/>
                </a:solidFill>
                <a:latin typeface="CordiaUPC"/>
                <a:ea typeface="CordiaUPC"/>
              </a:rPr>
              <a:t>	</a:t>
            </a:r>
            <a:r>
              <a:rPr b="1" lang="th-TH" sz="2400" spc="-1" strike="noStrike">
                <a:solidFill>
                  <a:srgbClr val="0000bf"/>
                </a:solidFill>
                <a:latin typeface="CordiaUPC"/>
                <a:cs typeface="CordiaUPC"/>
              </a:rPr>
              <a:t>รูปแบบการศึกษาใช้ 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 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case-control study  </a:t>
            </a:r>
            <a:r>
              <a:rPr b="1" lang="th-TH" sz="2400" spc="-1" strike="noStrike">
                <a:solidFill>
                  <a:srgbClr val="0000bf"/>
                </a:solidFill>
                <a:latin typeface="CordiaUPC"/>
                <a:cs typeface="CordiaUPC"/>
              </a:rPr>
              <a:t>หรือ 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 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cohort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	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	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	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	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   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- </a:t>
            </a:r>
            <a:r>
              <a:rPr b="1" lang="th-TH" sz="2400" spc="-1" strike="noStrike">
                <a:solidFill>
                  <a:srgbClr val="0000bf"/>
                </a:solidFill>
                <a:latin typeface="CordiaUPC"/>
                <a:cs typeface="CordiaUPC"/>
              </a:rPr>
              <a:t>นิยาม 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case /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	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	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	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	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   </a:t>
            </a:r>
            <a:r>
              <a:rPr b="1" lang="en-US" sz="2400" spc="-1" strike="noStrike">
                <a:solidFill>
                  <a:srgbClr val="0000bf"/>
                </a:solidFill>
                <a:latin typeface="CordiaUPC"/>
                <a:ea typeface="CordiaUPC"/>
              </a:rPr>
              <a:t>- </a:t>
            </a:r>
            <a:r>
              <a:rPr b="1" lang="th-TH" sz="2400" spc="-1" strike="noStrike">
                <a:solidFill>
                  <a:srgbClr val="0000bf"/>
                </a:solidFill>
                <a:latin typeface="CordiaUPC"/>
                <a:cs typeface="CordiaUPC"/>
              </a:rPr>
              <a:t>เครื่องมือ เช่น แบบสอบถาม ถามอะไ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ordiaUPC"/>
                <a:ea typeface="CordiaUPC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CordiaUPC"/>
                <a:ea typeface="CordiaUPC"/>
              </a:rPr>
              <a:t>3. 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การศึกษาสิ่งแวดล้อม 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(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ถ้ามี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)</a:t>
            </a:r>
            <a:r>
              <a:rPr b="1" lang="th-TH" sz="2400" spc="-1" strike="noStrike">
                <a:solidFill>
                  <a:srgbClr val="000000"/>
                </a:solidFill>
                <a:latin typeface="CordiaUPC"/>
                <a:ea typeface="CordiaUP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CordiaUPC"/>
                <a:ea typeface="CordiaUPC"/>
              </a:rPr>
              <a:t>       </a:t>
            </a:r>
            <a:r>
              <a:rPr b="0" lang="th-TH" sz="2400" spc="-1" strike="noStrike">
                <a:solidFill>
                  <a:srgbClr val="0000bf"/>
                </a:solidFill>
                <a:latin typeface="CordiaUPC"/>
                <a:cs typeface="CordiaUPC"/>
              </a:rPr>
              <a:t>สำรวจสภาพแวดล้อม และเก็บตัวอย่างจากสิ่งแวดล้อม ส่งตรวจทางห้องปฏิบัติกา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66"/>
                </a:solidFill>
                <a:latin typeface="CordiaUPC"/>
                <a:ea typeface="CordiaUPC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CordiaUPC"/>
                <a:ea typeface="CordiaUPC"/>
              </a:rPr>
              <a:t>4. 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สถิติที่ใช้วิเคราะห์ข้อมู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99ff33"/>
                </a:solidFill>
                <a:latin typeface="CordiaUPC"/>
                <a:ea typeface="CordiaUPC"/>
              </a:rPr>
              <a:t>	</a:t>
            </a:r>
            <a:r>
              <a:rPr b="1" lang="th-TH" sz="2400" spc="-1" strike="noStrike">
                <a:solidFill>
                  <a:srgbClr val="99ff33"/>
                </a:solidFill>
                <a:latin typeface="CordiaUPC"/>
                <a:ea typeface="CordiaUPC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CordiaUPC"/>
                <a:cs typeface="CordiaUPC"/>
              </a:rPr>
              <a:t>เชิงพรรณนา  และเชิงวิเคราะห์ </a:t>
            </a:r>
            <a:r>
              <a:rPr b="1" lang="th-TH" sz="2400" spc="-1" strike="noStrike">
                <a:solidFill>
                  <a:srgbClr val="ffffff"/>
                </a:solidFill>
                <a:latin typeface="CordiaUPC"/>
                <a:ea typeface="CordiaUPC"/>
              </a:rPr>
              <a:t>(</a:t>
            </a:r>
            <a:r>
              <a:rPr b="1" lang="th-TH" sz="2400" spc="-1" strike="noStrike">
                <a:solidFill>
                  <a:srgbClr val="ffffff"/>
                </a:solidFill>
                <a:latin typeface="CordiaUPC"/>
                <a:cs typeface="CordiaUPC"/>
              </a:rPr>
              <a:t>ถ้ามี</a:t>
            </a:r>
            <a:r>
              <a:rPr b="1" lang="th-TH" sz="2400" spc="-1" strike="noStrike">
                <a:solidFill>
                  <a:srgbClr val="ffffff"/>
                </a:solidFill>
                <a:latin typeface="CordiaUPC"/>
                <a:ea typeface="CordiaUPC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7" name="Group 3"/>
          <p:cNvGrpSpPr/>
          <p:nvPr/>
        </p:nvGrpSpPr>
        <p:grpSpPr>
          <a:xfrm>
            <a:off x="940680" y="76320"/>
            <a:ext cx="7427520" cy="761400"/>
            <a:chOff x="940680" y="76320"/>
            <a:chExt cx="7427520" cy="761400"/>
          </a:xfrm>
        </p:grpSpPr>
        <p:sp>
          <p:nvSpPr>
            <p:cNvPr id="698" name="Rectangle 4"/>
            <p:cNvSpPr/>
            <p:nvPr/>
          </p:nvSpPr>
          <p:spPr>
            <a:xfrm>
              <a:off x="2057040" y="152280"/>
              <a:ext cx="5334120" cy="68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Rectangle 5"/>
            <p:cNvSpPr/>
            <p:nvPr/>
          </p:nvSpPr>
          <p:spPr>
            <a:xfrm>
              <a:off x="1981080" y="76320"/>
              <a:ext cx="5333760" cy="68544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Rectangle 6"/>
            <p:cNvSpPr/>
            <p:nvPr/>
          </p:nvSpPr>
          <p:spPr>
            <a:xfrm>
              <a:off x="940680" y="76320"/>
              <a:ext cx="7427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000" spc="-1" strike="noStrike">
                  <a:solidFill>
                    <a:srgbClr val="ffffff"/>
                  </a:solidFill>
                  <a:latin typeface="Times New Roman"/>
                </a:rPr>
                <a:t>วิธีการศึกษาที่ใช้ในการสอบสวนโรค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Group 31"/>
          <p:cNvGrpSpPr/>
          <p:nvPr/>
        </p:nvGrpSpPr>
        <p:grpSpPr>
          <a:xfrm>
            <a:off x="2895480" y="932040"/>
            <a:ext cx="3353040" cy="914400"/>
            <a:chOff x="2895480" y="932040"/>
            <a:chExt cx="3353040" cy="914400"/>
          </a:xfrm>
        </p:grpSpPr>
        <p:sp>
          <p:nvSpPr>
            <p:cNvPr id="702" name="AutoShape 3"/>
            <p:cNvSpPr/>
            <p:nvPr/>
          </p:nvSpPr>
          <p:spPr>
            <a:xfrm>
              <a:off x="2895480" y="932040"/>
              <a:ext cx="3353040" cy="914400"/>
            </a:xfrm>
            <a:custGeom>
              <a:avLst/>
              <a:gdLst>
                <a:gd name="textAreaLeft" fmla="*/ 765360 w 3353040"/>
                <a:gd name="textAreaRight" fmla="*/ 2587680 w 335304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000" spc="-1" strike="noStrike">
                  <a:solidFill>
                    <a:srgbClr val="ffffff"/>
                  </a:solidFill>
                  <a:latin typeface="Times New Roman"/>
                </a:rPr>
                <a:t>ผลการศึกษา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Text Box 4"/>
            <p:cNvSpPr/>
            <p:nvPr/>
          </p:nvSpPr>
          <p:spPr>
            <a:xfrm>
              <a:off x="3352680" y="1008360"/>
              <a:ext cx="2514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4" name="Text Box 8"/>
          <p:cNvSpPr/>
          <p:nvPr/>
        </p:nvSpPr>
        <p:spPr>
          <a:xfrm>
            <a:off x="647640" y="2500200"/>
            <a:ext cx="1905120" cy="94716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ngsana New"/>
              </a:rPr>
              <a:t>ยืนยันการเกิดโร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Text Box 10"/>
          <p:cNvSpPr/>
          <p:nvPr/>
        </p:nvSpPr>
        <p:spPr>
          <a:xfrm>
            <a:off x="6915240" y="3070080"/>
            <a:ext cx="1904760" cy="5205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</a:rPr>
              <a:t>ข้อมูลทั่วไ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6" name="Group 28"/>
          <p:cNvGrpSpPr/>
          <p:nvPr/>
        </p:nvGrpSpPr>
        <p:grpSpPr>
          <a:xfrm>
            <a:off x="1371600" y="1871640"/>
            <a:ext cx="6858000" cy="1143000"/>
            <a:chOff x="1371600" y="1871640"/>
            <a:chExt cx="6858000" cy="1143000"/>
          </a:xfrm>
        </p:grpSpPr>
        <p:sp>
          <p:nvSpPr>
            <p:cNvPr id="707" name="Line 7"/>
            <p:cNvSpPr/>
            <p:nvPr/>
          </p:nvSpPr>
          <p:spPr>
            <a:xfrm>
              <a:off x="8001000" y="2100240"/>
              <a:ext cx="0" cy="914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8" name="Group 27"/>
            <p:cNvGrpSpPr/>
            <p:nvPr/>
          </p:nvGrpSpPr>
          <p:grpSpPr>
            <a:xfrm>
              <a:off x="1371600" y="1871640"/>
              <a:ext cx="6858000" cy="838440"/>
              <a:chOff x="1371600" y="1871640"/>
              <a:chExt cx="6858000" cy="838440"/>
            </a:xfrm>
          </p:grpSpPr>
          <p:sp>
            <p:nvSpPr>
              <p:cNvPr id="709" name="Line 5"/>
              <p:cNvSpPr/>
              <p:nvPr/>
            </p:nvSpPr>
            <p:spPr>
              <a:xfrm>
                <a:off x="1523880" y="2119320"/>
                <a:ext cx="64771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Line 6"/>
              <p:cNvSpPr/>
              <p:nvPr/>
            </p:nvSpPr>
            <p:spPr>
              <a:xfrm>
                <a:off x="1600200" y="217656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Line 11"/>
              <p:cNvSpPr/>
              <p:nvPr/>
            </p:nvSpPr>
            <p:spPr>
              <a:xfrm>
                <a:off x="4572000" y="1871640"/>
                <a:ext cx="0" cy="838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Rectangle 15"/>
              <p:cNvSpPr/>
              <p:nvPr/>
            </p:nvSpPr>
            <p:spPr>
              <a:xfrm>
                <a:off x="1371600" y="1947960"/>
                <a:ext cx="457200" cy="304920"/>
              </a:xfrm>
              <a:prstGeom prst="rect">
                <a:avLst/>
              </a:prstGeom>
              <a:solidFill>
                <a:srgbClr val="ff00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Text Box 16"/>
              <p:cNvSpPr/>
              <p:nvPr/>
            </p:nvSpPr>
            <p:spPr>
              <a:xfrm>
                <a:off x="1486080" y="18716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ngsana New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Rectangle 17"/>
              <p:cNvSpPr/>
              <p:nvPr/>
            </p:nvSpPr>
            <p:spPr>
              <a:xfrm>
                <a:off x="4343400" y="1947960"/>
                <a:ext cx="457200" cy="30492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Rectangle 18"/>
              <p:cNvSpPr/>
              <p:nvPr/>
            </p:nvSpPr>
            <p:spPr>
              <a:xfrm>
                <a:off x="7772400" y="1947960"/>
                <a:ext cx="457200" cy="30492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Text Box 19"/>
              <p:cNvSpPr/>
              <p:nvPr/>
            </p:nvSpPr>
            <p:spPr>
              <a:xfrm>
                <a:off x="7867800" y="187164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33"/>
                    </a:solidFill>
                    <a:latin typeface="Angsana New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Text Box 20"/>
              <p:cNvSpPr/>
              <p:nvPr/>
            </p:nvSpPr>
            <p:spPr>
              <a:xfrm>
                <a:off x="4419720" y="187164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33"/>
                    </a:solidFill>
                    <a:latin typeface="Angsana New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8" name="Text Box 14"/>
          <p:cNvSpPr/>
          <p:nvPr/>
        </p:nvSpPr>
        <p:spPr>
          <a:xfrm>
            <a:off x="2552760" y="3666960"/>
            <a:ext cx="4800600" cy="3361680"/>
          </a:xfrm>
          <a:prstGeom prst="rect">
            <a:avLst/>
          </a:prstGeom>
          <a:solidFill>
            <a:srgbClr val="ff0033"/>
          </a:solidFill>
          <a:ln w="38160">
            <a:solidFill>
              <a:srgbClr val="ffcc99"/>
            </a:solidFill>
            <a:miter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แสดงข้อมูลให้เห็นว่ามีการเกิดโรคจริง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อาการ และอาการแสดงของผู้ป่ว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ผลการวินิจฉัยของแพทย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ผลการตรวจทางห้องปฏิบัติกา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9" name="Group 29"/>
          <p:cNvGrpSpPr/>
          <p:nvPr/>
        </p:nvGrpSpPr>
        <p:grpSpPr>
          <a:xfrm>
            <a:off x="1523880" y="3068280"/>
            <a:ext cx="990720" cy="2476440"/>
            <a:chOff x="1523880" y="3068280"/>
            <a:chExt cx="990720" cy="2476440"/>
          </a:xfrm>
        </p:grpSpPr>
        <p:sp>
          <p:nvSpPr>
            <p:cNvPr id="720" name="AutoShape 23"/>
            <p:cNvSpPr/>
            <p:nvPr/>
          </p:nvSpPr>
          <p:spPr>
            <a:xfrm rot="16200000">
              <a:off x="861120" y="3891240"/>
              <a:ext cx="2316240" cy="990720"/>
            </a:xfrm>
            <a:custGeom>
              <a:avLst/>
              <a:gdLst>
                <a:gd name="textAreaLeft" fmla="*/ 1332720 w 2316240"/>
                <a:gd name="textAreaRight" fmla="*/ 1955160 w 2316240"/>
                <a:gd name="textAreaTop" fmla="*/ 133200 h 990720"/>
                <a:gd name="textAreaBottom" fmla="*/ 42372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AutoShape 24"/>
            <p:cNvSpPr/>
            <p:nvPr/>
          </p:nvSpPr>
          <p:spPr>
            <a:xfrm rot="16200000">
              <a:off x="860760" y="3731040"/>
              <a:ext cx="2316600" cy="990720"/>
            </a:xfrm>
            <a:custGeom>
              <a:avLst/>
              <a:gdLst>
                <a:gd name="textAreaLeft" fmla="*/ 1333080 w 2316600"/>
                <a:gd name="textAreaRight" fmla="*/ 1955520 w 2316600"/>
                <a:gd name="textAreaTop" fmla="*/ 133200 h 990720"/>
                <a:gd name="textAreaBottom" fmla="*/ 42372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2" name="Text Box 36"/>
          <p:cNvSpPr/>
          <p:nvPr/>
        </p:nvSpPr>
        <p:spPr>
          <a:xfrm>
            <a:off x="3619440" y="2803680"/>
            <a:ext cx="1905120" cy="9471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</a:rPr>
              <a:t>ยืนยันการระบา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Text Box 37"/>
          <p:cNvSpPr/>
          <p:nvPr/>
        </p:nvSpPr>
        <p:spPr>
          <a:xfrm>
            <a:off x="490680" y="1440"/>
            <a:ext cx="79246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งค์ประกอบและวิธีการเขียนรายงาน ฉบับสมบูรณ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AutoShape 24"/>
          <p:cNvSpPr/>
          <p:nvPr/>
        </p:nvSpPr>
        <p:spPr>
          <a:xfrm>
            <a:off x="4043520" y="3281400"/>
            <a:ext cx="609480" cy="762120"/>
          </a:xfrm>
          <a:prstGeom prst="upArrow">
            <a:avLst>
              <a:gd name="adj1" fmla="val 50000"/>
              <a:gd name="adj2" fmla="val 3126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AutoShape 23"/>
          <p:cNvSpPr/>
          <p:nvPr/>
        </p:nvSpPr>
        <p:spPr>
          <a:xfrm>
            <a:off x="3981600" y="3281400"/>
            <a:ext cx="609480" cy="762120"/>
          </a:xfrm>
          <a:prstGeom prst="upArrow">
            <a:avLst>
              <a:gd name="adj1" fmla="val 50000"/>
              <a:gd name="adj2" fmla="val 31261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Line 5"/>
          <p:cNvSpPr/>
          <p:nvPr/>
        </p:nvSpPr>
        <p:spPr>
          <a:xfrm>
            <a:off x="1143000" y="1981080"/>
            <a:ext cx="647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Line 6"/>
          <p:cNvSpPr/>
          <p:nvPr/>
        </p:nvSpPr>
        <p:spPr>
          <a:xfrm>
            <a:off x="1152360" y="233352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620120" y="196704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8"/>
          <p:cNvSpPr/>
          <p:nvPr/>
        </p:nvSpPr>
        <p:spPr>
          <a:xfrm>
            <a:off x="723960" y="3079800"/>
            <a:ext cx="1905120" cy="94716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</a:rPr>
              <a:t>ยืนยันการเกิดโร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3371760" y="2687760"/>
            <a:ext cx="1905120" cy="94716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ngsana New"/>
              </a:rPr>
              <a:t>ยืนยันการระบา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6607080" y="2954160"/>
            <a:ext cx="1905120" cy="5205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</a:rPr>
              <a:t>ข้อมูลทั่วไ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Line 11"/>
          <p:cNvSpPr/>
          <p:nvPr/>
        </p:nvSpPr>
        <p:spPr>
          <a:xfrm>
            <a:off x="4267080" y="1828800"/>
            <a:ext cx="0" cy="838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Rectangle 15"/>
          <p:cNvSpPr/>
          <p:nvPr/>
        </p:nvSpPr>
        <p:spPr>
          <a:xfrm>
            <a:off x="914400" y="2028960"/>
            <a:ext cx="45720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Text Box 16"/>
          <p:cNvSpPr/>
          <p:nvPr/>
        </p:nvSpPr>
        <p:spPr>
          <a:xfrm>
            <a:off x="1028880" y="1979640"/>
            <a:ext cx="3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ngsana New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17"/>
          <p:cNvSpPr/>
          <p:nvPr/>
        </p:nvSpPr>
        <p:spPr>
          <a:xfrm>
            <a:off x="4038480" y="2119320"/>
            <a:ext cx="457200" cy="30492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18"/>
          <p:cNvSpPr/>
          <p:nvPr/>
        </p:nvSpPr>
        <p:spPr>
          <a:xfrm>
            <a:off x="7331040" y="2065320"/>
            <a:ext cx="45720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Text Box 20"/>
          <p:cNvSpPr/>
          <p:nvPr/>
        </p:nvSpPr>
        <p:spPr>
          <a:xfrm>
            <a:off x="4149720" y="2044800"/>
            <a:ext cx="3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22"/>
          <p:cNvSpPr/>
          <p:nvPr/>
        </p:nvSpPr>
        <p:spPr>
          <a:xfrm>
            <a:off x="723960" y="4062240"/>
            <a:ext cx="7810560" cy="2849400"/>
          </a:xfrm>
          <a:prstGeom prst="rect">
            <a:avLst/>
          </a:prstGeom>
          <a:solidFill>
            <a:srgbClr val="ff0033"/>
          </a:solidFill>
          <a:ln w="38160">
            <a:solidFill>
              <a:srgbClr val="ffcc99"/>
            </a:solidFill>
            <a:miter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แสดงข้อมูลให้เห็นว่ามีการระบาดเกิดขึ้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กรณี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outbreak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แสดงจำนวนผู้ป่วยทั้งหมด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กรณี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epidemic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แสดงข้อมูลเปรียบเทียบจำนวนผู้ป่วยที่พบกับ         ค่า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</a:rPr>
              <a:t>median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หรือจำนวนผู้ป่วยในช่วงเวลาเดียวกันในปีที่ผ่านม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แสดงให้เห็นชัดถึงพื้นที่ที่มีการระบาด เช่น อัตราป่วยรายพื้นที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26"/>
          <p:cNvSpPr/>
          <p:nvPr/>
        </p:nvSpPr>
        <p:spPr>
          <a:xfrm>
            <a:off x="7408800" y="2022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ngsana New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0" name="Group 31"/>
          <p:cNvGrpSpPr/>
          <p:nvPr/>
        </p:nvGrpSpPr>
        <p:grpSpPr>
          <a:xfrm>
            <a:off x="2610000" y="896760"/>
            <a:ext cx="3352680" cy="914400"/>
            <a:chOff x="2610000" y="896760"/>
            <a:chExt cx="3352680" cy="914400"/>
          </a:xfrm>
        </p:grpSpPr>
        <p:sp>
          <p:nvSpPr>
            <p:cNvPr id="741" name="AutoShape 32"/>
            <p:cNvSpPr/>
            <p:nvPr/>
          </p:nvSpPr>
          <p:spPr>
            <a:xfrm>
              <a:off x="2610000" y="896760"/>
              <a:ext cx="3352680" cy="914400"/>
            </a:xfrm>
            <a:custGeom>
              <a:avLst/>
              <a:gdLst>
                <a:gd name="textAreaLeft" fmla="*/ 765360 w 3352680"/>
                <a:gd name="textAreaRight" fmla="*/ 2587320 w 335268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000" spc="-1" strike="noStrike">
                  <a:solidFill>
                    <a:srgbClr val="ffffff"/>
                  </a:solidFill>
                  <a:latin typeface="Times New Roman"/>
                </a:rPr>
                <a:t>ผลการศึกษา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Text Box 33"/>
            <p:cNvSpPr/>
            <p:nvPr/>
          </p:nvSpPr>
          <p:spPr>
            <a:xfrm>
              <a:off x="3066840" y="973080"/>
              <a:ext cx="2514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3" name="Text Box 37"/>
          <p:cNvSpPr/>
          <p:nvPr/>
        </p:nvSpPr>
        <p:spPr>
          <a:xfrm>
            <a:off x="609480" y="87480"/>
            <a:ext cx="7925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งค์ประกอบและวิธีการเขียนรายงาน ฉบับสมบูรณ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3"/>
          <p:cNvSpPr/>
          <p:nvPr/>
        </p:nvSpPr>
        <p:spPr>
          <a:xfrm>
            <a:off x="509760" y="192240"/>
            <a:ext cx="8001000" cy="761760"/>
          </a:xfrm>
          <a:prstGeom prst="rect">
            <a:avLst/>
          </a:prstGeom>
          <a:solidFill>
            <a:srgbClr val="7030a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GOLDEN RULE OF REPORT WR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1" name="Group 70"/>
          <p:cNvGrpSpPr/>
          <p:nvPr/>
        </p:nvGrpSpPr>
        <p:grpSpPr>
          <a:xfrm>
            <a:off x="357120" y="1019160"/>
            <a:ext cx="8305560" cy="6295320"/>
            <a:chOff x="357120" y="1019160"/>
            <a:chExt cx="8305560" cy="6295320"/>
          </a:xfrm>
        </p:grpSpPr>
        <p:sp>
          <p:nvSpPr>
            <p:cNvPr id="552" name="AutoShape 5"/>
            <p:cNvSpPr/>
            <p:nvPr/>
          </p:nvSpPr>
          <p:spPr>
            <a:xfrm>
              <a:off x="357120" y="1476360"/>
              <a:ext cx="8305560" cy="51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3" name="Group 44"/>
            <p:cNvGrpSpPr/>
            <p:nvPr/>
          </p:nvGrpSpPr>
          <p:grpSpPr>
            <a:xfrm>
              <a:off x="3024000" y="1019160"/>
              <a:ext cx="3200400" cy="1795320"/>
              <a:chOff x="3024000" y="1019160"/>
              <a:chExt cx="3200400" cy="1795320"/>
            </a:xfrm>
          </p:grpSpPr>
          <p:sp>
            <p:nvSpPr>
              <p:cNvPr id="554" name="_s2107"/>
              <p:cNvSpPr/>
              <p:nvPr/>
            </p:nvSpPr>
            <p:spPr>
              <a:xfrm>
                <a:off x="3570120" y="1603080"/>
                <a:ext cx="1968480" cy="1211400"/>
              </a:xfrm>
              <a:prstGeom prst="ellipse">
                <a:avLst/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54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5120" rIns="105120" tIns="52560" bIns="52560" anchor="ctr">
                <a:noAutofit/>
              </a:bodyPr>
              <a:p>
                <a:pPr marL="343080" indent="-343080"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1. CONCIS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Text Box 26"/>
              <p:cNvSpPr/>
              <p:nvPr/>
            </p:nvSpPr>
            <p:spPr>
              <a:xfrm>
                <a:off x="3024000" y="1019160"/>
                <a:ext cx="3200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</a:rPr>
                  <a:t>กระชับ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69"/>
            <p:cNvGrpSpPr/>
            <p:nvPr/>
          </p:nvGrpSpPr>
          <p:grpSpPr>
            <a:xfrm>
              <a:off x="965160" y="4333680"/>
              <a:ext cx="1968480" cy="2199600"/>
              <a:chOff x="965160" y="4333680"/>
              <a:chExt cx="1968480" cy="2199600"/>
            </a:xfrm>
          </p:grpSpPr>
          <p:sp>
            <p:nvSpPr>
              <p:cNvPr id="557" name="_s2111"/>
              <p:cNvSpPr/>
              <p:nvPr/>
            </p:nvSpPr>
            <p:spPr>
              <a:xfrm>
                <a:off x="965160" y="4333680"/>
                <a:ext cx="1968480" cy="12114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54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5120" rIns="105120" tIns="52560" bIns="52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. PRESENTABL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Text Box 27"/>
              <p:cNvSpPr/>
              <p:nvPr/>
            </p:nvSpPr>
            <p:spPr>
              <a:xfrm>
                <a:off x="1195200" y="5586120"/>
                <a:ext cx="15238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</a:rPr>
                  <a:t>นำเสนอได้ชัดเจน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41"/>
            <p:cNvGrpSpPr/>
            <p:nvPr/>
          </p:nvGrpSpPr>
          <p:grpSpPr>
            <a:xfrm>
              <a:off x="965160" y="2085840"/>
              <a:ext cx="1968480" cy="1639800"/>
              <a:chOff x="965160" y="2085840"/>
              <a:chExt cx="1968480" cy="1639800"/>
            </a:xfrm>
          </p:grpSpPr>
          <p:sp>
            <p:nvSpPr>
              <p:cNvPr id="560" name="_s2117"/>
              <p:cNvSpPr/>
              <p:nvPr/>
            </p:nvSpPr>
            <p:spPr>
              <a:xfrm>
                <a:off x="965160" y="2514600"/>
                <a:ext cx="1968480" cy="1211040"/>
              </a:xfrm>
              <a:prstGeom prst="ellipse">
                <a:avLst/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54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5120" rIns="105120" tIns="52560" bIns="52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6. INTERESTING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Text Box 28"/>
              <p:cNvSpPr/>
              <p:nvPr/>
            </p:nvSpPr>
            <p:spPr>
              <a:xfrm>
                <a:off x="1118880" y="2085840"/>
                <a:ext cx="1524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ngsana New"/>
                  </a:rPr>
                  <a:t>น่าสนใจ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Group 66"/>
            <p:cNvGrpSpPr/>
            <p:nvPr/>
          </p:nvGrpSpPr>
          <p:grpSpPr>
            <a:xfrm>
              <a:off x="6136920" y="2009520"/>
              <a:ext cx="1968840" cy="1716120"/>
              <a:chOff x="6136920" y="2009520"/>
              <a:chExt cx="1968840" cy="1716120"/>
            </a:xfrm>
          </p:grpSpPr>
          <p:sp>
            <p:nvSpPr>
              <p:cNvPr id="563" name="_s2105"/>
              <p:cNvSpPr/>
              <p:nvPr/>
            </p:nvSpPr>
            <p:spPr>
              <a:xfrm>
                <a:off x="6136920" y="2514600"/>
                <a:ext cx="1968840" cy="1211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d600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54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5120" rIns="105120" tIns="52560" bIns="5256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2. CLE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Text Box 29"/>
              <p:cNvSpPr/>
              <p:nvPr/>
            </p:nvSpPr>
            <p:spPr>
              <a:xfrm>
                <a:off x="6362640" y="2009520"/>
                <a:ext cx="1523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ngsana New"/>
                  </a:rPr>
                  <a:t>ชัดเจน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Group 67"/>
            <p:cNvGrpSpPr/>
            <p:nvPr/>
          </p:nvGrpSpPr>
          <p:grpSpPr>
            <a:xfrm>
              <a:off x="6086160" y="4333680"/>
              <a:ext cx="1968480" cy="2271240"/>
              <a:chOff x="6086160" y="4333680"/>
              <a:chExt cx="1968480" cy="2271240"/>
            </a:xfrm>
          </p:grpSpPr>
          <p:sp>
            <p:nvSpPr>
              <p:cNvPr id="566" name="_s2115"/>
              <p:cNvSpPr/>
              <p:nvPr/>
            </p:nvSpPr>
            <p:spPr>
              <a:xfrm>
                <a:off x="6086160" y="4333680"/>
                <a:ext cx="1968480" cy="12114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54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5120" rIns="105120" tIns="52560" bIns="52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. ACCEPTABL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Text Box 30"/>
              <p:cNvSpPr/>
              <p:nvPr/>
            </p:nvSpPr>
            <p:spPr>
              <a:xfrm>
                <a:off x="6338880" y="5657760"/>
                <a:ext cx="15238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ngsana New"/>
                  </a:rPr>
                  <a:t>เป็นที่ยอมรับ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8" name="Line 55"/>
            <p:cNvSpPr/>
            <p:nvPr/>
          </p:nvSpPr>
          <p:spPr>
            <a:xfrm>
              <a:off x="4547880" y="2797200"/>
              <a:ext cx="0" cy="609480"/>
            </a:xfrm>
            <a:prstGeom prst="line">
              <a:avLst/>
            </a:prstGeom>
            <a:ln cap="sq" w="28440">
              <a:solidFill>
                <a:srgbClr val="0000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Line 56"/>
            <p:cNvSpPr/>
            <p:nvPr/>
          </p:nvSpPr>
          <p:spPr>
            <a:xfrm>
              <a:off x="4547880" y="4651200"/>
              <a:ext cx="0" cy="609480"/>
            </a:xfrm>
            <a:prstGeom prst="line">
              <a:avLst/>
            </a:prstGeom>
            <a:ln cap="sq" w="28440">
              <a:solidFill>
                <a:srgbClr val="0000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Line 57"/>
            <p:cNvSpPr/>
            <p:nvPr/>
          </p:nvSpPr>
          <p:spPr>
            <a:xfrm flipH="1">
              <a:off x="2871720" y="4371840"/>
              <a:ext cx="838080" cy="380880"/>
            </a:xfrm>
            <a:prstGeom prst="line">
              <a:avLst/>
            </a:prstGeom>
            <a:ln cap="sq" w="28440">
              <a:solidFill>
                <a:srgbClr val="0000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Line 58"/>
            <p:cNvSpPr/>
            <p:nvPr/>
          </p:nvSpPr>
          <p:spPr>
            <a:xfrm flipH="1">
              <a:off x="5386320" y="3381120"/>
              <a:ext cx="838080" cy="381240"/>
            </a:xfrm>
            <a:prstGeom prst="line">
              <a:avLst/>
            </a:prstGeom>
            <a:ln cap="sq" w="28440">
              <a:solidFill>
                <a:srgbClr val="0000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Line 59"/>
            <p:cNvSpPr/>
            <p:nvPr/>
          </p:nvSpPr>
          <p:spPr>
            <a:xfrm>
              <a:off x="2896920" y="3305160"/>
              <a:ext cx="762120" cy="380880"/>
            </a:xfrm>
            <a:prstGeom prst="line">
              <a:avLst/>
            </a:prstGeom>
            <a:ln cap="sq" w="28440">
              <a:solidFill>
                <a:srgbClr val="0000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Line 61"/>
            <p:cNvSpPr/>
            <p:nvPr/>
          </p:nvSpPr>
          <p:spPr>
            <a:xfrm>
              <a:off x="5386320" y="4295520"/>
              <a:ext cx="761760" cy="381240"/>
            </a:xfrm>
            <a:prstGeom prst="line">
              <a:avLst/>
            </a:prstGeom>
            <a:ln cap="sq" w="28440">
              <a:solidFill>
                <a:srgbClr val="0000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4" name="Group 68"/>
            <p:cNvGrpSpPr/>
            <p:nvPr/>
          </p:nvGrpSpPr>
          <p:grpSpPr>
            <a:xfrm>
              <a:off x="3576600" y="5172120"/>
              <a:ext cx="1968480" cy="2142360"/>
              <a:chOff x="3576600" y="5172120"/>
              <a:chExt cx="1968480" cy="2142360"/>
            </a:xfrm>
          </p:grpSpPr>
          <p:sp>
            <p:nvSpPr>
              <p:cNvPr id="575" name="Text Box 31"/>
              <p:cNvSpPr/>
              <p:nvPr/>
            </p:nvSpPr>
            <p:spPr>
              <a:xfrm>
                <a:off x="3836880" y="6367320"/>
                <a:ext cx="15238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ngsana New"/>
                  </a:rPr>
                  <a:t>อ่าน</a:t>
                </a:r>
                <a:r>
                  <a:rPr b="1" lang="th-TH" sz="2800" spc="-1" strike="noStrike">
                    <a:solidFill>
                      <a:srgbClr val="ffffff"/>
                    </a:solidFill>
                    <a:latin typeface="Angsana New"/>
                  </a:rPr>
                  <a:t>ได้ง่าย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_s2113"/>
              <p:cNvSpPr/>
              <p:nvPr/>
            </p:nvSpPr>
            <p:spPr>
              <a:xfrm>
                <a:off x="3576600" y="5172120"/>
                <a:ext cx="1968480" cy="1211040"/>
              </a:xfrm>
              <a:prstGeom prst="ellipse">
                <a:avLst/>
              </a:prstGeom>
              <a:gradFill rotWithShape="0">
                <a:gsLst>
                  <a:gs pos="0">
                    <a:srgbClr val="ff9997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54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5120" rIns="105120" tIns="52560" bIns="52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. READABL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7" name="_s2109"/>
            <p:cNvSpPr/>
            <p:nvPr/>
          </p:nvSpPr>
          <p:spPr>
            <a:xfrm>
              <a:off x="3525480" y="3423960"/>
              <a:ext cx="1968840" cy="121284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66"/>
                  </a:solidFill>
                  <a:latin typeface="Comic Sans MS"/>
                  <a:ea typeface="Arial Unicode MS"/>
                </a:rPr>
                <a:t>GOLDEN Ru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Line 9"/>
          <p:cNvSpPr/>
          <p:nvPr/>
        </p:nvSpPr>
        <p:spPr>
          <a:xfrm>
            <a:off x="1371600" y="1981080"/>
            <a:ext cx="647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Line 10"/>
          <p:cNvSpPr/>
          <p:nvPr/>
        </p:nvSpPr>
        <p:spPr>
          <a:xfrm>
            <a:off x="2057400" y="25146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11"/>
          <p:cNvSpPr/>
          <p:nvPr/>
        </p:nvSpPr>
        <p:spPr>
          <a:xfrm>
            <a:off x="7848720" y="195732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Text Box 12"/>
          <p:cNvSpPr/>
          <p:nvPr/>
        </p:nvSpPr>
        <p:spPr>
          <a:xfrm>
            <a:off x="419040" y="2330280"/>
            <a:ext cx="1905120" cy="94716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</a:rPr>
              <a:t>ยืนยันการเกิดโร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Text Box 13"/>
          <p:cNvSpPr/>
          <p:nvPr/>
        </p:nvSpPr>
        <p:spPr>
          <a:xfrm>
            <a:off x="3505320" y="2589120"/>
            <a:ext cx="1904760" cy="9471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</a:rPr>
              <a:t>ยืนยันการระบา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Text Box 14"/>
          <p:cNvSpPr/>
          <p:nvPr/>
        </p:nvSpPr>
        <p:spPr>
          <a:xfrm>
            <a:off x="6745320" y="2540160"/>
            <a:ext cx="1905120" cy="52056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ngsana New"/>
              </a:rPr>
              <a:t>ข้อมูลทั่วไ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Line 15"/>
          <p:cNvSpPr/>
          <p:nvPr/>
        </p:nvSpPr>
        <p:spPr>
          <a:xfrm>
            <a:off x="4413240" y="1743120"/>
            <a:ext cx="0" cy="838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1" name="Group 39"/>
          <p:cNvGrpSpPr/>
          <p:nvPr/>
        </p:nvGrpSpPr>
        <p:grpSpPr>
          <a:xfrm>
            <a:off x="750960" y="3159000"/>
            <a:ext cx="7827480" cy="3479400"/>
            <a:chOff x="750960" y="3159000"/>
            <a:chExt cx="7827480" cy="3479400"/>
          </a:xfrm>
        </p:grpSpPr>
        <p:sp>
          <p:nvSpPr>
            <p:cNvPr id="752" name="AutoShape 16"/>
            <p:cNvSpPr/>
            <p:nvPr/>
          </p:nvSpPr>
          <p:spPr>
            <a:xfrm>
              <a:off x="8038800" y="3159000"/>
              <a:ext cx="539640" cy="1627920"/>
            </a:xfrm>
            <a:prstGeom prst="upArrow">
              <a:avLst>
                <a:gd name="adj1" fmla="val 50000"/>
                <a:gd name="adj2" fmla="val 75417"/>
              </a:avLst>
            </a:prstGeom>
            <a:solidFill>
              <a:srgbClr val="ffcc99"/>
            </a:solidFill>
            <a:ln w="0">
              <a:noFill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Rectangle 17"/>
            <p:cNvSpPr/>
            <p:nvPr/>
          </p:nvSpPr>
          <p:spPr>
            <a:xfrm>
              <a:off x="7255800" y="4562640"/>
              <a:ext cx="1188000" cy="336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Text Box 18"/>
            <p:cNvSpPr/>
            <p:nvPr/>
          </p:nvSpPr>
          <p:spPr>
            <a:xfrm>
              <a:off x="750960" y="3327120"/>
              <a:ext cx="6478200" cy="3311280"/>
            </a:xfrm>
            <a:prstGeom prst="rect">
              <a:avLst/>
            </a:prstGeom>
            <a:solidFill>
              <a:srgbClr val="ff0033"/>
            </a:solidFill>
            <a:ln w="38160">
              <a:solidFill>
                <a:srgbClr val="ffcc99"/>
              </a:solidFill>
              <a:miter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ffffff"/>
                  </a:solidFill>
                  <a:latin typeface="Angsana New"/>
                </a:rPr>
                <a:t>เป็นส่วนที่แสดงให้เห็นสภาพทั่วไป ของพื้นที่เกิดโรค  ในด้านต่างๆ  ซึ่งอาจมีความสัมพันธ์กับการเกิดโร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562"/>
                </a:spcBef>
                <a:buClr>
                  <a:srgbClr val="ffffff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500" spc="-1" strike="noStrike">
                  <a:solidFill>
                    <a:srgbClr val="ffffff"/>
                  </a:solidFill>
                  <a:latin typeface="Angsana New"/>
                </a:rPr>
                <a:t>ข้อมูลประชากร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562"/>
                </a:spcBef>
                <a:buClr>
                  <a:srgbClr val="ffffff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500" spc="-1" strike="noStrike">
                  <a:solidFill>
                    <a:srgbClr val="ffffff"/>
                  </a:solidFill>
                  <a:latin typeface="Angsana New"/>
                </a:rPr>
                <a:t> </a:t>
              </a:r>
              <a:r>
                <a:rPr b="1" lang="th-TH" sz="2500" spc="-1" strike="noStrike">
                  <a:solidFill>
                    <a:srgbClr val="ffffff"/>
                  </a:solidFill>
                  <a:latin typeface="Angsana New"/>
                </a:rPr>
                <a:t>ข้อมูลทางภูมิศาสตร์ของพื้นที่เกิดโรค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562"/>
                </a:spcBef>
                <a:buClr>
                  <a:srgbClr val="ffffff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500" spc="-1" strike="noStrike">
                  <a:solidFill>
                    <a:srgbClr val="ffffff"/>
                  </a:solidFill>
                  <a:latin typeface="Angsana New"/>
                </a:rPr>
                <a:t> </a:t>
              </a:r>
              <a:r>
                <a:rPr b="1" lang="th-TH" sz="2500" spc="-1" strike="noStrike">
                  <a:solidFill>
                    <a:srgbClr val="ffffff"/>
                  </a:solidFill>
                  <a:latin typeface="Angsana New"/>
                </a:rPr>
                <a:t>เส้นทางคมนาคมและพื้นที่ติดต่อ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562"/>
                </a:spcBef>
                <a:buClr>
                  <a:srgbClr val="ffffff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500" spc="-1" strike="noStrike">
                  <a:solidFill>
                    <a:srgbClr val="ffffff"/>
                  </a:solidFill>
                  <a:latin typeface="Angsana New"/>
                </a:rPr>
                <a:t> </a:t>
              </a:r>
              <a:r>
                <a:rPr b="1" lang="th-TH" sz="2500" spc="-1" strike="noStrike">
                  <a:solidFill>
                    <a:srgbClr val="ffffff"/>
                  </a:solidFill>
                  <a:latin typeface="Angsana New"/>
                </a:rPr>
                <a:t>ข้อมูลทางเศรษฐกิจ ความเป็นอยู่ วัฒนธรรม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562"/>
                </a:spcBef>
                <a:buClr>
                  <a:srgbClr val="ffffff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500" spc="-1" strike="noStrike">
                  <a:solidFill>
                    <a:srgbClr val="ffffff"/>
                  </a:solidFill>
                  <a:latin typeface="Angsana New"/>
                </a:rPr>
                <a:t> </a:t>
              </a:r>
              <a:r>
                <a:rPr b="1" lang="th-TH" sz="2500" spc="-1" strike="noStrike">
                  <a:solidFill>
                    <a:srgbClr val="ffffff"/>
                  </a:solidFill>
                  <a:latin typeface="Angsana New"/>
                </a:rPr>
                <a:t>ข้อมูลสุขาภิบาล สาธารณูปโภค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562"/>
                </a:spcBef>
                <a:buClr>
                  <a:srgbClr val="ffffff"/>
                </a:buClr>
                <a:buFont typeface="Angsana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500" spc="-1" strike="noStrike">
                  <a:solidFill>
                    <a:srgbClr val="ffffff"/>
                  </a:solidFill>
                  <a:latin typeface="Angsana New"/>
                </a:rPr>
                <a:t> </a:t>
              </a:r>
              <a:r>
                <a:rPr b="1" lang="th-TH" sz="2500" spc="-1" strike="noStrike">
                  <a:solidFill>
                    <a:srgbClr val="ffffff"/>
                  </a:solidFill>
                  <a:latin typeface="Angsana New"/>
                </a:rPr>
                <a:t>ข้อมูลสิ่งแวดล้อม เช่น ปริมาณน้ำฝน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5" name="Rectangle 19"/>
          <p:cNvSpPr/>
          <p:nvPr/>
        </p:nvSpPr>
        <p:spPr>
          <a:xfrm>
            <a:off x="1154160" y="1959120"/>
            <a:ext cx="45720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Rectangle 21"/>
          <p:cNvSpPr/>
          <p:nvPr/>
        </p:nvSpPr>
        <p:spPr>
          <a:xfrm>
            <a:off x="4172040" y="2004840"/>
            <a:ext cx="45720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Rectangle 22"/>
          <p:cNvSpPr/>
          <p:nvPr/>
        </p:nvSpPr>
        <p:spPr>
          <a:xfrm>
            <a:off x="7591320" y="1973160"/>
            <a:ext cx="457200" cy="30492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Text Box 26"/>
          <p:cNvSpPr/>
          <p:nvPr/>
        </p:nvSpPr>
        <p:spPr>
          <a:xfrm>
            <a:off x="1219320" y="192096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gsana New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Text Box 27"/>
          <p:cNvSpPr/>
          <p:nvPr/>
        </p:nvSpPr>
        <p:spPr>
          <a:xfrm>
            <a:off x="7697880" y="189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ngsana New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Text Box 28"/>
          <p:cNvSpPr/>
          <p:nvPr/>
        </p:nvSpPr>
        <p:spPr>
          <a:xfrm>
            <a:off x="4259160" y="1890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ngsana New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1" name="Group 33"/>
          <p:cNvGrpSpPr/>
          <p:nvPr/>
        </p:nvGrpSpPr>
        <p:grpSpPr>
          <a:xfrm>
            <a:off x="2743200" y="838080"/>
            <a:ext cx="3352680" cy="914400"/>
            <a:chOff x="2743200" y="838080"/>
            <a:chExt cx="3352680" cy="914400"/>
          </a:xfrm>
        </p:grpSpPr>
        <p:sp>
          <p:nvSpPr>
            <p:cNvPr id="762" name="AutoShape 34"/>
            <p:cNvSpPr/>
            <p:nvPr/>
          </p:nvSpPr>
          <p:spPr>
            <a:xfrm>
              <a:off x="2743200" y="838080"/>
              <a:ext cx="3352680" cy="914400"/>
            </a:xfrm>
            <a:custGeom>
              <a:avLst/>
              <a:gdLst>
                <a:gd name="textAreaLeft" fmla="*/ 765360 w 3352680"/>
                <a:gd name="textAreaRight" fmla="*/ 2587320 w 335268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000" spc="-1" strike="noStrike">
                  <a:solidFill>
                    <a:srgbClr val="ffffff"/>
                  </a:solidFill>
                  <a:latin typeface="Times New Roman"/>
                </a:rPr>
                <a:t>ผลการศึกษา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Text Box 35"/>
            <p:cNvSpPr/>
            <p:nvPr/>
          </p:nvSpPr>
          <p:spPr>
            <a:xfrm>
              <a:off x="3200040" y="914400"/>
              <a:ext cx="2514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4" name="Text Box 40"/>
          <p:cNvSpPr/>
          <p:nvPr/>
        </p:nvSpPr>
        <p:spPr>
          <a:xfrm>
            <a:off x="617400" y="193680"/>
            <a:ext cx="7925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งค์ประกอบและวิธีการเขียนรายงาน ฉบับสมบูรณ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Line 11"/>
          <p:cNvSpPr/>
          <p:nvPr/>
        </p:nvSpPr>
        <p:spPr>
          <a:xfrm>
            <a:off x="3738600" y="227340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AutoShape 31"/>
          <p:cNvSpPr/>
          <p:nvPr/>
        </p:nvSpPr>
        <p:spPr>
          <a:xfrm>
            <a:off x="947880" y="4438800"/>
            <a:ext cx="7391160" cy="2057400"/>
          </a:xfrm>
          <a:prstGeom prst="roundRect">
            <a:avLst>
              <a:gd name="adj" fmla="val 16667"/>
            </a:avLst>
          </a:prstGeom>
          <a:solidFill>
            <a:srgbClr val="ff00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Line 5"/>
          <p:cNvSpPr/>
          <p:nvPr/>
        </p:nvSpPr>
        <p:spPr>
          <a:xfrm>
            <a:off x="1409760" y="1981080"/>
            <a:ext cx="6324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Line 6"/>
          <p:cNvSpPr/>
          <p:nvPr/>
        </p:nvSpPr>
        <p:spPr>
          <a:xfrm>
            <a:off x="1409760" y="23050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Line 7"/>
          <p:cNvSpPr/>
          <p:nvPr/>
        </p:nvSpPr>
        <p:spPr>
          <a:xfrm>
            <a:off x="5697360" y="229248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Text Box 8"/>
          <p:cNvSpPr/>
          <p:nvPr/>
        </p:nvSpPr>
        <p:spPr>
          <a:xfrm>
            <a:off x="399960" y="2627280"/>
            <a:ext cx="1905120" cy="137376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ngsana New"/>
              </a:rPr>
              <a:t>ผลการศึกษาทางระบาดวิทย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Text Box 9"/>
          <p:cNvSpPr/>
          <p:nvPr/>
        </p:nvSpPr>
        <p:spPr>
          <a:xfrm>
            <a:off x="2819520" y="2898720"/>
            <a:ext cx="1904760" cy="1800360"/>
          </a:xfrm>
          <a:prstGeom prst="rect">
            <a:avLst/>
          </a:prstGeom>
          <a:solidFill>
            <a:srgbClr val="ff9966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</a:rPr>
              <a:t>ผลการตรวจทางห้องปฏิบัติกา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Text Box 10"/>
          <p:cNvSpPr/>
          <p:nvPr/>
        </p:nvSpPr>
        <p:spPr>
          <a:xfrm>
            <a:off x="4795920" y="3243240"/>
            <a:ext cx="1904760" cy="1800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</a:rPr>
              <a:t>ผลการศึกษาทางสภาพแวดล้อ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Rectangle 12"/>
          <p:cNvSpPr/>
          <p:nvPr/>
        </p:nvSpPr>
        <p:spPr>
          <a:xfrm>
            <a:off x="1181160" y="2000160"/>
            <a:ext cx="457200" cy="30492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Text Box 13"/>
          <p:cNvSpPr/>
          <p:nvPr/>
        </p:nvSpPr>
        <p:spPr>
          <a:xfrm>
            <a:off x="1243080" y="1908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Rectangle 14"/>
          <p:cNvSpPr/>
          <p:nvPr/>
        </p:nvSpPr>
        <p:spPr>
          <a:xfrm>
            <a:off x="3510000" y="2000160"/>
            <a:ext cx="45720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Rectangle 15"/>
          <p:cNvSpPr/>
          <p:nvPr/>
        </p:nvSpPr>
        <p:spPr>
          <a:xfrm>
            <a:off x="5468760" y="1996920"/>
            <a:ext cx="45720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Text Box 16"/>
          <p:cNvSpPr/>
          <p:nvPr/>
        </p:nvSpPr>
        <p:spPr>
          <a:xfrm>
            <a:off x="5595840" y="1908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ngsana New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Text Box 17"/>
          <p:cNvSpPr/>
          <p:nvPr/>
        </p:nvSpPr>
        <p:spPr>
          <a:xfrm>
            <a:off x="3619440" y="1854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ngsana New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Rectangle 18"/>
          <p:cNvSpPr/>
          <p:nvPr/>
        </p:nvSpPr>
        <p:spPr>
          <a:xfrm>
            <a:off x="7458120" y="2025720"/>
            <a:ext cx="45720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Text Box 19"/>
          <p:cNvSpPr/>
          <p:nvPr/>
        </p:nvSpPr>
        <p:spPr>
          <a:xfrm>
            <a:off x="7556400" y="19209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ngsana New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Line 20"/>
          <p:cNvSpPr/>
          <p:nvPr/>
        </p:nvSpPr>
        <p:spPr>
          <a:xfrm>
            <a:off x="7709040" y="233028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Text Box 21"/>
          <p:cNvSpPr/>
          <p:nvPr/>
        </p:nvSpPr>
        <p:spPr>
          <a:xfrm>
            <a:off x="6781680" y="3529080"/>
            <a:ext cx="1905120" cy="8280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</a:rPr>
              <a:t>ผลการเฝ้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</a:rPr>
              <a:t>ระวังโร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Line 22"/>
          <p:cNvSpPr/>
          <p:nvPr/>
        </p:nvSpPr>
        <p:spPr>
          <a:xfrm>
            <a:off x="4311720" y="177156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Rectangle 29"/>
          <p:cNvSpPr/>
          <p:nvPr/>
        </p:nvSpPr>
        <p:spPr>
          <a:xfrm>
            <a:off x="4970520" y="4842000"/>
            <a:ext cx="358128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ngsana New"/>
              </a:rPr>
              <a:t>4.2 </a:t>
            </a:r>
            <a:r>
              <a:rPr b="1" lang="th-TH" sz="2800" spc="-1" strike="noStrike">
                <a:solidFill>
                  <a:srgbClr val="ffff00"/>
                </a:solidFill>
                <a:latin typeface="Angsana New"/>
              </a:rPr>
              <a:t>ระบาดวิทยาเชิงวิเคราะห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ngsana New"/>
              </a:rPr>
              <a:t>      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แสดงผลการวิเคราะห์ข้อมูลต่าง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      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ตามสมมติฐานที่ตั้งไว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Rectangle 30"/>
          <p:cNvSpPr/>
          <p:nvPr/>
        </p:nvSpPr>
        <p:spPr>
          <a:xfrm>
            <a:off x="490680" y="4616280"/>
            <a:ext cx="4419360" cy="22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ngsana New"/>
              </a:rPr>
              <a:t>4.1 </a:t>
            </a:r>
            <a:r>
              <a:rPr b="1" lang="th-TH" sz="2800" spc="-1" strike="noStrike">
                <a:solidFill>
                  <a:srgbClr val="ffff00"/>
                </a:solidFill>
                <a:latin typeface="Angsana New"/>
              </a:rPr>
              <a:t>ระบาดวิทยาเชิงพรรณน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ngsana New"/>
              </a:rPr>
              <a:t>	</a:t>
            </a:r>
            <a:r>
              <a:rPr b="1" lang="th-TH" sz="2400" spc="-1" strike="noStrike">
                <a:solidFill>
                  <a:srgbClr val="ffff00"/>
                </a:solidFill>
                <a:latin typeface="Angsana New"/>
              </a:rPr>
              <a:t>    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ลักษณะการกระจายโรคตามบุคค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ลักษณะการกระจายโรคตามเวลา             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Angsana New"/>
              </a:rPr>
              <a:t>      ลักษณะการกระจายโรคตามสถานที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AutoShape 32"/>
          <p:cNvSpPr/>
          <p:nvPr/>
        </p:nvSpPr>
        <p:spPr>
          <a:xfrm>
            <a:off x="1028880" y="3592440"/>
            <a:ext cx="1066680" cy="838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7" name="Group 37"/>
          <p:cNvGrpSpPr/>
          <p:nvPr/>
        </p:nvGrpSpPr>
        <p:grpSpPr>
          <a:xfrm>
            <a:off x="2666880" y="857160"/>
            <a:ext cx="3353040" cy="914400"/>
            <a:chOff x="2666880" y="857160"/>
            <a:chExt cx="3353040" cy="914400"/>
          </a:xfrm>
        </p:grpSpPr>
        <p:sp>
          <p:nvSpPr>
            <p:cNvPr id="788" name="AutoShape 38"/>
            <p:cNvSpPr/>
            <p:nvPr/>
          </p:nvSpPr>
          <p:spPr>
            <a:xfrm>
              <a:off x="2666880" y="857160"/>
              <a:ext cx="3353040" cy="914400"/>
            </a:xfrm>
            <a:custGeom>
              <a:avLst/>
              <a:gdLst>
                <a:gd name="textAreaLeft" fmla="*/ 765360 w 3353040"/>
                <a:gd name="textAreaRight" fmla="*/ 2587680 w 335304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000" spc="-1" strike="noStrike">
                  <a:solidFill>
                    <a:srgbClr val="ffffff"/>
                  </a:solidFill>
                  <a:latin typeface="Times New Roman"/>
                </a:rPr>
                <a:t>ผลการศึกษา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Text Box 39"/>
            <p:cNvSpPr/>
            <p:nvPr/>
          </p:nvSpPr>
          <p:spPr>
            <a:xfrm>
              <a:off x="3124080" y="933480"/>
              <a:ext cx="2514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0" name="Text Box 43"/>
          <p:cNvSpPr/>
          <p:nvPr/>
        </p:nvSpPr>
        <p:spPr>
          <a:xfrm>
            <a:off x="609480" y="106200"/>
            <a:ext cx="7925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งค์ประกอบและวิธีการเขียนรายงาน ฉบับสมบูรณ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228240" y="685440"/>
            <a:ext cx="9372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CordiaUPC"/>
                <a:ea typeface="CordiaUPC"/>
              </a:rPr>
              <a:t>	</a:t>
            </a:r>
            <a:r>
              <a:rPr b="1" lang="th-TH" sz="3000" spc="-1" strike="noStrike">
                <a:solidFill>
                  <a:srgbClr val="000000"/>
                </a:solidFill>
                <a:latin typeface="CordiaUPC"/>
                <a:ea typeface="CordiaUPC"/>
              </a:rPr>
              <a:t>	</a:t>
            </a:r>
            <a:r>
              <a:rPr b="1" lang="th-TH" sz="3000" spc="-1" strike="noStrike">
                <a:solidFill>
                  <a:srgbClr val="000000"/>
                </a:solidFill>
                <a:latin typeface="CordiaUPC"/>
                <a:ea typeface="CordiaUPC"/>
              </a:rPr>
              <a:t>	</a:t>
            </a:r>
            <a:r>
              <a:rPr b="1" lang="th-TH" sz="3000" spc="-1" strike="noStrike">
                <a:solidFill>
                  <a:srgbClr val="000000"/>
                </a:solidFill>
                <a:latin typeface="CordiaUPC"/>
                <a:ea typeface="CordiaUPC"/>
              </a:rPr>
              <a:t>	</a:t>
            </a:r>
            <a:r>
              <a:rPr b="1" lang="th-TH" sz="3000" spc="-1" strike="noStrike">
                <a:solidFill>
                  <a:srgbClr val="000000"/>
                </a:solidFill>
                <a:latin typeface="CordiaUPC"/>
                <a:ea typeface="CordiaUPC"/>
              </a:rPr>
              <a:t>	</a:t>
            </a:r>
            <a:r>
              <a:rPr b="1" lang="th-TH" sz="3000" spc="-1" strike="noStrike">
                <a:solidFill>
                  <a:srgbClr val="000000"/>
                </a:solidFill>
                <a:latin typeface="CordiaUPC"/>
                <a:cs typeface="CordiaUPC"/>
              </a:rPr>
              <a:t>เป็นส่วนที่แสดงให้เห็นถึงลักษณะของ           การเกิดโรคตามตัวแปรทางระบาดวิทยา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การกระจายของโรคตามบุคคล</a:t>
            </a:r>
            <a:r>
              <a:rPr b="1" lang="th-TH" sz="2800" spc="-1" strike="noStrike">
                <a:solidFill>
                  <a:srgbClr val="000000"/>
                </a:solidFill>
                <a:latin typeface="CordiaUPC"/>
                <a:ea typeface="CordiaUPC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UPC"/>
                <a:ea typeface="CordiaUPC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ordiaUPC"/>
                <a:ea typeface="CordiaUPC"/>
              </a:rPr>
              <a:t>- </a:t>
            </a:r>
            <a:r>
              <a:rPr b="1" lang="th-TH" sz="2800" spc="-1" strike="noStrike">
                <a:solidFill>
                  <a:srgbClr val="000000"/>
                </a:solidFill>
                <a:latin typeface="CordiaUPC"/>
                <a:cs typeface="CordiaUPC"/>
              </a:rPr>
              <a:t>แสดงอัตราป่วย </a:t>
            </a:r>
            <a:r>
              <a:rPr b="1" lang="en-US" sz="2800" spc="-1" strike="noStrike">
                <a:solidFill>
                  <a:srgbClr val="000000"/>
                </a:solidFill>
                <a:latin typeface="CordiaUPC"/>
                <a:ea typeface="CordiaUPC"/>
              </a:rPr>
              <a:t>(Attack rate)  </a:t>
            </a:r>
            <a:r>
              <a:rPr b="1" lang="th-TH" sz="2800" spc="-1" strike="noStrike">
                <a:solidFill>
                  <a:srgbClr val="000000"/>
                </a:solidFill>
                <a:latin typeface="CordiaUPC"/>
                <a:cs typeface="CordiaUPC"/>
              </a:rPr>
              <a:t>ที่เกิดขึ้นทั้งหมด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UPC"/>
                <a:ea typeface="CordiaUPC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ordiaUPC"/>
                <a:ea typeface="CordiaUPC"/>
              </a:rPr>
              <a:t>- </a:t>
            </a:r>
            <a:r>
              <a:rPr b="1" lang="th-TH" sz="2800" spc="-1" strike="noStrike">
                <a:solidFill>
                  <a:srgbClr val="000000"/>
                </a:solidFill>
                <a:latin typeface="CordiaUPC"/>
                <a:cs typeface="CordiaUPC"/>
              </a:rPr>
              <a:t>อธิบายถึงกลุ่มอายุ  หรือเพศที่มีอัตราป่วยสูงสุด  ต่ำสุด  และกลุ่มใด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UPC"/>
                <a:ea typeface="CordiaUPC"/>
              </a:rPr>
              <a:t>              </a:t>
            </a:r>
            <a:r>
              <a:rPr b="1" lang="th-TH" sz="2800" spc="-1" strike="noStrike">
                <a:solidFill>
                  <a:srgbClr val="000000"/>
                </a:solidFill>
                <a:latin typeface="CordiaUPC"/>
                <a:cs typeface="CordiaUPC"/>
              </a:rPr>
              <a:t>เกิดโรคมากที่สุ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การกระจายตามเวลา</a:t>
            </a:r>
            <a:r>
              <a:rPr b="1" lang="th-TH" sz="2800" spc="-1" strike="noStrike">
                <a:solidFill>
                  <a:srgbClr val="000000"/>
                </a:solidFill>
                <a:latin typeface="CordiaUPC"/>
                <a:ea typeface="CordiaUPC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UPC"/>
                <a:ea typeface="CordiaUPC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ordiaUPC"/>
                <a:ea typeface="CordiaUPC"/>
              </a:rPr>
              <a:t>- </a:t>
            </a:r>
            <a:r>
              <a:rPr b="1" lang="th-TH" sz="2800" spc="-1" strike="noStrike">
                <a:solidFill>
                  <a:srgbClr val="000000"/>
                </a:solidFill>
                <a:latin typeface="CordiaUPC"/>
                <a:cs typeface="CordiaUPC"/>
              </a:rPr>
              <a:t>แสดงระยะเวลาเกิดโรค</a:t>
            </a:r>
            <a:r>
              <a:rPr b="1" lang="th-TH" sz="2800" spc="-1" strike="noStrike">
                <a:solidFill>
                  <a:srgbClr val="000000"/>
                </a:solidFill>
                <a:latin typeface="CordiaUPC"/>
                <a:ea typeface="CordiaUPC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rdiaUPC"/>
                <a:ea typeface="CordiaUPC"/>
              </a:rPr>
              <a:t>duration of outbreak)</a:t>
            </a:r>
            <a:r>
              <a:rPr b="1" lang="th-TH" sz="2800" spc="-1" strike="noStrike">
                <a:solidFill>
                  <a:srgbClr val="000000"/>
                </a:solidFill>
                <a:latin typeface="CordiaUPC"/>
                <a:ea typeface="CordiaUP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CordiaUPC"/>
                <a:cs typeface="CordiaUPC"/>
              </a:rPr>
              <a:t>ตั้งแต่รายแรกถึงรายสุดท้าย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UPC"/>
                <a:ea typeface="CordiaUPC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ordiaUPC"/>
                <a:ea typeface="CordiaUPC"/>
              </a:rPr>
              <a:t>- </a:t>
            </a:r>
            <a:r>
              <a:rPr b="1" lang="th-TH" sz="2800" spc="-1" strike="noStrike">
                <a:solidFill>
                  <a:srgbClr val="000000"/>
                </a:solidFill>
                <a:latin typeface="CordiaUPC"/>
                <a:cs typeface="CordiaUPC"/>
              </a:rPr>
              <a:t>ระยะฟักตัวโรค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UPC"/>
                <a:ea typeface="CordiaUPC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ordiaUPC"/>
                <a:ea typeface="CordiaUPC"/>
              </a:rPr>
              <a:t>- epidermic  curve </a:t>
            </a:r>
            <a:r>
              <a:rPr b="1" lang="th-TH" sz="2800" spc="-1" strike="noStrike">
                <a:solidFill>
                  <a:srgbClr val="000000"/>
                </a:solidFill>
                <a:latin typeface="CordiaUPC"/>
                <a:cs typeface="CordiaUPC"/>
              </a:rPr>
              <a:t>บอกหรืออธิบายลักษณะการเกิดโรคเป็นแบบใ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WordArt 5"/>
          <p:cNvSpPr txBox="1"/>
          <p:nvPr/>
        </p:nvSpPr>
        <p:spPr>
          <a:xfrm>
            <a:off x="2209680" y="380880"/>
            <a:ext cx="4800600" cy="35244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CordiaUPC"/>
              </a:rPr>
              <a:t>ผลการศึกษา</a:t>
            </a:r>
            <a:r>
              <a:rPr b="1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CordiaUPC"/>
              </a:rPr>
              <a:t>/</a:t>
            </a:r>
            <a:r>
              <a:rPr b="0" lang="hi-IN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CordiaUPC"/>
              </a:rPr>
              <a:t>สอบสวน</a:t>
            </a:r>
            <a:endParaRPr b="1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CordiaUPC"/>
              <a:ea typeface="CordiaUPC"/>
            </a:endParaRPr>
          </a:p>
        </p:txBody>
      </p:sp>
      <p:sp>
        <p:nvSpPr>
          <p:cNvPr id="793" name="Rectangle 6"/>
          <p:cNvSpPr/>
          <p:nvPr/>
        </p:nvSpPr>
        <p:spPr>
          <a:xfrm>
            <a:off x="457200" y="1066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e5"/>
                </a:solidFill>
                <a:latin typeface="CordiaUPC"/>
                <a:ea typeface="CordiaUPC"/>
              </a:rPr>
              <a:t> </a:t>
            </a:r>
            <a:r>
              <a:rPr b="1" lang="th-TH" sz="3200" spc="-1" strike="noStrike">
                <a:solidFill>
                  <a:srgbClr val="0039e5"/>
                </a:solidFill>
                <a:latin typeface="CordiaUPC"/>
                <a:cs typeface="CordiaUPC"/>
              </a:rPr>
              <a:t>ระบาดวิทยาเชิงพรรณน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7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7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4"/>
          <p:cNvSpPr/>
          <p:nvPr/>
        </p:nvSpPr>
        <p:spPr>
          <a:xfrm>
            <a:off x="457200" y="11113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39e5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9e5"/>
                </a:solidFill>
                <a:latin typeface="CordiaUPC"/>
                <a:ea typeface="CordiaUPC"/>
              </a:rPr>
              <a:t> </a:t>
            </a:r>
            <a:r>
              <a:rPr b="1" lang="th-TH" sz="3600" spc="-1" strike="noStrike">
                <a:solidFill>
                  <a:srgbClr val="0039e5"/>
                </a:solidFill>
                <a:latin typeface="CordiaUPC"/>
                <a:cs typeface="CordiaUPC"/>
              </a:rPr>
              <a:t>ระบาดวิทยาเชิงพรรณน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Rectangle 5"/>
          <p:cNvSpPr/>
          <p:nvPr/>
        </p:nvSpPr>
        <p:spPr>
          <a:xfrm>
            <a:off x="457200" y="205740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a"/>
                </a:solidFill>
                <a:latin typeface="CordiaUPC"/>
                <a:cs typeface="CordiaUPC"/>
              </a:rPr>
              <a:t>การกระจายตามสถานที่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a"/>
                </a:solidFill>
                <a:latin typeface="CordiaUPC"/>
                <a:ea typeface="CordiaUPC"/>
              </a:rPr>
              <a:t>      </a:t>
            </a:r>
            <a:r>
              <a:rPr b="1" lang="th-TH" sz="3200" spc="-1" strike="noStrike">
                <a:solidFill>
                  <a:srgbClr val="00006a"/>
                </a:solidFill>
                <a:latin typeface="CordiaUPC"/>
                <a:ea typeface="CordiaUPC"/>
              </a:rPr>
              <a:t>	</a:t>
            </a:r>
            <a:r>
              <a:rPr b="1" lang="en-US" sz="3200" spc="-1" strike="noStrike">
                <a:solidFill>
                  <a:srgbClr val="00006a"/>
                </a:solidFill>
                <a:latin typeface="CordiaUPC"/>
                <a:ea typeface="CordiaUPC"/>
              </a:rPr>
              <a:t>- </a:t>
            </a:r>
            <a:r>
              <a:rPr b="1" lang="th-TH" sz="3200" spc="-1" strike="noStrike">
                <a:solidFill>
                  <a:srgbClr val="00006a"/>
                </a:solidFill>
                <a:latin typeface="CordiaUPC"/>
                <a:cs typeface="CordiaUPC"/>
              </a:rPr>
              <a:t>แสดงอัตราป่วยจำแนกในแต่ละพื้นที่ เช่น จำแนกตา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a"/>
                </a:solidFill>
                <a:latin typeface="CordiaUPC"/>
                <a:ea typeface="CordiaUPC"/>
              </a:rPr>
              <a:t>            </a:t>
            </a:r>
            <a:r>
              <a:rPr b="1" lang="th-TH" sz="3200" spc="-1" strike="noStrike">
                <a:solidFill>
                  <a:srgbClr val="00006a"/>
                </a:solidFill>
                <a:latin typeface="CordiaUPC"/>
                <a:cs typeface="CordiaUPC"/>
              </a:rPr>
              <a:t>ชั้นเรียน  หมู่บ้าน   นำเสนอโดยใช้ตาราง</a:t>
            </a:r>
            <a:r>
              <a:rPr b="1" lang="en-US" sz="3200" spc="-1" strike="noStrike">
                <a:solidFill>
                  <a:srgbClr val="00006a"/>
                </a:solidFill>
                <a:latin typeface="CordiaUPC"/>
                <a:ea typeface="CordiaUPC"/>
              </a:rPr>
              <a:t>/</a:t>
            </a:r>
            <a:r>
              <a:rPr b="1" lang="th-TH" sz="3200" spc="-1" strike="noStrike">
                <a:solidFill>
                  <a:srgbClr val="00006a"/>
                </a:solidFill>
                <a:latin typeface="CordiaUPC"/>
                <a:cs typeface="CordiaUPC"/>
              </a:rPr>
              <a:t>แผนภูมิ</a:t>
            </a:r>
            <a:r>
              <a:rPr b="1" lang="en-US" sz="3200" spc="-1" strike="noStrike">
                <a:solidFill>
                  <a:srgbClr val="00006a"/>
                </a:solidFill>
                <a:latin typeface="CordiaUPC"/>
                <a:ea typeface="CordiaUPC"/>
              </a:rPr>
              <a:t>/</a:t>
            </a:r>
            <a:r>
              <a:rPr b="1" lang="th-TH" sz="3200" spc="-1" strike="noStrike">
                <a:solidFill>
                  <a:srgbClr val="00006a"/>
                </a:solidFill>
                <a:latin typeface="CordiaUPC"/>
                <a:cs typeface="CordiaUPC"/>
              </a:rPr>
              <a:t>แผนที่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a"/>
                </a:solidFill>
                <a:latin typeface="CordiaUPC"/>
                <a:ea typeface="CordiaUPC"/>
              </a:rPr>
              <a:t>          </a:t>
            </a:r>
            <a:r>
              <a:rPr b="1" lang="en-US" sz="3200" spc="-1" strike="noStrike">
                <a:solidFill>
                  <a:srgbClr val="00006a"/>
                </a:solidFill>
                <a:latin typeface="CordiaUPC"/>
                <a:ea typeface="CordiaUPC"/>
              </a:rPr>
              <a:t>- </a:t>
            </a:r>
            <a:r>
              <a:rPr b="1" lang="th-TH" sz="3200" spc="-1" strike="noStrike">
                <a:solidFill>
                  <a:srgbClr val="00006a"/>
                </a:solidFill>
                <a:latin typeface="CordiaUPC"/>
                <a:ea typeface="CordiaUPC"/>
              </a:rPr>
              <a:t> </a:t>
            </a:r>
            <a:r>
              <a:rPr b="1" lang="th-TH" sz="3200" spc="-1" strike="noStrike">
                <a:solidFill>
                  <a:srgbClr val="00006a"/>
                </a:solidFill>
                <a:latin typeface="CordiaUPC"/>
                <a:cs typeface="CordiaUPC"/>
              </a:rPr>
              <a:t>แสดงทิศทางการกระจายของโรค  โดยใช้  </a:t>
            </a:r>
            <a:r>
              <a:rPr b="1" lang="en-US" sz="3200" spc="-1" strike="noStrike">
                <a:solidFill>
                  <a:srgbClr val="00006a"/>
                </a:solidFill>
                <a:latin typeface="CordiaUPC"/>
                <a:ea typeface="CordiaUPC"/>
              </a:rPr>
              <a:t>spot  map </a:t>
            </a:r>
            <a:r>
              <a:rPr b="1" lang="th-TH" sz="3200" spc="-1" strike="noStrike">
                <a:solidFill>
                  <a:srgbClr val="00006a"/>
                </a:solidFill>
                <a:latin typeface="CordiaUPC"/>
                <a:cs typeface="CordiaUPC"/>
              </a:rPr>
              <a:t>ให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a"/>
                </a:solidFill>
                <a:latin typeface="CordiaUPC"/>
                <a:ea typeface="CordiaUPC"/>
              </a:rPr>
              <a:t>             </a:t>
            </a:r>
            <a:r>
              <a:rPr b="1" lang="th-TH" sz="3200" spc="-1" strike="noStrike">
                <a:solidFill>
                  <a:srgbClr val="00006a"/>
                </a:solidFill>
                <a:latin typeface="CordiaUPC"/>
                <a:cs typeface="CordiaUPC"/>
              </a:rPr>
              <a:t>เห็นถึงจุดที่เกิดผู้ป่วยรายแร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b3d9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WordArt 6"/>
          <p:cNvSpPr txBox="1"/>
          <p:nvPr/>
        </p:nvSpPr>
        <p:spPr>
          <a:xfrm>
            <a:off x="1944720" y="200160"/>
            <a:ext cx="46083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CordiaUPC"/>
              </a:rPr>
              <a:t>ผลการศึกษา</a:t>
            </a:r>
            <a:r>
              <a:rPr b="1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CordiaUPC"/>
              </a:rPr>
              <a:t>/</a:t>
            </a:r>
            <a:r>
              <a:rPr b="0" lang="hi-IN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CordiaUPC"/>
              </a:rPr>
              <a:t>สอบสวน</a:t>
            </a:r>
            <a:endParaRPr b="1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CordiaUPC"/>
              <a:ea typeface="CordiaUPC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4"/>
          <p:cNvSpPr/>
          <p:nvPr/>
        </p:nvSpPr>
        <p:spPr>
          <a:xfrm>
            <a:off x="452520" y="836640"/>
            <a:ext cx="84582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a"/>
                </a:solidFill>
                <a:latin typeface="CordiaUPC"/>
                <a:ea typeface="CordiaUPC"/>
              </a:rPr>
              <a:t> </a:t>
            </a:r>
            <a:r>
              <a:rPr b="1" lang="th-TH" sz="4000" spc="-1" strike="noStrike">
                <a:solidFill>
                  <a:srgbClr val="00006a"/>
                </a:solidFill>
                <a:latin typeface="CordiaUPC"/>
                <a:cs typeface="CordiaUPC"/>
              </a:rPr>
              <a:t>ระบาดวิทยาเชิงวิเคราะห์</a:t>
            </a:r>
            <a:r>
              <a:rPr b="1" lang="en-US" sz="4000" spc="-1" strike="noStrike">
                <a:solidFill>
                  <a:srgbClr val="00006a"/>
                </a:solidFill>
                <a:latin typeface="CordiaUPC"/>
                <a:ea typeface="CordiaUPC"/>
              </a:rPr>
              <a:t>    </a:t>
            </a:r>
            <a:r>
              <a:rPr b="1" lang="th-TH" sz="2800" spc="-1" strike="noStrike">
                <a:solidFill>
                  <a:srgbClr val="00006a"/>
                </a:solidFill>
                <a:latin typeface="CordiaUPC"/>
                <a:cs typeface="CordiaUPC"/>
              </a:rPr>
              <a:t>แสดงถึงวิธีการวิเคราะห์ข้อมูลต่างๆตามสมุมุติฐานที่ตั้งไว้  โดยแสดงตารางวิเคราะห์การทดสอบปัจจัยที่สงสัยตามรูปแบบการศึกษ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6a"/>
                </a:solidFill>
                <a:latin typeface="CordiaUPC"/>
                <a:ea typeface="CordiaUP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Text Box 5"/>
          <p:cNvSpPr/>
          <p:nvPr/>
        </p:nvSpPr>
        <p:spPr>
          <a:xfrm>
            <a:off x="-741960" y="3200400"/>
            <a:ext cx="1093428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007f"/>
                </a:solidFill>
                <a:latin typeface="CordiaUPC"/>
                <a:cs typeface="CordiaUPC"/>
              </a:rPr>
              <a:t>ปัจจัยที่สงสัย         ป่วย               ไม่ป่วย     </a:t>
            </a:r>
            <a:r>
              <a:rPr b="1" lang="en-US" sz="3400" spc="-1" strike="noStrike">
                <a:solidFill>
                  <a:srgbClr val="00007f"/>
                </a:solidFill>
                <a:latin typeface="CordiaUPC"/>
                <a:ea typeface="CordiaUPC"/>
              </a:rPr>
              <a:t>    </a:t>
            </a:r>
            <a:r>
              <a:rPr b="1" lang="en-US" sz="3400" spc="-1" strike="noStrike">
                <a:solidFill>
                  <a:srgbClr val="00007f"/>
                </a:solidFill>
                <a:latin typeface="CordiaUPC"/>
                <a:ea typeface="CordiaUPC"/>
              </a:rPr>
              <a:t>OR       95%CI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7f"/>
                </a:solidFill>
                <a:latin typeface="CordiaUPC"/>
                <a:ea typeface="CordiaUPC"/>
              </a:rPr>
              <a:t>                      </a:t>
            </a:r>
            <a:r>
              <a:rPr b="1" lang="th-TH" sz="3400" spc="-1" strike="noStrike">
                <a:solidFill>
                  <a:srgbClr val="00007f"/>
                </a:solidFill>
                <a:latin typeface="CordiaUPC"/>
                <a:cs typeface="CordiaUPC"/>
              </a:rPr>
              <a:t>กิน      ไม่กิน    กิน      ไม่กิน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7f"/>
                </a:solidFill>
                <a:latin typeface="CordiaUPC"/>
                <a:ea typeface="CordiaUPC"/>
              </a:rPr>
              <a:t>1.</a:t>
            </a:r>
            <a:r>
              <a:rPr b="1" lang="th-TH" sz="3400" spc="-1" strike="noStrike">
                <a:solidFill>
                  <a:srgbClr val="00007f"/>
                </a:solidFill>
                <a:latin typeface="CordiaUPC"/>
                <a:ea typeface="CordiaUPC"/>
              </a:rPr>
              <a:t>                   </a:t>
            </a:r>
            <a:r>
              <a:rPr b="1" lang="en-US" sz="3400" spc="-1" strike="noStrike">
                <a:solidFill>
                  <a:srgbClr val="00007f"/>
                </a:solidFill>
                <a:latin typeface="CordiaUPC"/>
                <a:ea typeface="CordiaUPC"/>
              </a:rPr>
              <a:t>……     ……..   ……     …….     ……    ………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7f"/>
                </a:solidFill>
                <a:latin typeface="CordiaUPC"/>
                <a:ea typeface="CordiaUPC"/>
              </a:rPr>
              <a:t>2.</a:t>
            </a:r>
            <a:r>
              <a:rPr b="1" lang="th-TH" sz="3400" spc="-1" strike="noStrike">
                <a:solidFill>
                  <a:srgbClr val="00007f"/>
                </a:solidFill>
                <a:latin typeface="CordiaUPC"/>
                <a:ea typeface="CordiaUPC"/>
              </a:rPr>
              <a:t> </a:t>
            </a:r>
            <a:r>
              <a:rPr b="1" lang="en-US" sz="3400" spc="-1" strike="noStrike">
                <a:solidFill>
                  <a:srgbClr val="00007f"/>
                </a:solidFill>
                <a:latin typeface="CordiaUPC"/>
                <a:ea typeface="CordiaUPC"/>
              </a:rPr>
              <a:t>                  </a:t>
            </a:r>
            <a:r>
              <a:rPr b="1" lang="en-US" sz="2400" spc="-1" strike="noStrike">
                <a:solidFill>
                  <a:srgbClr val="00007f"/>
                </a:solidFill>
                <a:latin typeface="Times New Roman"/>
              </a:rPr>
              <a:t>……      ……..   ……      …….      ……    …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WordArt 6"/>
          <p:cNvSpPr txBox="1"/>
          <p:nvPr/>
        </p:nvSpPr>
        <p:spPr>
          <a:xfrm>
            <a:off x="1944720" y="200160"/>
            <a:ext cx="46083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6a"/>
                </a:solidFill>
                <a:latin typeface="CordiaUPC"/>
              </a:rPr>
              <a:t>ผลการศึกษา</a:t>
            </a: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6a"/>
                </a:solidFill>
                <a:latin typeface="CordiaUPC"/>
              </a:rPr>
              <a:t>/</a:t>
            </a:r>
            <a:r>
              <a:rPr b="0" lang="hi-IN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6a"/>
                </a:solidFill>
                <a:latin typeface="CordiaUPC"/>
              </a:rPr>
              <a:t>สอบสวน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6a"/>
              </a:solidFill>
              <a:latin typeface="CordiaUPC"/>
              <a:ea typeface="CordiaUPC"/>
            </a:endParaRPr>
          </a:p>
        </p:txBody>
      </p:sp>
      <p:sp>
        <p:nvSpPr>
          <p:cNvPr id="800" name="Line 7"/>
          <p:cNvSpPr/>
          <p:nvPr/>
        </p:nvSpPr>
        <p:spPr>
          <a:xfrm>
            <a:off x="152280" y="3124080"/>
            <a:ext cx="876312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Line 8"/>
          <p:cNvSpPr/>
          <p:nvPr/>
        </p:nvSpPr>
        <p:spPr>
          <a:xfrm>
            <a:off x="152280" y="4267080"/>
            <a:ext cx="876312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Line 9"/>
          <p:cNvSpPr/>
          <p:nvPr/>
        </p:nvSpPr>
        <p:spPr>
          <a:xfrm>
            <a:off x="152280" y="6095880"/>
            <a:ext cx="876312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Line 10"/>
          <p:cNvSpPr/>
          <p:nvPr/>
        </p:nvSpPr>
        <p:spPr>
          <a:xfrm>
            <a:off x="2743200" y="3733920"/>
            <a:ext cx="12952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Line 11"/>
          <p:cNvSpPr/>
          <p:nvPr/>
        </p:nvSpPr>
        <p:spPr>
          <a:xfrm>
            <a:off x="4952880" y="3733920"/>
            <a:ext cx="129564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Line 11"/>
          <p:cNvSpPr/>
          <p:nvPr/>
        </p:nvSpPr>
        <p:spPr>
          <a:xfrm>
            <a:off x="3519360" y="223848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AutoShape 25"/>
          <p:cNvSpPr/>
          <p:nvPr/>
        </p:nvSpPr>
        <p:spPr>
          <a:xfrm>
            <a:off x="2986200" y="3583080"/>
            <a:ext cx="106668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Line 5"/>
          <p:cNvSpPr/>
          <p:nvPr/>
        </p:nvSpPr>
        <p:spPr>
          <a:xfrm>
            <a:off x="1405080" y="1905120"/>
            <a:ext cx="6324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Line 6"/>
          <p:cNvSpPr/>
          <p:nvPr/>
        </p:nvSpPr>
        <p:spPr>
          <a:xfrm>
            <a:off x="1405080" y="2238480"/>
            <a:ext cx="0" cy="304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Line 7"/>
          <p:cNvSpPr/>
          <p:nvPr/>
        </p:nvSpPr>
        <p:spPr>
          <a:xfrm>
            <a:off x="5851440" y="223056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Text Box 8"/>
          <p:cNvSpPr/>
          <p:nvPr/>
        </p:nvSpPr>
        <p:spPr>
          <a:xfrm>
            <a:off x="452520" y="2575080"/>
            <a:ext cx="1904760" cy="137376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</a:rPr>
              <a:t>ผลการศึกษาทางระบาดวิทย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Text Box 9"/>
          <p:cNvSpPr/>
          <p:nvPr/>
        </p:nvSpPr>
        <p:spPr>
          <a:xfrm>
            <a:off x="2567160" y="2639880"/>
            <a:ext cx="1904760" cy="180036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ngsana New"/>
              </a:rPr>
              <a:t>ผลการตรวจทางห้องปฏิบัติกา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Text Box 10"/>
          <p:cNvSpPr/>
          <p:nvPr/>
        </p:nvSpPr>
        <p:spPr>
          <a:xfrm>
            <a:off x="4818240" y="2644920"/>
            <a:ext cx="1904760" cy="1800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</a:rPr>
              <a:t>ผลการศึกษาทางสภาพแวดล้อ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Rectangle 12"/>
          <p:cNvSpPr/>
          <p:nvPr/>
        </p:nvSpPr>
        <p:spPr>
          <a:xfrm>
            <a:off x="1177920" y="1905120"/>
            <a:ext cx="45720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Rectangle 14"/>
          <p:cNvSpPr/>
          <p:nvPr/>
        </p:nvSpPr>
        <p:spPr>
          <a:xfrm>
            <a:off x="3290760" y="1933560"/>
            <a:ext cx="457200" cy="30492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Rectangle 15"/>
          <p:cNvSpPr/>
          <p:nvPr/>
        </p:nvSpPr>
        <p:spPr>
          <a:xfrm>
            <a:off x="5627520" y="1930320"/>
            <a:ext cx="45720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Rectangle 18"/>
          <p:cNvSpPr/>
          <p:nvPr/>
        </p:nvSpPr>
        <p:spPr>
          <a:xfrm>
            <a:off x="7451640" y="1933560"/>
            <a:ext cx="45720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Line 20"/>
          <p:cNvSpPr/>
          <p:nvPr/>
        </p:nvSpPr>
        <p:spPr>
          <a:xfrm>
            <a:off x="7721640" y="223848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Text Box 21"/>
          <p:cNvSpPr/>
          <p:nvPr/>
        </p:nvSpPr>
        <p:spPr>
          <a:xfrm>
            <a:off x="6827760" y="2701800"/>
            <a:ext cx="1905120" cy="8280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</a:rPr>
              <a:t>ผลการเฝ้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</a:rPr>
              <a:t>ระวังโร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Line 22"/>
          <p:cNvSpPr/>
          <p:nvPr/>
        </p:nvSpPr>
        <p:spPr>
          <a:xfrm>
            <a:off x="4307040" y="171144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AutoShape 24"/>
          <p:cNvSpPr/>
          <p:nvPr/>
        </p:nvSpPr>
        <p:spPr>
          <a:xfrm>
            <a:off x="1155600" y="4349880"/>
            <a:ext cx="7391520" cy="2279520"/>
          </a:xfrm>
          <a:prstGeom prst="roundRect">
            <a:avLst>
              <a:gd name="adj" fmla="val 16667"/>
            </a:avLst>
          </a:prstGeom>
          <a:solidFill>
            <a:srgbClr val="ff00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Rectangle 26"/>
          <p:cNvSpPr/>
          <p:nvPr/>
        </p:nvSpPr>
        <p:spPr>
          <a:xfrm>
            <a:off x="1471680" y="4641840"/>
            <a:ext cx="739116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CordiaUPC"/>
                <a:ea typeface="CordiaUPC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CordiaUPC"/>
                <a:cs typeface="CordiaUPC"/>
              </a:rPr>
              <a:t>เก็บตัวอย่างในคนและสิ่งแวดล้อม เก็บอะไรบ้างจำนวนเท่าไหร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CordiaUPC"/>
                <a:ea typeface="CordiaUPC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CordiaUPC"/>
                <a:cs typeface="CordiaUPC"/>
              </a:rPr>
              <a:t>วิธีที่ตรว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Angsana New"/>
                <a:ea typeface="BrowalliaUPC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CordiaUPC"/>
                <a:cs typeface="CordiaUPC"/>
              </a:rPr>
              <a:t>สถานที่ส่งตรว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CordiaUP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CordiaUPC"/>
                <a:ea typeface="CordiaUPC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CordiaUPC"/>
                <a:cs typeface="CordiaUPC"/>
              </a:rPr>
              <a:t>ผลการตรวจที่ได้  แสดงสัดส่วนการตรวจพบเชื้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Text Box 30"/>
          <p:cNvSpPr/>
          <p:nvPr/>
        </p:nvSpPr>
        <p:spPr>
          <a:xfrm>
            <a:off x="1252440" y="18032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Text Box 31"/>
          <p:cNvSpPr/>
          <p:nvPr/>
        </p:nvSpPr>
        <p:spPr>
          <a:xfrm>
            <a:off x="5699160" y="1820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ngsana New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Text Box 32"/>
          <p:cNvSpPr/>
          <p:nvPr/>
        </p:nvSpPr>
        <p:spPr>
          <a:xfrm>
            <a:off x="3405240" y="18572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ngsana New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Text Box 33"/>
          <p:cNvSpPr/>
          <p:nvPr/>
        </p:nvSpPr>
        <p:spPr>
          <a:xfrm>
            <a:off x="752796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ngsana New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6" name="Group 35"/>
          <p:cNvGrpSpPr/>
          <p:nvPr/>
        </p:nvGrpSpPr>
        <p:grpSpPr>
          <a:xfrm>
            <a:off x="2630520" y="797040"/>
            <a:ext cx="3352680" cy="914400"/>
            <a:chOff x="2630520" y="797040"/>
            <a:chExt cx="3352680" cy="914400"/>
          </a:xfrm>
        </p:grpSpPr>
        <p:sp>
          <p:nvSpPr>
            <p:cNvPr id="827" name="AutoShape 36"/>
            <p:cNvSpPr/>
            <p:nvPr/>
          </p:nvSpPr>
          <p:spPr>
            <a:xfrm>
              <a:off x="2630520" y="797040"/>
              <a:ext cx="3352680" cy="914400"/>
            </a:xfrm>
            <a:custGeom>
              <a:avLst/>
              <a:gdLst>
                <a:gd name="textAreaLeft" fmla="*/ 765360 w 3352680"/>
                <a:gd name="textAreaRight" fmla="*/ 2587320 w 335268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000" spc="-1" strike="noStrike">
                  <a:solidFill>
                    <a:srgbClr val="ffffff"/>
                  </a:solidFill>
                  <a:latin typeface="Times New Roman"/>
                </a:rPr>
                <a:t>ผลการศึกษา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Text Box 37"/>
            <p:cNvSpPr/>
            <p:nvPr/>
          </p:nvSpPr>
          <p:spPr>
            <a:xfrm>
              <a:off x="3087360" y="873360"/>
              <a:ext cx="2514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9" name="Text Box 41"/>
          <p:cNvSpPr/>
          <p:nvPr/>
        </p:nvSpPr>
        <p:spPr>
          <a:xfrm>
            <a:off x="609480" y="109440"/>
            <a:ext cx="7925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งค์ประกอบและวิธีการเขียนรายงาน ฉบับสมบูรณ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AutoShape 3"/>
          <p:cNvSpPr/>
          <p:nvPr/>
        </p:nvSpPr>
        <p:spPr>
          <a:xfrm>
            <a:off x="4846680" y="3772080"/>
            <a:ext cx="106668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AutoShape 4"/>
          <p:cNvSpPr/>
          <p:nvPr/>
        </p:nvSpPr>
        <p:spPr>
          <a:xfrm>
            <a:off x="990720" y="4610160"/>
            <a:ext cx="7391160" cy="1828800"/>
          </a:xfrm>
          <a:prstGeom prst="roundRect">
            <a:avLst>
              <a:gd name="adj" fmla="val 16667"/>
            </a:avLst>
          </a:prstGeom>
          <a:solidFill>
            <a:srgbClr val="ff00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25"/>
          <p:cNvSpPr/>
          <p:nvPr/>
        </p:nvSpPr>
        <p:spPr>
          <a:xfrm>
            <a:off x="3165480" y="2495520"/>
            <a:ext cx="0" cy="609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Line 28"/>
          <p:cNvSpPr/>
          <p:nvPr/>
        </p:nvSpPr>
        <p:spPr>
          <a:xfrm>
            <a:off x="1266840" y="2209680"/>
            <a:ext cx="6324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Line 29"/>
          <p:cNvSpPr/>
          <p:nvPr/>
        </p:nvSpPr>
        <p:spPr>
          <a:xfrm>
            <a:off x="1219320" y="25146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Line 30"/>
          <p:cNvSpPr/>
          <p:nvPr/>
        </p:nvSpPr>
        <p:spPr>
          <a:xfrm>
            <a:off x="5319720" y="242568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Text Box 31"/>
          <p:cNvSpPr/>
          <p:nvPr/>
        </p:nvSpPr>
        <p:spPr>
          <a:xfrm>
            <a:off x="247680" y="2827440"/>
            <a:ext cx="1905120" cy="137376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</a:rPr>
              <a:t>ผลการศึกษาทางระบาดวิทย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Text Box 32"/>
          <p:cNvSpPr/>
          <p:nvPr/>
        </p:nvSpPr>
        <p:spPr>
          <a:xfrm>
            <a:off x="2295360" y="2789280"/>
            <a:ext cx="1905120" cy="1800360"/>
          </a:xfrm>
          <a:prstGeom prst="rect">
            <a:avLst/>
          </a:prstGeom>
          <a:solidFill>
            <a:srgbClr val="ff9966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</a:rPr>
              <a:t>ผลการตรวจทางห้องปฏิบัติกา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Text Box 33"/>
          <p:cNvSpPr/>
          <p:nvPr/>
        </p:nvSpPr>
        <p:spPr>
          <a:xfrm>
            <a:off x="4389480" y="2793960"/>
            <a:ext cx="1905120" cy="180036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ngsana New"/>
              </a:rPr>
              <a:t>ผลการศึกษาทางสภาพแวดล้อ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Rectangle 34"/>
          <p:cNvSpPr/>
          <p:nvPr/>
        </p:nvSpPr>
        <p:spPr>
          <a:xfrm>
            <a:off x="990720" y="2246400"/>
            <a:ext cx="45720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Rectangle 36"/>
          <p:cNvSpPr/>
          <p:nvPr/>
        </p:nvSpPr>
        <p:spPr>
          <a:xfrm>
            <a:off x="2914560" y="2244600"/>
            <a:ext cx="45720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Rectangle 37"/>
          <p:cNvSpPr/>
          <p:nvPr/>
        </p:nvSpPr>
        <p:spPr>
          <a:xfrm>
            <a:off x="5072040" y="2228760"/>
            <a:ext cx="457200" cy="30492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Rectangle 40"/>
          <p:cNvSpPr/>
          <p:nvPr/>
        </p:nvSpPr>
        <p:spPr>
          <a:xfrm>
            <a:off x="7454880" y="2203560"/>
            <a:ext cx="45720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Line 42"/>
          <p:cNvSpPr/>
          <p:nvPr/>
        </p:nvSpPr>
        <p:spPr>
          <a:xfrm>
            <a:off x="7696080" y="249552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Text Box 43"/>
          <p:cNvSpPr/>
          <p:nvPr/>
        </p:nvSpPr>
        <p:spPr>
          <a:xfrm>
            <a:off x="6724800" y="2954160"/>
            <a:ext cx="1904760" cy="8280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</a:rPr>
              <a:t>ผลการเฝ้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</a:rPr>
              <a:t>ระวังโร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Line 44"/>
          <p:cNvSpPr/>
          <p:nvPr/>
        </p:nvSpPr>
        <p:spPr>
          <a:xfrm>
            <a:off x="4599000" y="198108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Rectangle 46"/>
          <p:cNvSpPr/>
          <p:nvPr/>
        </p:nvSpPr>
        <p:spPr>
          <a:xfrm>
            <a:off x="1874880" y="4846680"/>
            <a:ext cx="70102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ngsana New"/>
              </a:rPr>
              <a:t>อธิบายสิ่งแวดล้อมที่เกี่ยวข้องกับการเกิดโรค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สภาพโรงครัว            แหล่งน้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ส้วม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                  กรรมวิธีการปรุงอาหา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Text Box 50"/>
          <p:cNvSpPr/>
          <p:nvPr/>
        </p:nvSpPr>
        <p:spPr>
          <a:xfrm>
            <a:off x="1066680" y="2170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Text Box 51"/>
          <p:cNvSpPr/>
          <p:nvPr/>
        </p:nvSpPr>
        <p:spPr>
          <a:xfrm>
            <a:off x="5151600" y="21398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ngsana New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Text Box 52"/>
          <p:cNvSpPr/>
          <p:nvPr/>
        </p:nvSpPr>
        <p:spPr>
          <a:xfrm>
            <a:off x="3019320" y="21272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ngsana New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Text Box 53"/>
          <p:cNvSpPr/>
          <p:nvPr/>
        </p:nvSpPr>
        <p:spPr>
          <a:xfrm>
            <a:off x="7543800" y="21272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ngsana New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1" name="Group 55"/>
          <p:cNvGrpSpPr/>
          <p:nvPr/>
        </p:nvGrpSpPr>
        <p:grpSpPr>
          <a:xfrm>
            <a:off x="2941560" y="1057320"/>
            <a:ext cx="3353040" cy="914400"/>
            <a:chOff x="2941560" y="1057320"/>
            <a:chExt cx="3353040" cy="914400"/>
          </a:xfrm>
        </p:grpSpPr>
        <p:sp>
          <p:nvSpPr>
            <p:cNvPr id="852" name="AutoShape 56"/>
            <p:cNvSpPr/>
            <p:nvPr/>
          </p:nvSpPr>
          <p:spPr>
            <a:xfrm>
              <a:off x="2941560" y="1057320"/>
              <a:ext cx="3353040" cy="914400"/>
            </a:xfrm>
            <a:custGeom>
              <a:avLst/>
              <a:gdLst>
                <a:gd name="textAreaLeft" fmla="*/ 765360 w 3353040"/>
                <a:gd name="textAreaRight" fmla="*/ 2587680 w 335304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000" spc="-1" strike="noStrike">
                  <a:solidFill>
                    <a:srgbClr val="ffffff"/>
                  </a:solidFill>
                  <a:latin typeface="Times New Roman"/>
                </a:rPr>
                <a:t>ผลการศึกษา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Text Box 57"/>
            <p:cNvSpPr/>
            <p:nvPr/>
          </p:nvSpPr>
          <p:spPr>
            <a:xfrm>
              <a:off x="3398760" y="1133640"/>
              <a:ext cx="2514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4" name="Text Box 61"/>
          <p:cNvSpPr/>
          <p:nvPr/>
        </p:nvSpPr>
        <p:spPr>
          <a:xfrm>
            <a:off x="752400" y="81000"/>
            <a:ext cx="7925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งค์ประกอบและวิธีการเขียนรายงาน ฉบับสมบูรณ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AutoShape 3"/>
          <p:cNvSpPr/>
          <p:nvPr/>
        </p:nvSpPr>
        <p:spPr>
          <a:xfrm>
            <a:off x="7281720" y="3857760"/>
            <a:ext cx="106704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203480" y="4702320"/>
            <a:ext cx="7391160" cy="1218960"/>
          </a:xfrm>
          <a:prstGeom prst="roundRect">
            <a:avLst>
              <a:gd name="adj" fmla="val 16667"/>
            </a:avLst>
          </a:prstGeom>
          <a:solidFill>
            <a:srgbClr val="ff00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Line 5"/>
          <p:cNvSpPr/>
          <p:nvPr/>
        </p:nvSpPr>
        <p:spPr>
          <a:xfrm>
            <a:off x="3556080" y="2438280"/>
            <a:ext cx="0" cy="609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Line 8"/>
          <p:cNvSpPr/>
          <p:nvPr/>
        </p:nvSpPr>
        <p:spPr>
          <a:xfrm>
            <a:off x="1346040" y="2143080"/>
            <a:ext cx="63248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Line 9"/>
          <p:cNvSpPr/>
          <p:nvPr/>
        </p:nvSpPr>
        <p:spPr>
          <a:xfrm>
            <a:off x="1355760" y="2521080"/>
            <a:ext cx="0" cy="304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Line 10"/>
          <p:cNvSpPr/>
          <p:nvPr/>
        </p:nvSpPr>
        <p:spPr>
          <a:xfrm>
            <a:off x="5686560" y="246852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Text Box 11"/>
          <p:cNvSpPr/>
          <p:nvPr/>
        </p:nvSpPr>
        <p:spPr>
          <a:xfrm>
            <a:off x="361800" y="2846520"/>
            <a:ext cx="1905120" cy="137376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</a:rPr>
              <a:t>ผลการศึกษาทางระบาดวิทย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Text Box 12"/>
          <p:cNvSpPr/>
          <p:nvPr/>
        </p:nvSpPr>
        <p:spPr>
          <a:xfrm>
            <a:off x="2589120" y="3036960"/>
            <a:ext cx="1905120" cy="1800360"/>
          </a:xfrm>
          <a:prstGeom prst="rect">
            <a:avLst/>
          </a:prstGeom>
          <a:solidFill>
            <a:srgbClr val="ff9966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</a:rPr>
              <a:t>ผลการตรวจทางห้องปฏิบัติกา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Text Box 13"/>
          <p:cNvSpPr/>
          <p:nvPr/>
        </p:nvSpPr>
        <p:spPr>
          <a:xfrm>
            <a:off x="4734000" y="2997360"/>
            <a:ext cx="1904760" cy="1800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ngsana New"/>
              </a:rPr>
              <a:t>ผลการศึกษาทางสภาพแวดล้อ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Rectangle 14"/>
          <p:cNvSpPr/>
          <p:nvPr/>
        </p:nvSpPr>
        <p:spPr>
          <a:xfrm>
            <a:off x="1117440" y="2166840"/>
            <a:ext cx="45720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Rectangle 16"/>
          <p:cNvSpPr/>
          <p:nvPr/>
        </p:nvSpPr>
        <p:spPr>
          <a:xfrm>
            <a:off x="3327480" y="2163600"/>
            <a:ext cx="45720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Rectangle 17"/>
          <p:cNvSpPr/>
          <p:nvPr/>
        </p:nvSpPr>
        <p:spPr>
          <a:xfrm>
            <a:off x="5457960" y="2190600"/>
            <a:ext cx="457200" cy="304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Rectangle 20"/>
          <p:cNvSpPr/>
          <p:nvPr/>
        </p:nvSpPr>
        <p:spPr>
          <a:xfrm>
            <a:off x="7547040" y="2152800"/>
            <a:ext cx="457200" cy="30456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Line 22"/>
          <p:cNvSpPr/>
          <p:nvPr/>
        </p:nvSpPr>
        <p:spPr>
          <a:xfrm>
            <a:off x="7799400" y="2457360"/>
            <a:ext cx="0" cy="1143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Text Box 23"/>
          <p:cNvSpPr/>
          <p:nvPr/>
        </p:nvSpPr>
        <p:spPr>
          <a:xfrm>
            <a:off x="6823080" y="3029040"/>
            <a:ext cx="1905120" cy="828000"/>
          </a:xfrm>
          <a:prstGeom prst="rect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ngsana New"/>
              </a:rPr>
              <a:t>ผลการเฝ้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ngsana New"/>
              </a:rPr>
              <a:t>ระวังโร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Line 24"/>
          <p:cNvSpPr/>
          <p:nvPr/>
        </p:nvSpPr>
        <p:spPr>
          <a:xfrm>
            <a:off x="4508640" y="191448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Rectangle 26"/>
          <p:cNvSpPr/>
          <p:nvPr/>
        </p:nvSpPr>
        <p:spPr>
          <a:xfrm>
            <a:off x="1574640" y="4795920"/>
            <a:ext cx="70866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CordiaUPC"/>
                <a:cs typeface="CordiaUPC"/>
              </a:rPr>
              <a:t>อธิบายผลการเฝ้าระวังโรคหลังวันเริ่มป่วยของผู้ป่วยรายสุดท้าย  จนครบ </a:t>
            </a:r>
            <a:r>
              <a:rPr b="1" lang="en-US" sz="2400" spc="-1" strike="noStrike">
                <a:solidFill>
                  <a:srgbClr val="ffffff"/>
                </a:solidFill>
                <a:latin typeface="CordiaUPC"/>
                <a:ea typeface="CordiaUPC"/>
              </a:rPr>
              <a:t>2 </a:t>
            </a:r>
            <a:r>
              <a:rPr b="1" lang="th-TH" sz="2400" spc="-1" strike="noStrike">
                <a:solidFill>
                  <a:srgbClr val="ffffff"/>
                </a:solidFill>
                <a:latin typeface="CordiaUPC"/>
                <a:cs typeface="CordiaUPC"/>
              </a:rPr>
              <a:t>เท่าของระยะฟํกตัวของโรคในวันที่เท่าไหร่  ผลเป็นอย่างไร  มีผู้ป่วยรายใหม่หรือไม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Text Box 30"/>
          <p:cNvSpPr/>
          <p:nvPr/>
        </p:nvSpPr>
        <p:spPr>
          <a:xfrm>
            <a:off x="1203480" y="20908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gsana New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Text Box 31"/>
          <p:cNvSpPr/>
          <p:nvPr/>
        </p:nvSpPr>
        <p:spPr>
          <a:xfrm>
            <a:off x="5537160" y="21002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ngsana New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Text Box 32"/>
          <p:cNvSpPr/>
          <p:nvPr/>
        </p:nvSpPr>
        <p:spPr>
          <a:xfrm>
            <a:off x="3403440" y="21002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Angsana New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Text Box 33"/>
          <p:cNvSpPr/>
          <p:nvPr/>
        </p:nvSpPr>
        <p:spPr>
          <a:xfrm>
            <a:off x="7642080" y="20876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ngsana New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6" name="Group 35"/>
          <p:cNvGrpSpPr/>
          <p:nvPr/>
        </p:nvGrpSpPr>
        <p:grpSpPr>
          <a:xfrm>
            <a:off x="2832120" y="1000080"/>
            <a:ext cx="3352680" cy="914400"/>
            <a:chOff x="2832120" y="1000080"/>
            <a:chExt cx="3352680" cy="914400"/>
          </a:xfrm>
        </p:grpSpPr>
        <p:sp>
          <p:nvSpPr>
            <p:cNvPr id="877" name="AutoShape 36"/>
            <p:cNvSpPr/>
            <p:nvPr/>
          </p:nvSpPr>
          <p:spPr>
            <a:xfrm>
              <a:off x="2832120" y="1000080"/>
              <a:ext cx="3352680" cy="914400"/>
            </a:xfrm>
            <a:custGeom>
              <a:avLst/>
              <a:gdLst>
                <a:gd name="textAreaLeft" fmla="*/ 765360 w 3352680"/>
                <a:gd name="textAreaRight" fmla="*/ 2587320 w 335268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000" spc="-1" strike="noStrike">
                  <a:solidFill>
                    <a:srgbClr val="ffffff"/>
                  </a:solidFill>
                  <a:latin typeface="Times New Roman"/>
                </a:rPr>
                <a:t>ผลการศึกษา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Text Box 37"/>
            <p:cNvSpPr/>
            <p:nvPr/>
          </p:nvSpPr>
          <p:spPr>
            <a:xfrm>
              <a:off x="3288960" y="1076400"/>
              <a:ext cx="2514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9" name="Text Box 41"/>
          <p:cNvSpPr/>
          <p:nvPr/>
        </p:nvSpPr>
        <p:spPr>
          <a:xfrm>
            <a:off x="669960" y="44280"/>
            <a:ext cx="79246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งค์ประกอบและวิธีการเขียนรายงาน ฉบับสมบูรณ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054160" y="203040"/>
            <a:ext cx="4749840" cy="922320"/>
          </a:xfrm>
          <a:prstGeom prst="rect">
            <a:avLst/>
          </a:prstGeom>
          <a:solidFill>
            <a:srgbClr val="ff0000"/>
          </a:solidFill>
          <a:ln w="28440">
            <a:solidFill>
              <a:srgbClr val="ffff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CordiaUPC"/>
                <a:cs typeface="CordiaUPC"/>
              </a:rPr>
              <a:t>ผลการศึกษา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77708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901"/>
              </a:spcBef>
              <a:buClr>
                <a:srgbClr val="b3d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7f"/>
                </a:solidFill>
                <a:latin typeface="CordiaUPC"/>
                <a:cs typeface="CordiaUPC"/>
              </a:rPr>
              <a:t>เสนอผลตามลำดับเหตุการณ์ในวิธีการศึกษ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Rectangle 5"/>
          <p:cNvSpPr/>
          <p:nvPr/>
        </p:nvSpPr>
        <p:spPr>
          <a:xfrm>
            <a:off x="755640" y="2060640"/>
            <a:ext cx="784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3d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7f"/>
                </a:solidFill>
                <a:latin typeface="CordiaUPC"/>
                <a:cs typeface="CordiaUPC"/>
              </a:rPr>
              <a:t>เสนอเฉพาะผลที่สำคัญ  ไม่จำเป็นต้องมีรายละเอียดเล็กๆ  น้อยๆ  ทุกอย่า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Rectangle 6"/>
          <p:cNvSpPr/>
          <p:nvPr/>
        </p:nvSpPr>
        <p:spPr>
          <a:xfrm>
            <a:off x="755640" y="3213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b3d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7f"/>
                </a:solidFill>
                <a:latin typeface="CordiaUPC"/>
                <a:cs typeface="CordiaUPC"/>
              </a:rPr>
              <a:t>ถ้ามีตาราง  กราฟ  หรือรูปภาพ  ต้องใส่หมายเลข กำกับ  และเรียงตามเหตุการณ์ในเนื้อเรื่อ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Rectangle 7"/>
          <p:cNvSpPr/>
          <p:nvPr/>
        </p:nvSpPr>
        <p:spPr>
          <a:xfrm>
            <a:off x="755640" y="5491080"/>
            <a:ext cx="82296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3d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7f"/>
                </a:solidFill>
                <a:latin typeface="CordiaUPC"/>
                <a:cs typeface="CordiaUPC"/>
              </a:rPr>
              <a:t>ถ้าเสนอตารางแล้ว  ไม่จำเป็นต้องลอกข้อมูลในตารางลงไป ในเนื้อเรื่องอี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Rectangle 8"/>
          <p:cNvSpPr/>
          <p:nvPr/>
        </p:nvSpPr>
        <p:spPr>
          <a:xfrm>
            <a:off x="755640" y="4365720"/>
            <a:ext cx="7620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b3d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7f"/>
                </a:solidFill>
                <a:latin typeface="CordiaUPC"/>
                <a:cs typeface="CordiaUPC"/>
              </a:rPr>
              <a:t>จำนวนตาราง  กราฟ  และรูปภาพ  จะได้สูงสุดเท่าไร  ขึ้นกับวารสารแต่ละฉบั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5" dur="1" fill="hold"/>
                                  <p:tgtEl>
                                    <p:spTgt spid="88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AutoShape 2"/>
          <p:cNvSpPr/>
          <p:nvPr/>
        </p:nvSpPr>
        <p:spPr>
          <a:xfrm rot="4515000">
            <a:off x="2897280" y="2928960"/>
            <a:ext cx="304560" cy="2286000"/>
          </a:xfrm>
          <a:prstGeom prst="downArrow">
            <a:avLst>
              <a:gd name="adj1" fmla="val 50000"/>
              <a:gd name="adj2" fmla="val 187648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AutoShape 3"/>
          <p:cNvSpPr/>
          <p:nvPr/>
        </p:nvSpPr>
        <p:spPr>
          <a:xfrm rot="17238600">
            <a:off x="5284440" y="2957040"/>
            <a:ext cx="304920" cy="2286000"/>
          </a:xfrm>
          <a:prstGeom prst="downArrow">
            <a:avLst>
              <a:gd name="adj1" fmla="val 50000"/>
              <a:gd name="adj2" fmla="val 187426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AutoShape 4"/>
          <p:cNvSpPr/>
          <p:nvPr/>
        </p:nvSpPr>
        <p:spPr>
          <a:xfrm>
            <a:off x="4003560" y="371952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9" name="Group 5"/>
          <p:cNvGrpSpPr/>
          <p:nvPr/>
        </p:nvGrpSpPr>
        <p:grpSpPr>
          <a:xfrm>
            <a:off x="1292400" y="2163600"/>
            <a:ext cx="6476400" cy="1786320"/>
            <a:chOff x="1292400" y="2163600"/>
            <a:chExt cx="6476400" cy="1786320"/>
          </a:xfrm>
        </p:grpSpPr>
        <p:sp>
          <p:nvSpPr>
            <p:cNvPr id="890" name="Rectangle 6"/>
            <p:cNvSpPr/>
            <p:nvPr/>
          </p:nvSpPr>
          <p:spPr>
            <a:xfrm>
              <a:off x="1292400" y="2163600"/>
              <a:ext cx="6476400" cy="1523880"/>
            </a:xfrm>
            <a:prstGeom prst="rect">
              <a:avLst/>
            </a:prstGeom>
            <a:noFill/>
            <a:ln cap="sq"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Text Box 7"/>
            <p:cNvSpPr/>
            <p:nvPr/>
          </p:nvSpPr>
          <p:spPr>
            <a:xfrm>
              <a:off x="1566000" y="2432520"/>
              <a:ext cx="5838120" cy="15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Times New Roman"/>
                  <a:ea typeface="BrowalliaUPC"/>
                </a:rPr>
                <a:t>  </a:t>
              </a:r>
              <a:r>
                <a:rPr b="1" lang="th-TH" sz="3200" spc="-1" strike="noStrike">
                  <a:solidFill>
                    <a:srgbClr val="000000"/>
                  </a:solidFill>
                  <a:latin typeface="Times New Roman"/>
                  <a:cs typeface="BrowalliaUPC"/>
                </a:rPr>
                <a:t>เพื่อควบคุมการระบาดที่เกิดขึ้นในขณะนั้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Times New Roman"/>
                  <a:ea typeface="BrowalliaUPC"/>
                </a:rPr>
                <a:t>  </a:t>
              </a:r>
              <a:r>
                <a:rPr b="1" lang="th-TH" sz="3200" spc="-1" strike="noStrike">
                  <a:solidFill>
                    <a:srgbClr val="000000"/>
                  </a:solidFill>
                  <a:latin typeface="Times New Roman"/>
                  <a:cs typeface="BrowalliaUPC"/>
                </a:rPr>
                <a:t>เพื่อป้องกันไม่ให้เกิดผู้ป่วยรายใหม่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2" name="Group 8"/>
          <p:cNvGrpSpPr/>
          <p:nvPr/>
        </p:nvGrpSpPr>
        <p:grpSpPr>
          <a:xfrm>
            <a:off x="573120" y="4484520"/>
            <a:ext cx="2362320" cy="609480"/>
            <a:chOff x="573120" y="4484520"/>
            <a:chExt cx="2362320" cy="609480"/>
          </a:xfrm>
        </p:grpSpPr>
        <p:sp>
          <p:nvSpPr>
            <p:cNvPr id="893" name="AutoShape 9"/>
            <p:cNvSpPr/>
            <p:nvPr/>
          </p:nvSpPr>
          <p:spPr>
            <a:xfrm>
              <a:off x="649440" y="4560480"/>
              <a:ext cx="2286000" cy="5335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AutoShape 10"/>
            <p:cNvSpPr/>
            <p:nvPr/>
          </p:nvSpPr>
          <p:spPr>
            <a:xfrm>
              <a:off x="573120" y="4484520"/>
              <a:ext cx="2286000" cy="533160"/>
            </a:xfrm>
            <a:prstGeom prst="roundRect">
              <a:avLst>
                <a:gd name="adj" fmla="val 16667"/>
              </a:avLst>
            </a:prstGeom>
            <a:solidFill>
              <a:srgbClr val="ff0033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Text Box 11"/>
            <p:cNvSpPr/>
            <p:nvPr/>
          </p:nvSpPr>
          <p:spPr>
            <a:xfrm>
              <a:off x="954360" y="4636800"/>
              <a:ext cx="12952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BrowalliaUPC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BrowalliaUPC"/>
                </a:rPr>
                <a:t>Ag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6" name="Group 12"/>
          <p:cNvGrpSpPr/>
          <p:nvPr/>
        </p:nvGrpSpPr>
        <p:grpSpPr>
          <a:xfrm>
            <a:off x="3127320" y="4510080"/>
            <a:ext cx="2362320" cy="609480"/>
            <a:chOff x="3127320" y="4510080"/>
            <a:chExt cx="2362320" cy="609480"/>
          </a:xfrm>
        </p:grpSpPr>
        <p:sp>
          <p:nvSpPr>
            <p:cNvPr id="897" name="AutoShape 13"/>
            <p:cNvSpPr/>
            <p:nvPr/>
          </p:nvSpPr>
          <p:spPr>
            <a:xfrm>
              <a:off x="3203640" y="4586040"/>
              <a:ext cx="2286000" cy="5335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AutoShape 14"/>
            <p:cNvSpPr/>
            <p:nvPr/>
          </p:nvSpPr>
          <p:spPr>
            <a:xfrm>
              <a:off x="3127320" y="4510080"/>
              <a:ext cx="2286000" cy="533160"/>
            </a:xfrm>
            <a:prstGeom prst="roundRect">
              <a:avLst>
                <a:gd name="adj" fmla="val 16667"/>
              </a:avLst>
            </a:prstGeom>
            <a:solidFill>
              <a:srgbClr val="ff0033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Text Box 15"/>
            <p:cNvSpPr/>
            <p:nvPr/>
          </p:nvSpPr>
          <p:spPr>
            <a:xfrm>
              <a:off x="3813120" y="4662360"/>
              <a:ext cx="9907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BrowalliaUPC"/>
                </a:rPr>
                <a:t>Ho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0" name="Group 16"/>
          <p:cNvGrpSpPr/>
          <p:nvPr/>
        </p:nvGrpSpPr>
        <p:grpSpPr>
          <a:xfrm>
            <a:off x="5821200" y="4522680"/>
            <a:ext cx="2361960" cy="609480"/>
            <a:chOff x="5821200" y="4522680"/>
            <a:chExt cx="2361960" cy="609480"/>
          </a:xfrm>
        </p:grpSpPr>
        <p:sp>
          <p:nvSpPr>
            <p:cNvPr id="901" name="AutoShape 17"/>
            <p:cNvSpPr/>
            <p:nvPr/>
          </p:nvSpPr>
          <p:spPr>
            <a:xfrm>
              <a:off x="5897160" y="4598640"/>
              <a:ext cx="2286000" cy="5335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AutoShape 18"/>
            <p:cNvSpPr/>
            <p:nvPr/>
          </p:nvSpPr>
          <p:spPr>
            <a:xfrm>
              <a:off x="5821200" y="4522680"/>
              <a:ext cx="2286000" cy="533160"/>
            </a:xfrm>
            <a:prstGeom prst="roundRect">
              <a:avLst>
                <a:gd name="adj" fmla="val 16667"/>
              </a:avLst>
            </a:prstGeom>
            <a:solidFill>
              <a:srgbClr val="ff0033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Text Box 19"/>
            <p:cNvSpPr/>
            <p:nvPr/>
          </p:nvSpPr>
          <p:spPr>
            <a:xfrm>
              <a:off x="5973480" y="4674960"/>
              <a:ext cx="1981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BrowalliaUPC"/>
                </a:rPr>
                <a:t>Enviro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4" name="Group 27"/>
          <p:cNvGrpSpPr/>
          <p:nvPr/>
        </p:nvGrpSpPr>
        <p:grpSpPr>
          <a:xfrm>
            <a:off x="1674720" y="1015920"/>
            <a:ext cx="5790960" cy="1053360"/>
            <a:chOff x="1674720" y="1015920"/>
            <a:chExt cx="5790960" cy="1053360"/>
          </a:xfrm>
        </p:grpSpPr>
        <p:sp>
          <p:nvSpPr>
            <p:cNvPr id="905" name="Rectangle 28"/>
            <p:cNvSpPr/>
            <p:nvPr/>
          </p:nvSpPr>
          <p:spPr>
            <a:xfrm>
              <a:off x="1779480" y="1092240"/>
              <a:ext cx="5686200" cy="76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Rectangle 29"/>
            <p:cNvSpPr/>
            <p:nvPr/>
          </p:nvSpPr>
          <p:spPr>
            <a:xfrm>
              <a:off x="1674720" y="1015920"/>
              <a:ext cx="5686200" cy="76212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Text Box 30"/>
            <p:cNvSpPr/>
            <p:nvPr/>
          </p:nvSpPr>
          <p:spPr>
            <a:xfrm>
              <a:off x="1990440" y="1244520"/>
              <a:ext cx="5264640" cy="82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000" spc="-1" strike="noStrike">
                  <a:solidFill>
                    <a:srgbClr val="ffff00"/>
                  </a:solidFill>
                  <a:latin typeface="Times New Roman"/>
                  <a:cs typeface="BrowalliaUPC"/>
                </a:rPr>
                <a:t>มาตรการควบคุมและป้องกันโรค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8" name="Text Box 31"/>
          <p:cNvSpPr/>
          <p:nvPr/>
        </p:nvSpPr>
        <p:spPr>
          <a:xfrm>
            <a:off x="555480" y="0"/>
            <a:ext cx="7925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งค์ประกอบและวิธีการเขียนรายงาน ฉบับสมบูรณ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Object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7162920" cy="5181840"/>
          </a:xfrm>
          <a:prstGeom prst="rect">
            <a:avLst/>
          </a:prstGeom>
          <a:ln w="0">
            <a:noFill/>
          </a:ln>
        </p:spPr>
      </p:pic>
      <p:grpSp>
        <p:nvGrpSpPr>
          <p:cNvPr id="579" name="Group 8"/>
          <p:cNvGrpSpPr/>
          <p:nvPr/>
        </p:nvGrpSpPr>
        <p:grpSpPr>
          <a:xfrm>
            <a:off x="1295280" y="152280"/>
            <a:ext cx="3276720" cy="1556280"/>
            <a:chOff x="1295280" y="152280"/>
            <a:chExt cx="3276720" cy="1556280"/>
          </a:xfrm>
        </p:grpSpPr>
        <p:sp>
          <p:nvSpPr>
            <p:cNvPr id="580" name="Rectangle 7"/>
            <p:cNvSpPr/>
            <p:nvPr/>
          </p:nvSpPr>
          <p:spPr>
            <a:xfrm>
              <a:off x="1371600" y="228600"/>
              <a:ext cx="3200400" cy="83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Text Box 4"/>
            <p:cNvSpPr/>
            <p:nvPr/>
          </p:nvSpPr>
          <p:spPr>
            <a:xfrm>
              <a:off x="1295280" y="152280"/>
              <a:ext cx="3124440" cy="1556280"/>
            </a:xfrm>
            <a:prstGeom prst="rect">
              <a:avLst/>
            </a:prstGeom>
            <a:solidFill>
              <a:srgbClr val="4040ff"/>
            </a:solidFill>
            <a:ln w="9360">
              <a:solidFill>
                <a:srgbClr val="2b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800" spc="-1" strike="noStrike">
                  <a:solidFill>
                    <a:srgbClr val="ffffff"/>
                  </a:solidFill>
                  <a:latin typeface="Angsana New"/>
                  <a:cs typeface="BrowalliaUPC"/>
                </a:rPr>
                <a:t>ขอบเขตเนื้อหา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2" name="Rectangle 5"/>
          <p:cNvSpPr/>
          <p:nvPr/>
        </p:nvSpPr>
        <p:spPr>
          <a:xfrm>
            <a:off x="2514600" y="1981080"/>
            <a:ext cx="5105520" cy="35053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2938320" y="2343240"/>
            <a:ext cx="4267440" cy="3781080"/>
          </a:xfrm>
          <a:prstGeom prst="rect">
            <a:avLst/>
          </a:prstGeom>
          <a:solidFill>
            <a:srgbClr val="404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BrowalliaUPC"/>
              </a:rPr>
              <a:t>1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BrowalliaUPC"/>
              </a:rPr>
              <a:t>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BrowalliaUPC"/>
              </a:rPr>
              <a:t>วัตถุประสงค์การเขียนรายงา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BrowalliaUPC"/>
              </a:rPr>
              <a:t>2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BrowalliaUPC"/>
              </a:rPr>
              <a:t>ประเภทของรายงาน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BrowalliaUPC"/>
              </a:rPr>
              <a:t>3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BrowalliaUPC"/>
              </a:rPr>
              <a:t>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BrowalliaUPC"/>
              </a:rPr>
              <a:t>วิธีการเขียนรายงา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BrowalliaUPC"/>
              </a:rPr>
              <a:t>4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BrowalliaUPC"/>
              </a:rPr>
              <a:t>.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BrowalliaUPC"/>
              </a:rPr>
              <a:t>ประโยชน์ของการเขียนรายงา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Text Box 8"/>
          <p:cNvSpPr/>
          <p:nvPr/>
        </p:nvSpPr>
        <p:spPr>
          <a:xfrm>
            <a:off x="5181480" y="1494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7f"/>
                </a:solidFill>
                <a:latin typeface="Angsana New"/>
              </a:rPr>
              <a:t>อธิบายเหตุการณ์ที่เกิดขึ้นสั้นๆ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Text Box 9"/>
          <p:cNvSpPr/>
          <p:nvPr/>
        </p:nvSpPr>
        <p:spPr>
          <a:xfrm>
            <a:off x="4638600" y="2752560"/>
            <a:ext cx="365760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7f"/>
                </a:solidFill>
                <a:latin typeface="Angsana New"/>
              </a:rPr>
              <a:t>อภิปรายว่าผลที่ได้ตรงกับวัตถุประสงค์หรือสมมุติฐานหรือไม่โดยเชื่อมโยงกับวรรณกรรมว่าอะไรที่เหมือนเดิม  อะไรที่แตกต่าง   แตกต่างอย่างไร  เพราะอะไ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Text Box 10"/>
          <p:cNvSpPr/>
          <p:nvPr/>
        </p:nvSpPr>
        <p:spPr>
          <a:xfrm>
            <a:off x="2711520" y="4608360"/>
            <a:ext cx="487656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7f"/>
                </a:solidFill>
                <a:latin typeface="Angsana New"/>
              </a:rPr>
              <a:t>อภิปรายให้เห็นถึงความแตกต่างหรือคล้ายคลึ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7f"/>
                </a:solidFill>
                <a:latin typeface="Angsana New"/>
              </a:rPr>
              <a:t>กับการระบาดในอดีตหรือไม่  อย่างไ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2" name="Group 21"/>
          <p:cNvGrpSpPr/>
          <p:nvPr/>
        </p:nvGrpSpPr>
        <p:grpSpPr>
          <a:xfrm>
            <a:off x="533520" y="795240"/>
            <a:ext cx="4647600" cy="3809880"/>
            <a:chOff x="533520" y="795240"/>
            <a:chExt cx="4647600" cy="3809880"/>
          </a:xfrm>
        </p:grpSpPr>
        <p:sp>
          <p:nvSpPr>
            <p:cNvPr id="913" name="AutoShape 3"/>
            <p:cNvSpPr/>
            <p:nvPr/>
          </p:nvSpPr>
          <p:spPr>
            <a:xfrm>
              <a:off x="533520" y="795240"/>
              <a:ext cx="3873240" cy="2963160"/>
            </a:xfrm>
            <a:prstGeom prst="sun">
              <a:avLst>
                <a:gd name="adj" fmla="val 250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Text Box 4"/>
            <p:cNvSpPr/>
            <p:nvPr/>
          </p:nvSpPr>
          <p:spPr>
            <a:xfrm>
              <a:off x="1463040" y="1945080"/>
              <a:ext cx="20142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400" spc="-1" strike="noStrike">
                  <a:solidFill>
                    <a:srgbClr val="ff0033"/>
                  </a:solidFill>
                  <a:latin typeface="Angsana New"/>
                </a:rPr>
                <a:t>วิจารณ์ผล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Line 5"/>
            <p:cNvSpPr/>
            <p:nvPr/>
          </p:nvSpPr>
          <p:spPr>
            <a:xfrm>
              <a:off x="4096800" y="1811160"/>
              <a:ext cx="1084320" cy="842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6"/>
            <p:cNvSpPr/>
            <p:nvPr/>
          </p:nvSpPr>
          <p:spPr>
            <a:xfrm>
              <a:off x="3709800" y="2657520"/>
              <a:ext cx="851760" cy="76176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Line 7"/>
            <p:cNvSpPr/>
            <p:nvPr/>
          </p:nvSpPr>
          <p:spPr>
            <a:xfrm>
              <a:off x="2935080" y="3419640"/>
              <a:ext cx="619560" cy="11854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15"/>
            <p:cNvSpPr/>
            <p:nvPr/>
          </p:nvSpPr>
          <p:spPr>
            <a:xfrm flipH="1">
              <a:off x="1618200" y="3419640"/>
              <a:ext cx="154800" cy="11854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9" name="Text Box 16"/>
          <p:cNvSpPr/>
          <p:nvPr/>
        </p:nvSpPr>
        <p:spPr>
          <a:xfrm>
            <a:off x="571680" y="4483080"/>
            <a:ext cx="22096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7f"/>
                </a:solidFill>
                <a:latin typeface="Angsana New"/>
              </a:rPr>
              <a:t>วิจารณ์ความสำเร็จหรือล้มเหลวในการควบคุมโร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Text Box 22"/>
          <p:cNvSpPr/>
          <p:nvPr/>
        </p:nvSpPr>
        <p:spPr>
          <a:xfrm>
            <a:off x="1219320" y="152280"/>
            <a:ext cx="79246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งค์ประกอบและวิธีการเขียนรายงาน ฉบับสมบูรณ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Text Box 23"/>
          <p:cNvSpPr/>
          <p:nvPr/>
        </p:nvSpPr>
        <p:spPr>
          <a:xfrm>
            <a:off x="318600" y="5778360"/>
            <a:ext cx="901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d5"/>
                </a:solidFill>
                <a:latin typeface="CordiaUPC"/>
                <a:cs typeface="CordiaUPC"/>
              </a:rPr>
              <a:t>เป็นการแปลผลการสอบสวนและให้เหตุผลการแปลนั้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5"/>
          <p:cNvSpPr/>
          <p:nvPr/>
        </p:nvSpPr>
        <p:spPr>
          <a:xfrm>
            <a:off x="1676520" y="2371680"/>
            <a:ext cx="71625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d5"/>
              </a:buClr>
              <a:buSzPct val="80000"/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d5"/>
                </a:solidFill>
                <a:latin typeface="Angsana New"/>
              </a:rPr>
              <a:t>ระบุปัญหาอุปสรรคที่เกิดขึ้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d5"/>
              </a:buClr>
              <a:buSzPct val="80000"/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d5"/>
                </a:solidFill>
                <a:latin typeface="Angsana New"/>
              </a:rPr>
              <a:t>ข้อจำกัดที่พบในขณะสอบสวนโร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d5"/>
              </a:buClr>
              <a:buSzPct val="80000"/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d5"/>
                </a:solidFill>
                <a:latin typeface="Angsana New"/>
              </a:rPr>
              <a:t>บอกแนวทางการแก้ไขปัญหา  สำหรับการสอบสวนครั้งต่อไ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3" name="Group 6"/>
          <p:cNvGrpSpPr/>
          <p:nvPr/>
        </p:nvGrpSpPr>
        <p:grpSpPr>
          <a:xfrm>
            <a:off x="914400" y="1184400"/>
            <a:ext cx="7238520" cy="1556280"/>
            <a:chOff x="914400" y="1184400"/>
            <a:chExt cx="7238520" cy="1556280"/>
          </a:xfrm>
        </p:grpSpPr>
        <p:sp>
          <p:nvSpPr>
            <p:cNvPr id="924" name="Rectangle 7"/>
            <p:cNvSpPr/>
            <p:nvPr/>
          </p:nvSpPr>
          <p:spPr>
            <a:xfrm>
              <a:off x="998640" y="1260720"/>
              <a:ext cx="715428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Rectangle 8"/>
            <p:cNvSpPr/>
            <p:nvPr/>
          </p:nvSpPr>
          <p:spPr>
            <a:xfrm>
              <a:off x="914400" y="1184400"/>
              <a:ext cx="7154640" cy="15562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2b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800" spc="-1" strike="noStrike">
                  <a:solidFill>
                    <a:srgbClr val="ffffff"/>
                  </a:solidFill>
                  <a:latin typeface="Angsana New"/>
                </a:rPr>
                <a:t>ปัญหาและข้อจำกัดในการสอบสวนโรค</a:t>
              </a:r>
              <a:r>
                <a:rPr b="0" lang="en-US" sz="4800" spc="-1" strike="noStrike">
                  <a:solidFill>
                    <a:srgbClr val="ffffff"/>
                  </a:solidFill>
                  <a:latin typeface="Angsana New"/>
                </a:rPr>
                <a:t> 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6" name="Text Box 9"/>
          <p:cNvSpPr/>
          <p:nvPr/>
        </p:nvSpPr>
        <p:spPr>
          <a:xfrm>
            <a:off x="685800" y="131760"/>
            <a:ext cx="79246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งค์ประกอบและวิธีการเขียนรายงาน ฉบับสมบูรณ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 Box 9"/>
          <p:cNvSpPr/>
          <p:nvPr/>
        </p:nvSpPr>
        <p:spPr>
          <a:xfrm>
            <a:off x="3886200" y="200016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ยืนยันการเกิดโรคและการระบาด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Text Box 10"/>
          <p:cNvSpPr/>
          <p:nvPr/>
        </p:nvSpPr>
        <p:spPr>
          <a:xfrm>
            <a:off x="3895560" y="2819520"/>
            <a:ext cx="437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แหล่งรังโร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Text Box 11"/>
          <p:cNvSpPr/>
          <p:nvPr/>
        </p:nvSpPr>
        <p:spPr>
          <a:xfrm>
            <a:off x="3852720" y="3579840"/>
            <a:ext cx="43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วิธีถ่ายทอดโร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Text Box 12"/>
          <p:cNvSpPr/>
          <p:nvPr/>
        </p:nvSpPr>
        <p:spPr>
          <a:xfrm>
            <a:off x="3890880" y="4281480"/>
            <a:ext cx="43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กลุ่มเสี่ย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Text Box 13"/>
          <p:cNvSpPr/>
          <p:nvPr/>
        </p:nvSpPr>
        <p:spPr>
          <a:xfrm>
            <a:off x="3873600" y="5046840"/>
            <a:ext cx="43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ปัจจัยเสี่ย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Line 3"/>
          <p:cNvSpPr/>
          <p:nvPr/>
        </p:nvSpPr>
        <p:spPr>
          <a:xfrm>
            <a:off x="2405160" y="1766880"/>
            <a:ext cx="0" cy="441972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Line 4"/>
          <p:cNvSpPr/>
          <p:nvPr/>
        </p:nvSpPr>
        <p:spPr>
          <a:xfrm>
            <a:off x="2386080" y="2362320"/>
            <a:ext cx="14238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Line 5"/>
          <p:cNvSpPr/>
          <p:nvPr/>
        </p:nvSpPr>
        <p:spPr>
          <a:xfrm>
            <a:off x="2362320" y="5410080"/>
            <a:ext cx="14475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Line 6"/>
          <p:cNvSpPr/>
          <p:nvPr/>
        </p:nvSpPr>
        <p:spPr>
          <a:xfrm>
            <a:off x="2386080" y="3200400"/>
            <a:ext cx="14238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Line 7"/>
          <p:cNvSpPr/>
          <p:nvPr/>
        </p:nvSpPr>
        <p:spPr>
          <a:xfrm>
            <a:off x="2386080" y="3962520"/>
            <a:ext cx="14238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Line 8"/>
          <p:cNvSpPr/>
          <p:nvPr/>
        </p:nvSpPr>
        <p:spPr>
          <a:xfrm>
            <a:off x="2362320" y="4648320"/>
            <a:ext cx="14475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Text Box 31"/>
          <p:cNvSpPr/>
          <p:nvPr/>
        </p:nvSpPr>
        <p:spPr>
          <a:xfrm>
            <a:off x="3886200" y="5761080"/>
            <a:ext cx="437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สถานการณ์ล่าสุด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Line 33"/>
          <p:cNvSpPr/>
          <p:nvPr/>
        </p:nvSpPr>
        <p:spPr>
          <a:xfrm>
            <a:off x="2390760" y="6138720"/>
            <a:ext cx="14479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Text Box 34"/>
          <p:cNvSpPr/>
          <p:nvPr/>
        </p:nvSpPr>
        <p:spPr>
          <a:xfrm>
            <a:off x="609480" y="139680"/>
            <a:ext cx="7925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งค์ประกอบและวิธีการเขียนรายงาน ฉบับสมบูรณ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1" name="Group 21"/>
          <p:cNvGrpSpPr/>
          <p:nvPr/>
        </p:nvGrpSpPr>
        <p:grpSpPr>
          <a:xfrm>
            <a:off x="533520" y="900000"/>
            <a:ext cx="3962160" cy="1449000"/>
            <a:chOff x="533520" y="900000"/>
            <a:chExt cx="3962160" cy="1449000"/>
          </a:xfrm>
        </p:grpSpPr>
        <p:grpSp>
          <p:nvGrpSpPr>
            <p:cNvPr id="942" name="Group 20"/>
            <p:cNvGrpSpPr/>
            <p:nvPr/>
          </p:nvGrpSpPr>
          <p:grpSpPr>
            <a:xfrm>
              <a:off x="533520" y="900000"/>
              <a:ext cx="3962160" cy="1066680"/>
              <a:chOff x="533520" y="900000"/>
              <a:chExt cx="3962160" cy="1066680"/>
            </a:xfrm>
          </p:grpSpPr>
          <p:sp>
            <p:nvSpPr>
              <p:cNvPr id="943" name="Oval 19"/>
              <p:cNvSpPr/>
              <p:nvPr/>
            </p:nvSpPr>
            <p:spPr>
              <a:xfrm>
                <a:off x="685800" y="976320"/>
                <a:ext cx="3809880" cy="990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Oval 18"/>
              <p:cNvSpPr/>
              <p:nvPr/>
            </p:nvSpPr>
            <p:spPr>
              <a:xfrm>
                <a:off x="533520" y="900000"/>
                <a:ext cx="3809880" cy="990720"/>
              </a:xfrm>
              <a:prstGeom prst="ellipse">
                <a:avLst/>
              </a:prstGeom>
              <a:solidFill>
                <a:srgbClr val="ff0033"/>
              </a:solidFill>
              <a:ln cap="sq" w="1260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15"/>
            <p:cNvSpPr/>
            <p:nvPr/>
          </p:nvSpPr>
          <p:spPr>
            <a:xfrm>
              <a:off x="533520" y="914400"/>
              <a:ext cx="37335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800" spc="-1" strike="noStrike">
                  <a:solidFill>
                    <a:srgbClr val="ffffff"/>
                  </a:solidFill>
                  <a:latin typeface="Angsana New"/>
                  <a:ea typeface="BrowalliaUPC"/>
                </a:rPr>
                <a:t>  </a:t>
              </a:r>
              <a:r>
                <a:rPr b="1" lang="th-TH" sz="4000" spc="-1" strike="noStrike">
                  <a:solidFill>
                    <a:srgbClr val="ffffff"/>
                  </a:solidFill>
                  <a:latin typeface="Angsana New"/>
                  <a:cs typeface="BrowalliaUPC"/>
                </a:rPr>
                <a:t>สรุปผลการสอบสวน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6" name="Text Box 35"/>
          <p:cNvSpPr/>
          <p:nvPr/>
        </p:nvSpPr>
        <p:spPr>
          <a:xfrm>
            <a:off x="3751920" y="1193760"/>
            <a:ext cx="58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CordiaUPC"/>
                <a:ea typeface="CordiaUPC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CordiaUPC"/>
                <a:cs typeface="CordiaUPC"/>
              </a:rPr>
              <a:t>ตอบวัตถุประสงค์และสมมุติฐานที่ตั้งไว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Group 31"/>
          <p:cNvGrpSpPr/>
          <p:nvPr/>
        </p:nvGrpSpPr>
        <p:grpSpPr>
          <a:xfrm>
            <a:off x="800280" y="2308320"/>
            <a:ext cx="7238880" cy="3270240"/>
            <a:chOff x="800280" y="2308320"/>
            <a:chExt cx="7238880" cy="3270240"/>
          </a:xfrm>
        </p:grpSpPr>
        <p:sp>
          <p:nvSpPr>
            <p:cNvPr id="948" name="Rectangle 6"/>
            <p:cNvSpPr/>
            <p:nvPr/>
          </p:nvSpPr>
          <p:spPr>
            <a:xfrm>
              <a:off x="800280" y="2324880"/>
              <a:ext cx="7162560" cy="2473560"/>
            </a:xfrm>
            <a:prstGeom prst="rect">
              <a:avLst/>
            </a:prstGeom>
            <a:noFill/>
            <a:ln cap="sq"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Text Box 7"/>
            <p:cNvSpPr/>
            <p:nvPr/>
          </p:nvSpPr>
          <p:spPr>
            <a:xfrm>
              <a:off x="952560" y="2308320"/>
              <a:ext cx="7086600" cy="32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000" spc="-1" strike="noStrike">
                  <a:solidFill>
                    <a:srgbClr val="000000"/>
                  </a:solidFill>
                  <a:latin typeface="Times New Roman"/>
                  <a:ea typeface="BrowalliaUPC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2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Times New Roman"/>
                  <a:ea typeface="BrowalliaUPC"/>
                </a:rPr>
                <a:t> </a:t>
              </a:r>
              <a:r>
                <a:rPr b="1" lang="th-TH" sz="3600" spc="-1" strike="noStrike">
                  <a:solidFill>
                    <a:srgbClr val="000000"/>
                  </a:solidFill>
                  <a:latin typeface="Times New Roman"/>
                  <a:cs typeface="BrowalliaUPC"/>
                </a:rPr>
                <a:t>ข้อเสนอให้ผู้เกี่ยวข้องเกี่ยวกับมาตรการควบคุมป้องกันโรคไม่ให้เกิดในอนาคต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2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000000"/>
                  </a:solidFill>
                  <a:latin typeface="Times New Roman"/>
                  <a:ea typeface="BrowalliaUPC"/>
                </a:rPr>
                <a:t> </a:t>
              </a:r>
              <a:r>
                <a:rPr b="1" lang="th-TH" sz="3600" spc="-1" strike="noStrike">
                  <a:solidFill>
                    <a:srgbClr val="000000"/>
                  </a:solidFill>
                  <a:latin typeface="Times New Roman"/>
                  <a:cs typeface="BrowalliaUPC"/>
                </a:rPr>
                <a:t>ข้อเสนอเพื่อปรับปรุงการสอบสวนในครั้งหน้า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0" name="Group 20"/>
          <p:cNvGrpSpPr/>
          <p:nvPr/>
        </p:nvGrpSpPr>
        <p:grpSpPr>
          <a:xfrm>
            <a:off x="1219320" y="1219320"/>
            <a:ext cx="3352320" cy="914040"/>
            <a:chOff x="1219320" y="1219320"/>
            <a:chExt cx="3352320" cy="914040"/>
          </a:xfrm>
        </p:grpSpPr>
        <p:sp>
          <p:nvSpPr>
            <p:cNvPr id="951" name="Rectangle 21"/>
            <p:cNvSpPr/>
            <p:nvPr/>
          </p:nvSpPr>
          <p:spPr>
            <a:xfrm>
              <a:off x="1279800" y="1302480"/>
              <a:ext cx="3291840" cy="83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Rectangle 22"/>
            <p:cNvSpPr/>
            <p:nvPr/>
          </p:nvSpPr>
          <p:spPr>
            <a:xfrm>
              <a:off x="1219320" y="1219320"/>
              <a:ext cx="3291840" cy="83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Text Box 23"/>
            <p:cNvSpPr/>
            <p:nvPr/>
          </p:nvSpPr>
          <p:spPr>
            <a:xfrm>
              <a:off x="1402200" y="1468440"/>
              <a:ext cx="3047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000" spc="-1" strike="noStrike">
                  <a:solidFill>
                    <a:srgbClr val="ffffff"/>
                  </a:solidFill>
                  <a:latin typeface="Times New Roman"/>
                  <a:cs typeface="BrowalliaUPC"/>
                </a:rPr>
                <a:t>ข้อเสนอแนะ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4" name="Group 33"/>
          <p:cNvGrpSpPr/>
          <p:nvPr/>
        </p:nvGrpSpPr>
        <p:grpSpPr>
          <a:xfrm>
            <a:off x="1866960" y="4948200"/>
            <a:ext cx="6172200" cy="1526400"/>
            <a:chOff x="1866960" y="4948200"/>
            <a:chExt cx="6172200" cy="1526400"/>
          </a:xfrm>
        </p:grpSpPr>
        <p:sp>
          <p:nvSpPr>
            <p:cNvPr id="955" name="AutoShape 28"/>
            <p:cNvSpPr/>
            <p:nvPr/>
          </p:nvSpPr>
          <p:spPr>
            <a:xfrm>
              <a:off x="1873080" y="5057640"/>
              <a:ext cx="5867280" cy="838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AutoShape 29"/>
            <p:cNvSpPr/>
            <p:nvPr/>
          </p:nvSpPr>
          <p:spPr>
            <a:xfrm>
              <a:off x="1868400" y="4986360"/>
              <a:ext cx="5822640" cy="8380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Text Box 30"/>
            <p:cNvSpPr/>
            <p:nvPr/>
          </p:nvSpPr>
          <p:spPr>
            <a:xfrm>
              <a:off x="1866960" y="4948200"/>
              <a:ext cx="6172200" cy="15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5400" spc="-1" strike="noStrike">
                  <a:solidFill>
                    <a:srgbClr val="000000"/>
                  </a:solidFill>
                  <a:latin typeface="Arial"/>
                  <a:ea typeface="BrowalliaUPC"/>
                </a:rPr>
                <a:t> </a:t>
              </a:r>
              <a:r>
                <a:rPr b="1" lang="th-TH" sz="4000" spc="-1" strike="noStrike">
                  <a:solidFill>
                    <a:srgbClr val="ff0033"/>
                  </a:solidFill>
                  <a:latin typeface="Times New Roman"/>
                </a:rPr>
                <a:t>ให้สอดคล้องและจำเพาะ กับผลการศึกษา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8" name="Text Box 34"/>
          <p:cNvSpPr/>
          <p:nvPr/>
        </p:nvSpPr>
        <p:spPr>
          <a:xfrm>
            <a:off x="800280" y="176040"/>
            <a:ext cx="79246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งค์ประกอบและวิธีการเขียนรายงาน ฉบับสมบูรณ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9" name="Group 14"/>
          <p:cNvGrpSpPr/>
          <p:nvPr/>
        </p:nvGrpSpPr>
        <p:grpSpPr>
          <a:xfrm>
            <a:off x="2133720" y="1162080"/>
            <a:ext cx="2590200" cy="1191240"/>
            <a:chOff x="2133720" y="1162080"/>
            <a:chExt cx="2590200" cy="1191240"/>
          </a:xfrm>
        </p:grpSpPr>
        <p:sp>
          <p:nvSpPr>
            <p:cNvPr id="960" name="Rectangle 5"/>
            <p:cNvSpPr/>
            <p:nvPr/>
          </p:nvSpPr>
          <p:spPr>
            <a:xfrm>
              <a:off x="2133720" y="1234080"/>
              <a:ext cx="2590200" cy="6706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Text Box 6"/>
            <p:cNvSpPr/>
            <p:nvPr/>
          </p:nvSpPr>
          <p:spPr>
            <a:xfrm>
              <a:off x="2154600" y="1162080"/>
              <a:ext cx="256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00"/>
                  </a:solidFill>
                  <a:latin typeface="Angsana New"/>
                </a:rPr>
                <a:t>กิตติกรรมประกาศ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2" name="Text Box 13"/>
          <p:cNvSpPr/>
          <p:nvPr/>
        </p:nvSpPr>
        <p:spPr>
          <a:xfrm>
            <a:off x="2666880" y="2160720"/>
            <a:ext cx="5867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ผู้ให้ความร่วมมือในการสอบสวนโร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ผู้ให้การสนับสนุนด้านการตรวจทางห้องปฏิบัติกา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ผู้ที่ให้ข้อมูล</a:t>
            </a:r>
            <a:r>
              <a:rPr b="1" lang="th-TH" sz="2800" spc="-1" strike="noStrike">
                <a:solidFill>
                  <a:srgbClr val="000000"/>
                </a:solidFill>
                <a:latin typeface="Times New Roman"/>
              </a:rPr>
              <a:t>อื่นๆ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ประกอบการสอบสวนโร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3" name="Group 20"/>
          <p:cNvGrpSpPr/>
          <p:nvPr/>
        </p:nvGrpSpPr>
        <p:grpSpPr>
          <a:xfrm>
            <a:off x="2166840" y="4218120"/>
            <a:ext cx="2285640" cy="1312920"/>
            <a:chOff x="2166840" y="4218120"/>
            <a:chExt cx="2285640" cy="1312920"/>
          </a:xfrm>
        </p:grpSpPr>
        <p:sp>
          <p:nvSpPr>
            <p:cNvPr id="964" name="Rectangle 3"/>
            <p:cNvSpPr/>
            <p:nvPr/>
          </p:nvSpPr>
          <p:spPr>
            <a:xfrm>
              <a:off x="2166840" y="4300200"/>
              <a:ext cx="2197800" cy="661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Text Box 17"/>
            <p:cNvSpPr/>
            <p:nvPr/>
          </p:nvSpPr>
          <p:spPr>
            <a:xfrm>
              <a:off x="2254320" y="4218120"/>
              <a:ext cx="2198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000" spc="-1" strike="noStrike">
                  <a:solidFill>
                    <a:srgbClr val="00ffff"/>
                  </a:solidFill>
                  <a:latin typeface="Angsana New"/>
                </a:rPr>
                <a:t>เอกสารอ้างอิง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6" name="Text Box 19"/>
          <p:cNvSpPr/>
          <p:nvPr/>
        </p:nvSpPr>
        <p:spPr>
          <a:xfrm>
            <a:off x="2543040" y="5284800"/>
            <a:ext cx="47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รูปแบบแวนคูเวอร์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( Vancouver Sty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รูปแบบมาตรฐาน อื่นๆ ตามที่วารสารกำหน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7" name="Picture 26" descr="bs00554_"/>
          <p:cNvPicPr/>
          <p:nvPr/>
        </p:nvPicPr>
        <p:blipFill>
          <a:blip r:embed="rId1"/>
          <a:stretch/>
        </p:blipFill>
        <p:spPr>
          <a:xfrm>
            <a:off x="7080120" y="3809880"/>
            <a:ext cx="2063880" cy="1800360"/>
          </a:xfrm>
          <a:prstGeom prst="rect">
            <a:avLst/>
          </a:prstGeom>
          <a:ln w="0">
            <a:noFill/>
          </a:ln>
        </p:spPr>
      </p:pic>
      <p:sp>
        <p:nvSpPr>
          <p:cNvPr id="968" name="Text Box 28"/>
          <p:cNvSpPr/>
          <p:nvPr/>
        </p:nvSpPr>
        <p:spPr>
          <a:xfrm>
            <a:off x="609480" y="149400"/>
            <a:ext cx="7925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CordiaUPC"/>
              </a:rPr>
              <a:t>องค์ประกอบและวิธีการเขียนรายงาน ฉบับสมบูรณ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"/>
          <p:cNvGrpSpPr/>
          <p:nvPr/>
        </p:nvGrpSpPr>
        <p:grpSpPr>
          <a:xfrm>
            <a:off x="1828800" y="990720"/>
            <a:ext cx="6629040" cy="2133000"/>
            <a:chOff x="1828800" y="990720"/>
            <a:chExt cx="6629040" cy="2133000"/>
          </a:xfrm>
        </p:grpSpPr>
        <p:sp>
          <p:nvSpPr>
            <p:cNvPr id="970" name="AutoShape 3"/>
            <p:cNvSpPr/>
            <p:nvPr/>
          </p:nvSpPr>
          <p:spPr>
            <a:xfrm>
              <a:off x="1958760" y="990720"/>
              <a:ext cx="6368760" cy="2133000"/>
            </a:xfrm>
            <a:custGeom>
              <a:avLst/>
              <a:gdLst>
                <a:gd name="textAreaLeft" fmla="*/ 138240 w 6368760"/>
                <a:gd name="textAreaRight" fmla="*/ 6230520 w 6368760"/>
                <a:gd name="textAreaTop" fmla="*/ 138240 h 2133000"/>
                <a:gd name="textAreaBottom" fmla="*/ 1994760 h 2133000"/>
              </a:gdLst>
              <a:ahLst/>
              <a:rect l="textAreaLeft" t="textAreaTop" r="textAreaRight" b="textAreaBottom"/>
              <a:pathLst>
                <a:path w="64487" h="21600">
                  <a:moveTo>
                    <a:pt x="0" y="0"/>
                  </a:moveTo>
                  <a:lnTo>
                    <a:pt x="64487" y="0"/>
                  </a:lnTo>
                  <a:lnTo>
                    <a:pt x="64487" y="21600"/>
                  </a:lnTo>
                  <a:lnTo>
                    <a:pt x="0" y="21600"/>
                  </a:lnTo>
                  <a:close/>
                </a:path>
                <a:path fill="lightenLess" w="64487" h="21600">
                  <a:moveTo>
                    <a:pt x="0" y="0"/>
                  </a:moveTo>
                  <a:lnTo>
                    <a:pt x="64487" y="0"/>
                  </a:lnTo>
                  <a:lnTo>
                    <a:pt x="63087" y="1400"/>
                  </a:lnTo>
                  <a:lnTo>
                    <a:pt x="1400" y="1400"/>
                  </a:lnTo>
                  <a:close/>
                </a:path>
                <a:path fill="darken" w="64487" h="21600">
                  <a:moveTo>
                    <a:pt x="64487" y="0"/>
                  </a:moveTo>
                  <a:lnTo>
                    <a:pt x="64487" y="21600"/>
                  </a:lnTo>
                  <a:lnTo>
                    <a:pt x="63087" y="20200"/>
                  </a:lnTo>
                  <a:lnTo>
                    <a:pt x="63087" y="1400"/>
                  </a:lnTo>
                  <a:close/>
                </a:path>
                <a:path fill="darkenLess" w="64487" h="21600">
                  <a:moveTo>
                    <a:pt x="6448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087" y="20200"/>
                  </a:lnTo>
                  <a:close/>
                </a:path>
                <a:path fill="lighten" w="6448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Rectangle 4"/>
            <p:cNvSpPr/>
            <p:nvPr/>
          </p:nvSpPr>
          <p:spPr>
            <a:xfrm>
              <a:off x="1828800" y="1143000"/>
              <a:ext cx="6629040" cy="17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ngsana New"/>
                </a:rPr>
                <a:t>2. </a:t>
              </a:r>
              <a:r>
                <a:rPr b="1" lang="en-US" sz="4400" spc="-1" strike="noStrike">
                  <a:solidFill>
                    <a:srgbClr val="000000"/>
                  </a:solidFill>
                  <a:latin typeface="Angsana New"/>
                </a:rPr>
                <a:t>วิธีการเขียนรายงานการสอบสวน    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ngsana New"/>
                </a:rPr>
                <a:t>   </a:t>
              </a:r>
              <a:r>
                <a:rPr b="1" lang="en-US" sz="4400" spc="-1" strike="noStrike">
                  <a:solidFill>
                    <a:srgbClr val="000000"/>
                  </a:solidFill>
                  <a:latin typeface="Angsana New"/>
                </a:rPr>
                <a:t>เบื้องต้น </a:t>
              </a:r>
              <a:r>
                <a:rPr b="1" lang="en-US" sz="4400" spc="-1" strike="noStrike">
                  <a:solidFill>
                    <a:srgbClr val="000000"/>
                  </a:solidFill>
                  <a:latin typeface="Angsana New"/>
                </a:rPr>
                <a:t>(Preliminary Report)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72" name="Picture 8" descr="paper"/>
          <p:cNvPicPr/>
          <p:nvPr/>
        </p:nvPicPr>
        <p:blipFill>
          <a:blip r:embed="rId1"/>
          <a:stretch/>
        </p:blipFill>
        <p:spPr>
          <a:xfrm>
            <a:off x="2286000" y="3809880"/>
            <a:ext cx="262908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3" name="Group 5"/>
          <p:cNvGrpSpPr/>
          <p:nvPr/>
        </p:nvGrpSpPr>
        <p:grpSpPr>
          <a:xfrm>
            <a:off x="2133720" y="568440"/>
            <a:ext cx="5790960" cy="1191240"/>
            <a:chOff x="2133720" y="568440"/>
            <a:chExt cx="5790960" cy="1191240"/>
          </a:xfrm>
        </p:grpSpPr>
        <p:sp>
          <p:nvSpPr>
            <p:cNvPr id="974" name="Rectangle 6"/>
            <p:cNvSpPr/>
            <p:nvPr/>
          </p:nvSpPr>
          <p:spPr>
            <a:xfrm>
              <a:off x="2133720" y="609480"/>
              <a:ext cx="5790960" cy="68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Text Box 7"/>
            <p:cNvSpPr/>
            <p:nvPr/>
          </p:nvSpPr>
          <p:spPr>
            <a:xfrm>
              <a:off x="2133720" y="568440"/>
              <a:ext cx="5728680" cy="119124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2b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Times New Roman"/>
                </a:rPr>
                <a:t>หลักการเขียนรายงานการสอบสวนเบื้องต้น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6" name="Rectangle 8"/>
          <p:cNvSpPr/>
          <p:nvPr/>
        </p:nvSpPr>
        <p:spPr>
          <a:xfrm>
            <a:off x="1981080" y="1981080"/>
            <a:ext cx="655344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BrowalliaUPC"/>
              </a:rPr>
              <a:t>รายงานการสอบสวนผู้ป่วยเฉพาะรา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CordiaUPC"/>
                <a:ea typeface="CordiaUPC"/>
              </a:rPr>
              <a:t>  </a:t>
            </a:r>
            <a:r>
              <a:rPr b="1" lang="th-TH" sz="2800" spc="-1" strike="noStrike">
                <a:solidFill>
                  <a:srgbClr val="0000ff"/>
                </a:solidFill>
                <a:latin typeface="CordiaUPC"/>
                <a:cs typeface="CordiaUPC"/>
              </a:rPr>
              <a:t>ให้ระบุรายละเอียดข้อมูลผู้ป่วยรายนั้นและผู้สัมผั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BrowalliaUPC"/>
              </a:rPr>
              <a:t>รายงานการสอบสวนการระบาด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ff"/>
                </a:solidFill>
                <a:latin typeface="CordiaUPC"/>
                <a:ea typeface="CordiaUPC"/>
              </a:rPr>
              <a:t>  </a:t>
            </a:r>
            <a:r>
              <a:rPr b="1" lang="th-TH" sz="2800" spc="-1" strike="noStrike">
                <a:solidFill>
                  <a:srgbClr val="0000ff"/>
                </a:solidFill>
                <a:latin typeface="CordiaUPC"/>
                <a:cs typeface="CordiaUPC"/>
              </a:rPr>
              <a:t>ให้สรุปรายละเอียดข้อมูลผู้ป่วยทุกราย  นำเสนอเป็นภาพรวมการระบา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2"/>
          <p:cNvGrpSpPr/>
          <p:nvPr/>
        </p:nvGrpSpPr>
        <p:grpSpPr>
          <a:xfrm>
            <a:off x="1219320" y="1905120"/>
            <a:ext cx="7772400" cy="3353760"/>
            <a:chOff x="1219320" y="1905120"/>
            <a:chExt cx="7772400" cy="3353760"/>
          </a:xfrm>
        </p:grpSpPr>
        <p:grpSp>
          <p:nvGrpSpPr>
            <p:cNvPr id="978" name="Group 3"/>
            <p:cNvGrpSpPr/>
            <p:nvPr/>
          </p:nvGrpSpPr>
          <p:grpSpPr>
            <a:xfrm>
              <a:off x="1219320" y="2862000"/>
              <a:ext cx="3925440" cy="1220760"/>
              <a:chOff x="1219320" y="2862000"/>
              <a:chExt cx="3925440" cy="1220760"/>
            </a:xfrm>
          </p:grpSpPr>
          <p:sp>
            <p:nvSpPr>
              <p:cNvPr id="979" name="AutoShape 4"/>
              <p:cNvSpPr/>
              <p:nvPr/>
            </p:nvSpPr>
            <p:spPr>
              <a:xfrm>
                <a:off x="1454760" y="2937600"/>
                <a:ext cx="369000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AutoShape 5"/>
              <p:cNvSpPr/>
              <p:nvPr/>
            </p:nvSpPr>
            <p:spPr>
              <a:xfrm>
                <a:off x="1375920" y="2862000"/>
                <a:ext cx="3690360" cy="837720"/>
              </a:xfrm>
              <a:prstGeom prst="roundRect">
                <a:avLst>
                  <a:gd name="adj" fmla="val 16667"/>
                </a:avLst>
              </a:prstGeom>
              <a:solidFill>
                <a:srgbClr val="ff00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Text Box 6"/>
              <p:cNvSpPr/>
              <p:nvPr/>
            </p:nvSpPr>
            <p:spPr>
              <a:xfrm>
                <a:off x="1219320" y="3013920"/>
                <a:ext cx="39254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400" spc="-1" strike="noStrike">
                    <a:solidFill>
                      <a:srgbClr val="000000"/>
                    </a:solidFill>
                    <a:latin typeface="Arial"/>
                    <a:ea typeface="BrowalliaUPC"/>
                  </a:rPr>
                  <a:t>    </a:t>
                </a:r>
                <a:r>
                  <a:rPr b="1" lang="th-TH" sz="3200" spc="-1" strike="noStrike">
                    <a:solidFill>
                      <a:srgbClr val="000000"/>
                    </a:solidFill>
                    <a:latin typeface="Angsana New"/>
                    <a:cs typeface="BrowalliaUPC"/>
                  </a:rPr>
                  <a:t>ประกอบด้วย </a:t>
                </a:r>
                <a:r>
                  <a:rPr b="1" lang="th-TH" sz="3200" spc="-1" strike="noStrike">
                    <a:solidFill>
                      <a:srgbClr val="000000"/>
                    </a:solidFill>
                    <a:latin typeface="Angsana New"/>
                    <a:ea typeface="BrowalliaUPC"/>
                  </a:rPr>
                  <a:t>6 </a:t>
                </a:r>
                <a:r>
                  <a:rPr b="1" lang="th-TH" sz="3200" spc="-1" strike="noStrike">
                    <a:solidFill>
                      <a:srgbClr val="000000"/>
                    </a:solidFill>
                    <a:latin typeface="Angsana New"/>
                    <a:cs typeface="BrowalliaUPC"/>
                  </a:rPr>
                  <a:t>หัวข้อหลัก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Group 7"/>
            <p:cNvGrpSpPr/>
            <p:nvPr/>
          </p:nvGrpSpPr>
          <p:grpSpPr>
            <a:xfrm>
              <a:off x="5065560" y="2133360"/>
              <a:ext cx="628560" cy="2513880"/>
              <a:chOff x="5065560" y="2133360"/>
              <a:chExt cx="628560" cy="2513880"/>
            </a:xfrm>
          </p:grpSpPr>
          <p:sp>
            <p:nvSpPr>
              <p:cNvPr id="983" name="Line 8"/>
              <p:cNvSpPr/>
              <p:nvPr/>
            </p:nvSpPr>
            <p:spPr>
              <a:xfrm>
                <a:off x="5065560" y="3349800"/>
                <a:ext cx="3139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Line 9"/>
              <p:cNvSpPr/>
              <p:nvPr/>
            </p:nvSpPr>
            <p:spPr>
              <a:xfrm>
                <a:off x="5379480" y="2133360"/>
                <a:ext cx="0" cy="2513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Line 10"/>
              <p:cNvSpPr/>
              <p:nvPr/>
            </p:nvSpPr>
            <p:spPr>
              <a:xfrm>
                <a:off x="5379480" y="2133360"/>
                <a:ext cx="3146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Line 11"/>
              <p:cNvSpPr/>
              <p:nvPr/>
            </p:nvSpPr>
            <p:spPr>
              <a:xfrm>
                <a:off x="5379480" y="2619720"/>
                <a:ext cx="3146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Line 12"/>
              <p:cNvSpPr/>
              <p:nvPr/>
            </p:nvSpPr>
            <p:spPr>
              <a:xfrm>
                <a:off x="5379480" y="3106440"/>
                <a:ext cx="3146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Line 13"/>
              <p:cNvSpPr/>
              <p:nvPr/>
            </p:nvSpPr>
            <p:spPr>
              <a:xfrm>
                <a:off x="5379480" y="3592800"/>
                <a:ext cx="3146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Line 14"/>
              <p:cNvSpPr/>
              <p:nvPr/>
            </p:nvSpPr>
            <p:spPr>
              <a:xfrm>
                <a:off x="5379480" y="4079520"/>
                <a:ext cx="3146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Line 15"/>
              <p:cNvSpPr/>
              <p:nvPr/>
            </p:nvSpPr>
            <p:spPr>
              <a:xfrm>
                <a:off x="5379480" y="4647240"/>
                <a:ext cx="3146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Group 16"/>
            <p:cNvGrpSpPr/>
            <p:nvPr/>
          </p:nvGrpSpPr>
          <p:grpSpPr>
            <a:xfrm>
              <a:off x="5772240" y="1905120"/>
              <a:ext cx="3219480" cy="3353760"/>
              <a:chOff x="5772240" y="1905120"/>
              <a:chExt cx="3219480" cy="3353760"/>
            </a:xfrm>
          </p:grpSpPr>
          <p:sp>
            <p:nvSpPr>
              <p:cNvPr id="992" name="Text Box 17"/>
              <p:cNvSpPr/>
              <p:nvPr/>
            </p:nvSpPr>
            <p:spPr>
              <a:xfrm>
                <a:off x="5772240" y="1905120"/>
                <a:ext cx="3219480" cy="4230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  <a:effectLst>
                <a:outerShdw dist="17819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400" spc="-1" strike="noStrike">
                    <a:solidFill>
                      <a:srgbClr val="000000"/>
                    </a:solidFill>
                    <a:latin typeface="Browallia New"/>
                    <a:cs typeface="CordiaUPC"/>
                  </a:rPr>
                  <a:t>ความเป็นมา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Text Box 18"/>
              <p:cNvSpPr/>
              <p:nvPr/>
            </p:nvSpPr>
            <p:spPr>
              <a:xfrm>
                <a:off x="5772240" y="2395440"/>
                <a:ext cx="3219480" cy="4413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  <a:effectLst>
                <a:outerShdw dist="17819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400" spc="-1" strike="noStrike">
                    <a:solidFill>
                      <a:srgbClr val="000000"/>
                    </a:solidFill>
                    <a:latin typeface="Times New Roman"/>
                    <a:cs typeface="CordiaUPC"/>
                  </a:rPr>
                  <a:t>ผลการสอบสวนโรค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Text Box 19"/>
              <p:cNvSpPr/>
              <p:nvPr/>
            </p:nvSpPr>
            <p:spPr>
              <a:xfrm>
                <a:off x="5772240" y="2909520"/>
                <a:ext cx="3219480" cy="4413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  <a:effectLst>
                <a:outerShdw dist="17819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400" spc="-1" strike="noStrike">
                    <a:solidFill>
                      <a:srgbClr val="000000"/>
                    </a:solidFill>
                    <a:latin typeface="Times New Roman"/>
                    <a:cs typeface="CordiaUPC"/>
                  </a:rPr>
                  <a:t>แนวโน้มของการระบาด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Text Box 20"/>
              <p:cNvSpPr/>
              <p:nvPr/>
            </p:nvSpPr>
            <p:spPr>
              <a:xfrm>
                <a:off x="5772240" y="3438360"/>
                <a:ext cx="3219480" cy="7887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  <a:effectLst>
                <a:outerShdw dist="17819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400" spc="-1" strike="noStrike">
                    <a:solidFill>
                      <a:srgbClr val="000000"/>
                    </a:solidFill>
                    <a:latin typeface="Times New Roman"/>
                    <a:cs typeface="CordiaUPC"/>
                  </a:rPr>
                  <a:t>กิจกรรมควบคุมโรคที่ทำไปแล้ว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Text Box 21"/>
              <p:cNvSpPr/>
              <p:nvPr/>
            </p:nvSpPr>
            <p:spPr>
              <a:xfrm>
                <a:off x="5772240" y="3952800"/>
                <a:ext cx="3219480" cy="7887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  <a:effectLst>
                <a:outerShdw dist="17819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400" spc="-1" strike="noStrike">
                    <a:solidFill>
                      <a:srgbClr val="000000"/>
                    </a:solidFill>
                    <a:latin typeface="Angsana New"/>
                    <a:cs typeface="CordiaUPC"/>
                  </a:rPr>
                  <a:t>สรุปความสำคัญ และเร่งด่วน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Text Box 22"/>
              <p:cNvSpPr/>
              <p:nvPr/>
            </p:nvSpPr>
            <p:spPr>
              <a:xfrm>
                <a:off x="5772240" y="4470120"/>
                <a:ext cx="3219480" cy="78876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  <a:effectLst>
                <a:outerShdw dist="17819" dir="2700000" blurRad="0" rotWithShape="0">
                  <a:srgbClr val="9999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400" spc="-1" strike="noStrike">
                    <a:solidFill>
                      <a:srgbClr val="000000"/>
                    </a:solidFill>
                    <a:latin typeface="Times New Roman"/>
                    <a:cs typeface="CordiaUPC"/>
                  </a:rPr>
                  <a:t>ข้อเสนอเพื่อพิจารณาดำเนินการ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8" name="Group 26"/>
          <p:cNvGrpSpPr/>
          <p:nvPr/>
        </p:nvGrpSpPr>
        <p:grpSpPr>
          <a:xfrm>
            <a:off x="1066680" y="474840"/>
            <a:ext cx="7239240" cy="1234080"/>
            <a:chOff x="1066680" y="474840"/>
            <a:chExt cx="7239240" cy="1234080"/>
          </a:xfrm>
        </p:grpSpPr>
        <p:sp>
          <p:nvSpPr>
            <p:cNvPr id="999" name="Rectangle 27"/>
            <p:cNvSpPr/>
            <p:nvPr/>
          </p:nvSpPr>
          <p:spPr>
            <a:xfrm>
              <a:off x="1219320" y="474840"/>
              <a:ext cx="708660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Text Box 28"/>
            <p:cNvSpPr/>
            <p:nvPr/>
          </p:nvSpPr>
          <p:spPr>
            <a:xfrm>
              <a:off x="1066680" y="517680"/>
              <a:ext cx="7010640" cy="119124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2b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Times New Roman"/>
                </a:rPr>
                <a:t>องค์ประกอบของรายงานการสอบสวนเบื้องต้น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1" name="Group 29"/>
          <p:cNvGrpSpPr/>
          <p:nvPr/>
        </p:nvGrpSpPr>
        <p:grpSpPr>
          <a:xfrm>
            <a:off x="1219320" y="5170320"/>
            <a:ext cx="5105160" cy="1017360"/>
            <a:chOff x="1219320" y="5170320"/>
            <a:chExt cx="5105160" cy="1017360"/>
          </a:xfrm>
        </p:grpSpPr>
        <p:sp>
          <p:nvSpPr>
            <p:cNvPr id="1002" name="AutoShape 30"/>
            <p:cNvSpPr/>
            <p:nvPr/>
          </p:nvSpPr>
          <p:spPr>
            <a:xfrm>
              <a:off x="1471320" y="5214960"/>
              <a:ext cx="4852800" cy="6408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AutoShape 31"/>
            <p:cNvSpPr/>
            <p:nvPr/>
          </p:nvSpPr>
          <p:spPr>
            <a:xfrm>
              <a:off x="1462320" y="5170320"/>
              <a:ext cx="4816440" cy="6408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Text Box 32"/>
            <p:cNvSpPr/>
            <p:nvPr/>
          </p:nvSpPr>
          <p:spPr>
            <a:xfrm>
              <a:off x="1219320" y="5216040"/>
              <a:ext cx="51051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ff33"/>
                  </a:solidFill>
                  <a:latin typeface="Arial"/>
                  <a:ea typeface="BrowalliaUPC"/>
                </a:rPr>
                <a:t>   </a:t>
              </a:r>
              <a:r>
                <a:rPr b="1" lang="en-US" sz="3600" spc="-1" strike="noStrike">
                  <a:solidFill>
                    <a:srgbClr val="ff0033"/>
                  </a:solidFill>
                  <a:latin typeface="Angsana New"/>
                  <a:cs typeface="BrowalliaUPC"/>
                </a:rPr>
                <a:t>ความยาว </a:t>
              </a:r>
              <a:r>
                <a:rPr b="1" lang="en-US" sz="3600" spc="-1" strike="noStrike">
                  <a:solidFill>
                    <a:srgbClr val="ff0033"/>
                  </a:solidFill>
                  <a:latin typeface="Angsana New"/>
                  <a:ea typeface="BrowalliaUPC"/>
                </a:rPr>
                <a:t>1-2 </a:t>
              </a:r>
              <a:r>
                <a:rPr b="1" lang="en-US" sz="3600" spc="-1" strike="noStrike">
                  <a:solidFill>
                    <a:srgbClr val="ff0033"/>
                  </a:solidFill>
                  <a:latin typeface="Angsana New"/>
                  <a:cs typeface="BrowalliaUPC"/>
                </a:rPr>
                <a:t>หน้ากระดาษ </a:t>
              </a:r>
              <a:r>
                <a:rPr b="1" lang="en-US" sz="3600" spc="-1" strike="noStrike">
                  <a:solidFill>
                    <a:srgbClr val="ff0033"/>
                  </a:solidFill>
                  <a:latin typeface="Angsana New"/>
                  <a:ea typeface="BrowalliaUPC"/>
                </a:rPr>
                <a:t>A4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5157720" y="218124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BrowalliaUPC"/>
              </a:rPr>
              <a:t>เกิดอะไร ที่ไหน เมื่อไหร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Text Box 3"/>
          <p:cNvSpPr/>
          <p:nvPr/>
        </p:nvSpPr>
        <p:spPr>
          <a:xfrm>
            <a:off x="5172120" y="283356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BrowalliaUPC"/>
              </a:rPr>
              <a:t>แหล่งข่าวใด  ผู้ให้ข่าวเป็นใค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Text Box 4"/>
          <p:cNvSpPr/>
          <p:nvPr/>
        </p:nvSpPr>
        <p:spPr>
          <a:xfrm>
            <a:off x="5186520" y="3490920"/>
            <a:ext cx="34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  <a:cs typeface="BrowalliaUPC"/>
              </a:rPr>
              <a:t>ข้อมูลเบื้องต้นของ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BrowalliaUPC"/>
              </a:rPr>
              <a:t>Index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Text Box 5"/>
          <p:cNvSpPr/>
          <p:nvPr/>
        </p:nvSpPr>
        <p:spPr>
          <a:xfrm>
            <a:off x="5195880" y="4238640"/>
            <a:ext cx="34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BrowalliaUPC"/>
              </a:rPr>
              <a:t>ขนาดของปัญหาที่ได้รับแจ้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86520" y="4848120"/>
            <a:ext cx="40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BrowalliaUPC"/>
              </a:rPr>
              <a:t>เริ่มสอบสวนและเสร็จสิ้นเมื่อไ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Text Box 7"/>
          <p:cNvSpPr/>
          <p:nvPr/>
        </p:nvSpPr>
        <p:spPr>
          <a:xfrm>
            <a:off x="5210280" y="5472000"/>
            <a:ext cx="39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BrowalliaUPC"/>
              </a:rPr>
              <a:t>วัตถุประสงค์ในการสอบสวนโร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Line 8"/>
          <p:cNvSpPr/>
          <p:nvPr/>
        </p:nvSpPr>
        <p:spPr>
          <a:xfrm>
            <a:off x="4052880" y="2438280"/>
            <a:ext cx="990720" cy="0"/>
          </a:xfrm>
          <a:prstGeom prst="line">
            <a:avLst/>
          </a:prstGeom>
          <a:ln w="38160">
            <a:solidFill>
              <a:srgbClr val="2bff01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Line 9"/>
          <p:cNvSpPr/>
          <p:nvPr/>
        </p:nvSpPr>
        <p:spPr>
          <a:xfrm>
            <a:off x="4023000" y="2592720"/>
            <a:ext cx="1050480" cy="502560"/>
          </a:xfrm>
          <a:prstGeom prst="line">
            <a:avLst/>
          </a:prstGeom>
          <a:ln w="38160">
            <a:solidFill>
              <a:srgbClr val="2bff01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Line 10"/>
          <p:cNvSpPr/>
          <p:nvPr/>
        </p:nvSpPr>
        <p:spPr>
          <a:xfrm>
            <a:off x="3886200" y="2666880"/>
            <a:ext cx="1219320" cy="1067040"/>
          </a:xfrm>
          <a:prstGeom prst="line">
            <a:avLst/>
          </a:prstGeom>
          <a:ln w="38160">
            <a:solidFill>
              <a:srgbClr val="2bff01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Line 11"/>
          <p:cNvSpPr/>
          <p:nvPr/>
        </p:nvSpPr>
        <p:spPr>
          <a:xfrm>
            <a:off x="3733920" y="2743200"/>
            <a:ext cx="1371600" cy="1752480"/>
          </a:xfrm>
          <a:prstGeom prst="line">
            <a:avLst/>
          </a:prstGeom>
          <a:ln w="38160">
            <a:solidFill>
              <a:srgbClr val="2bff01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Line 12"/>
          <p:cNvSpPr/>
          <p:nvPr/>
        </p:nvSpPr>
        <p:spPr>
          <a:xfrm>
            <a:off x="3733920" y="2971800"/>
            <a:ext cx="1371600" cy="2133720"/>
          </a:xfrm>
          <a:prstGeom prst="line">
            <a:avLst/>
          </a:prstGeom>
          <a:ln w="38160">
            <a:solidFill>
              <a:srgbClr val="2bff01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Line 13"/>
          <p:cNvSpPr/>
          <p:nvPr/>
        </p:nvSpPr>
        <p:spPr>
          <a:xfrm>
            <a:off x="3505320" y="3048120"/>
            <a:ext cx="1600200" cy="2666880"/>
          </a:xfrm>
          <a:prstGeom prst="line">
            <a:avLst/>
          </a:prstGeom>
          <a:ln w="38160">
            <a:solidFill>
              <a:srgbClr val="2bff01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7" name="Object 14"/>
          <p:cNvGraphicFramePr/>
          <p:nvPr/>
        </p:nvGraphicFramePr>
        <p:xfrm>
          <a:off x="460440" y="4862520"/>
          <a:ext cx="62064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4862520"/>
                    <a:ext cx="6206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9" name="Group 15"/>
          <p:cNvGrpSpPr/>
          <p:nvPr/>
        </p:nvGrpSpPr>
        <p:grpSpPr>
          <a:xfrm>
            <a:off x="1081080" y="3657600"/>
            <a:ext cx="2895480" cy="1797480"/>
            <a:chOff x="1081080" y="3657600"/>
            <a:chExt cx="2895480" cy="1797480"/>
          </a:xfrm>
        </p:grpSpPr>
        <p:sp>
          <p:nvSpPr>
            <p:cNvPr id="1020" name="AutoShape 16"/>
            <p:cNvSpPr/>
            <p:nvPr/>
          </p:nvSpPr>
          <p:spPr>
            <a:xfrm>
              <a:off x="1081080" y="3657600"/>
              <a:ext cx="2895480" cy="1294920"/>
            </a:xfrm>
            <a:prstGeom prst="wedgeEllipseCallout">
              <a:avLst>
                <a:gd name="adj1" fmla="val -47435"/>
                <a:gd name="adj2" fmla="val 59226"/>
              </a:avLst>
            </a:prstGeom>
            <a:solidFill>
              <a:srgbClr val="cc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Text Box 17"/>
            <p:cNvSpPr/>
            <p:nvPr/>
          </p:nvSpPr>
          <p:spPr>
            <a:xfrm>
              <a:off x="1223280" y="3807720"/>
              <a:ext cx="2592000" cy="16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ffffff"/>
                  </a:solidFill>
                  <a:latin typeface="Angsana New"/>
                  <a:cs typeface="CordiaUPC"/>
                </a:rPr>
                <a:t>บอกให้ทราบถึงเหตุการณ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ffffff"/>
                  </a:solidFill>
                  <a:latin typeface="Angsana New"/>
                  <a:cs typeface="CordiaUPC"/>
                </a:rPr>
                <a:t>ผิดปกติที่นำไปสู่การ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ffffff"/>
                  </a:solidFill>
                  <a:latin typeface="Angsana New"/>
                  <a:cs typeface="CordiaUPC"/>
                </a:rPr>
                <a:t>สอบสวนการระบาด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2" name="Group 18"/>
          <p:cNvGrpSpPr/>
          <p:nvPr/>
        </p:nvGrpSpPr>
        <p:grpSpPr>
          <a:xfrm>
            <a:off x="1295280" y="1066680"/>
            <a:ext cx="3505320" cy="2286000"/>
            <a:chOff x="1295280" y="1066680"/>
            <a:chExt cx="3505320" cy="2286000"/>
          </a:xfrm>
        </p:grpSpPr>
        <p:sp>
          <p:nvSpPr>
            <p:cNvPr id="1023" name="AutoShape 19"/>
            <p:cNvSpPr/>
            <p:nvPr/>
          </p:nvSpPr>
          <p:spPr>
            <a:xfrm>
              <a:off x="1295280" y="1066680"/>
              <a:ext cx="3505320" cy="2286000"/>
            </a:xfrm>
            <a:custGeom>
              <a:avLst/>
              <a:gdLst>
                <a:gd name="textAreaLeft" fmla="*/ 800280 w 3505320"/>
                <a:gd name="textAreaRight" fmla="*/ 2705040 w 3505320"/>
                <a:gd name="textAreaTop" fmla="*/ 521640 h 2286000"/>
                <a:gd name="textAreaBottom" fmla="*/ 1764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33"/>
                </a:gs>
                <a:gs pos="100000">
                  <a:srgbClr val="760018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2b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Text Box 20"/>
            <p:cNvSpPr/>
            <p:nvPr/>
          </p:nvSpPr>
          <p:spPr>
            <a:xfrm>
              <a:off x="1523880" y="1143000"/>
              <a:ext cx="3081600" cy="16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25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25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25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400" spc="-1" strike="noStrike">
                  <a:solidFill>
                    <a:srgbClr val="ffffff"/>
                  </a:solidFill>
                  <a:latin typeface="Angsana New"/>
                  <a:cs typeface="BrowalliaUPC"/>
                </a:rPr>
                <a:t>บทนำหรือ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25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400" spc="-1" strike="noStrike">
                  <a:solidFill>
                    <a:srgbClr val="ffffff"/>
                  </a:solidFill>
                  <a:latin typeface="Angsana New"/>
                  <a:cs typeface="BrowalliaUPC"/>
                </a:rPr>
                <a:t>ความเป็นมา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5" name="Text Box 24"/>
          <p:cNvSpPr/>
          <p:nvPr/>
        </p:nvSpPr>
        <p:spPr>
          <a:xfrm>
            <a:off x="1295280" y="349200"/>
            <a:ext cx="6782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CordiaUPC"/>
              </a:rPr>
              <a:t>วิธีการเขียนรายงานการสอบสวนเบื้องต้น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 Box 5"/>
          <p:cNvSpPr/>
          <p:nvPr/>
        </p:nvSpPr>
        <p:spPr>
          <a:xfrm>
            <a:off x="1441440" y="185760"/>
            <a:ext cx="6781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CordiaUPC"/>
              </a:rPr>
              <a:t>วิธีการเขียนรายงานการสอบสวนเบื้องต้น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7" name="Group 6"/>
          <p:cNvGrpSpPr/>
          <p:nvPr/>
        </p:nvGrpSpPr>
        <p:grpSpPr>
          <a:xfrm>
            <a:off x="1981080" y="1905120"/>
            <a:ext cx="6628680" cy="4156920"/>
            <a:chOff x="1981080" y="1905120"/>
            <a:chExt cx="6628680" cy="4156920"/>
          </a:xfrm>
        </p:grpSpPr>
        <p:sp>
          <p:nvSpPr>
            <p:cNvPr id="1028" name="Rectangle 7"/>
            <p:cNvSpPr/>
            <p:nvPr/>
          </p:nvSpPr>
          <p:spPr>
            <a:xfrm>
              <a:off x="2213280" y="1905120"/>
              <a:ext cx="6396480" cy="39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rmAutofit fontScale="80000"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BrowalliaUPC"/>
                </a:rPr>
                <a:t> </a:t>
              </a:r>
              <a:r>
                <a:rPr b="1" lang="th-TH" sz="3200" spc="-1" strike="noStrike">
                  <a:solidFill>
                    <a:srgbClr val="000000"/>
                  </a:solidFill>
                  <a:latin typeface="Angsana New"/>
                  <a:cs typeface="BrowalliaUPC"/>
                </a:rPr>
                <a:t>สถานการณ์ที่เกิดขึ้น</a:t>
              </a:r>
              <a:r>
                <a:rPr b="1" lang="en-US" sz="3200" spc="-1" strike="noStrike">
                  <a:solidFill>
                    <a:srgbClr val="000000"/>
                  </a:solidFill>
                  <a:latin typeface="Angsana New"/>
                  <a:ea typeface="BrowalliaUPC"/>
                </a:rPr>
                <a:t> </a:t>
              </a:r>
              <a:r>
                <a:rPr b="1" lang="th-TH" sz="3200" spc="-1" strike="noStrike">
                  <a:solidFill>
                    <a:srgbClr val="000000"/>
                  </a:solidFill>
                  <a:latin typeface="Angsana New"/>
                  <a:cs typeface="BrowalliaUPC"/>
                </a:rPr>
                <a:t>จำนวนผู้ป่วย เสียชีวิต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BrowalliaUPC"/>
                </a:rPr>
                <a:t> </a:t>
              </a: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cs typeface="BrowalliaUPC"/>
                </a:rPr>
                <a:t>ผู้ป่วยเป็นใคร หรือเป็นกลุ่มเสี่ยงใด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BrowalliaUPC"/>
                </a:rPr>
                <a:t> </a:t>
              </a: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cs typeface="BrowalliaUPC"/>
                </a:rPr>
                <a:t>แหล่งรังโรคและวิธีถ่ายทอดโร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ea typeface="BrowalliaUPC"/>
                </a:rPr>
                <a:t> </a:t>
              </a: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cs typeface="BrowalliaUPC"/>
                </a:rPr>
                <a:t>สาเหตุของการระบาด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ea typeface="BrowalliaUPC"/>
                </a:rPr>
                <a:t> </a:t>
              </a: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cs typeface="BrowalliaUPC"/>
                </a:rPr>
                <a:t>ปัจจัยเสี่ยงที่สัมพันธ์กับการระบาด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ea typeface="BrowalliaUPC"/>
                </a:rPr>
                <a:t> </a:t>
              </a: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cs typeface="BrowalliaUPC"/>
                </a:rPr>
                <a:t>ผลตรวจทางห้องปฏิบัติการ ศึกษาสิ่งแวดล้อม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9" name="Group 8"/>
            <p:cNvGrpSpPr/>
            <p:nvPr/>
          </p:nvGrpSpPr>
          <p:grpSpPr>
            <a:xfrm>
              <a:off x="1981080" y="2252880"/>
              <a:ext cx="6278760" cy="3809160"/>
              <a:chOff x="1981080" y="2252880"/>
              <a:chExt cx="6278760" cy="3809160"/>
            </a:xfrm>
          </p:grpSpPr>
          <p:grpSp>
            <p:nvGrpSpPr>
              <p:cNvPr id="1030" name="Group 9"/>
              <p:cNvGrpSpPr/>
              <p:nvPr/>
            </p:nvGrpSpPr>
            <p:grpSpPr>
              <a:xfrm>
                <a:off x="1981080" y="2252880"/>
                <a:ext cx="6278760" cy="1904400"/>
                <a:chOff x="1981080" y="2252880"/>
                <a:chExt cx="6278760" cy="1904400"/>
              </a:xfrm>
            </p:grpSpPr>
            <p:sp>
              <p:nvSpPr>
                <p:cNvPr id="1031" name="Rectangle 10"/>
                <p:cNvSpPr/>
                <p:nvPr/>
              </p:nvSpPr>
              <p:spPr>
                <a:xfrm>
                  <a:off x="1981080" y="2252880"/>
                  <a:ext cx="6278760" cy="1904400"/>
                </a:xfrm>
                <a:prstGeom prst="rect">
                  <a:avLst/>
                </a:prstGeom>
                <a:noFill/>
                <a:ln cap="sq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Rectangle 11"/>
                <p:cNvSpPr/>
                <p:nvPr/>
              </p:nvSpPr>
              <p:spPr>
                <a:xfrm>
                  <a:off x="1981080" y="2945520"/>
                  <a:ext cx="6278760" cy="605520"/>
                </a:xfrm>
                <a:prstGeom prst="rect">
                  <a:avLst/>
                </a:prstGeom>
                <a:noFill/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3" name="Group 12"/>
              <p:cNvGrpSpPr/>
              <p:nvPr/>
            </p:nvGrpSpPr>
            <p:grpSpPr>
              <a:xfrm>
                <a:off x="1981080" y="4157640"/>
                <a:ext cx="6278760" cy="1904400"/>
                <a:chOff x="1981080" y="4157640"/>
                <a:chExt cx="6278760" cy="1904400"/>
              </a:xfrm>
            </p:grpSpPr>
            <p:sp>
              <p:nvSpPr>
                <p:cNvPr id="1034" name="Rectangle 13"/>
                <p:cNvSpPr/>
                <p:nvPr/>
              </p:nvSpPr>
              <p:spPr>
                <a:xfrm>
                  <a:off x="1981080" y="4157640"/>
                  <a:ext cx="6278760" cy="1904400"/>
                </a:xfrm>
                <a:prstGeom prst="rect">
                  <a:avLst/>
                </a:prstGeom>
                <a:noFill/>
                <a:ln cap="sq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Rectangle 14"/>
                <p:cNvSpPr/>
                <p:nvPr/>
              </p:nvSpPr>
              <p:spPr>
                <a:xfrm>
                  <a:off x="1981080" y="4850280"/>
                  <a:ext cx="6278760" cy="605520"/>
                </a:xfrm>
                <a:prstGeom prst="rect">
                  <a:avLst/>
                </a:prstGeom>
                <a:noFill/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36" name="Group 15"/>
          <p:cNvGrpSpPr/>
          <p:nvPr/>
        </p:nvGrpSpPr>
        <p:grpSpPr>
          <a:xfrm>
            <a:off x="990720" y="915840"/>
            <a:ext cx="2818800" cy="1505880"/>
            <a:chOff x="990720" y="915840"/>
            <a:chExt cx="2818800" cy="1505880"/>
          </a:xfrm>
        </p:grpSpPr>
        <p:grpSp>
          <p:nvGrpSpPr>
            <p:cNvPr id="1037" name="Group 16"/>
            <p:cNvGrpSpPr/>
            <p:nvPr/>
          </p:nvGrpSpPr>
          <p:grpSpPr>
            <a:xfrm>
              <a:off x="990720" y="915840"/>
              <a:ext cx="2818800" cy="880920"/>
              <a:chOff x="990720" y="915840"/>
              <a:chExt cx="2818800" cy="880920"/>
            </a:xfrm>
          </p:grpSpPr>
          <p:sp>
            <p:nvSpPr>
              <p:cNvPr id="1038" name="Rectangle 17"/>
              <p:cNvSpPr/>
              <p:nvPr/>
            </p:nvSpPr>
            <p:spPr>
              <a:xfrm>
                <a:off x="1020960" y="974520"/>
                <a:ext cx="2788560" cy="822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Rectangle 18"/>
              <p:cNvSpPr/>
              <p:nvPr/>
            </p:nvSpPr>
            <p:spPr>
              <a:xfrm>
                <a:off x="990720" y="915840"/>
                <a:ext cx="2788560" cy="822240"/>
              </a:xfrm>
              <a:prstGeom prst="rect">
                <a:avLst/>
              </a:prstGeom>
              <a:solidFill>
                <a:srgbClr val="ff0033"/>
              </a:solidFill>
              <a:ln cap="sq" w="1260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0" name="Rectangle 19"/>
            <p:cNvSpPr/>
            <p:nvPr/>
          </p:nvSpPr>
          <p:spPr>
            <a:xfrm>
              <a:off x="993240" y="987120"/>
              <a:ext cx="2781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400" spc="-1" strike="noStrike">
                  <a:solidFill>
                    <a:srgbClr val="ffffff"/>
                  </a:solidFill>
                  <a:latin typeface="Angsana New"/>
                </a:rPr>
                <a:t>ผลการศึกษา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Object 4" descr=""/>
          <p:cNvPicPr/>
          <p:nvPr/>
        </p:nvPicPr>
        <p:blipFill>
          <a:blip r:embed="rId1"/>
          <a:stretch/>
        </p:blipFill>
        <p:spPr>
          <a:xfrm>
            <a:off x="2949480" y="2301840"/>
            <a:ext cx="4365720" cy="310824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5"/>
          <p:cNvSpPr/>
          <p:nvPr/>
        </p:nvSpPr>
        <p:spPr>
          <a:xfrm>
            <a:off x="1447920" y="144792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CordiaUPC"/>
              </a:rPr>
              <a:t>1.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CordiaUPC"/>
              </a:rPr>
              <a:t>เพื่อรายงานผลการสอบสวนทางระบาดวิทย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6400800" y="1479600"/>
            <a:ext cx="2743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CordiaUPC"/>
              </a:rPr>
              <a:t>2.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CordiaUPC"/>
              </a:rPr>
              <a:t>เพื่อเสนอข้อคิดเห็นแก่ผู้บริหารและผู้เกี่ยวข้อ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5452920" y="5319720"/>
            <a:ext cx="358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CordiaUPC"/>
              </a:rPr>
              <a:t>3.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CordiaUPC"/>
              </a:rPr>
              <a:t>เพื่อเป็นองค์ความรู้และแนวทางในการสอบสวนโรคในครั้งต่อไ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1219320" y="5219640"/>
            <a:ext cx="32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CordiaUPC"/>
              </a:rPr>
              <a:t>4.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CordiaUPC"/>
              </a:rPr>
              <a:t>เพื่อบันทึกเหตุการณ์ระบาดของโรคหรือปัญหาสาธารณสุขที่เกิดขึ้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9" name="Group 22"/>
          <p:cNvGrpSpPr/>
          <p:nvPr/>
        </p:nvGrpSpPr>
        <p:grpSpPr>
          <a:xfrm>
            <a:off x="1523880" y="380880"/>
            <a:ext cx="7086600" cy="1191240"/>
            <a:chOff x="1523880" y="380880"/>
            <a:chExt cx="7086600" cy="1191240"/>
          </a:xfrm>
        </p:grpSpPr>
        <p:sp>
          <p:nvSpPr>
            <p:cNvPr id="590" name="Rectangle 9"/>
            <p:cNvSpPr/>
            <p:nvPr/>
          </p:nvSpPr>
          <p:spPr>
            <a:xfrm>
              <a:off x="1523880" y="422280"/>
              <a:ext cx="7086600" cy="68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Text Box 10"/>
            <p:cNvSpPr/>
            <p:nvPr/>
          </p:nvSpPr>
          <p:spPr>
            <a:xfrm>
              <a:off x="1523880" y="380880"/>
              <a:ext cx="7010640" cy="119124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2b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Angsana New"/>
                  <a:cs typeface="BrowalliaUPC"/>
                </a:rPr>
                <a:t>วัตถุประสงค์ของการเขียนรายงานสอบสวนโรค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2" name="Group 15"/>
          <p:cNvGrpSpPr/>
          <p:nvPr/>
        </p:nvGrpSpPr>
        <p:grpSpPr>
          <a:xfrm>
            <a:off x="4191120" y="1600200"/>
            <a:ext cx="1980720" cy="1368360"/>
            <a:chOff x="4191120" y="1600200"/>
            <a:chExt cx="1980720" cy="1368360"/>
          </a:xfrm>
        </p:grpSpPr>
        <p:sp>
          <p:nvSpPr>
            <p:cNvPr id="593" name="Oval 13"/>
            <p:cNvSpPr/>
            <p:nvPr/>
          </p:nvSpPr>
          <p:spPr>
            <a:xfrm>
              <a:off x="4191120" y="1600200"/>
              <a:ext cx="1980720" cy="1368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Text Box 14"/>
            <p:cNvSpPr/>
            <p:nvPr/>
          </p:nvSpPr>
          <p:spPr>
            <a:xfrm>
              <a:off x="4307040" y="1981080"/>
              <a:ext cx="174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00ff"/>
                  </a:solidFill>
                  <a:latin typeface="Forte"/>
                </a:rPr>
                <a:t>WHY?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1" name="Group 2"/>
          <p:cNvGrpSpPr/>
          <p:nvPr/>
        </p:nvGrpSpPr>
        <p:grpSpPr>
          <a:xfrm>
            <a:off x="207360" y="1235160"/>
            <a:ext cx="7669800" cy="888840"/>
            <a:chOff x="207360" y="1235160"/>
            <a:chExt cx="7669800" cy="888840"/>
          </a:xfrm>
        </p:grpSpPr>
        <p:sp>
          <p:nvSpPr>
            <p:cNvPr id="1042" name="Rectangle 3"/>
            <p:cNvSpPr/>
            <p:nvPr/>
          </p:nvSpPr>
          <p:spPr>
            <a:xfrm>
              <a:off x="1321920" y="1235160"/>
              <a:ext cx="5551560" cy="82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Rectangle 4"/>
            <p:cNvSpPr/>
            <p:nvPr/>
          </p:nvSpPr>
          <p:spPr>
            <a:xfrm>
              <a:off x="1004760" y="1301760"/>
              <a:ext cx="5551200" cy="82224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Rectangle 5"/>
            <p:cNvSpPr/>
            <p:nvPr/>
          </p:nvSpPr>
          <p:spPr>
            <a:xfrm>
              <a:off x="207360" y="1252440"/>
              <a:ext cx="76698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000" spc="-1" strike="noStrike">
                  <a:solidFill>
                    <a:srgbClr val="ffffff"/>
                  </a:solidFill>
                  <a:latin typeface="Times New Roman"/>
                </a:rPr>
                <a:t>กิจกรรมควบคุมโรคที่ดำเนินการแล้ว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5" name="Text Box 9"/>
          <p:cNvSpPr/>
          <p:nvPr/>
        </p:nvSpPr>
        <p:spPr>
          <a:xfrm>
            <a:off x="1262160" y="219240"/>
            <a:ext cx="6781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CordiaUPC"/>
              </a:rPr>
              <a:t>วิธีการเขียนรายงานการสอบสวนเบื้องต้น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6" name="Group 10"/>
          <p:cNvGrpSpPr/>
          <p:nvPr/>
        </p:nvGrpSpPr>
        <p:grpSpPr>
          <a:xfrm>
            <a:off x="1905120" y="2895480"/>
            <a:ext cx="6476760" cy="2209680"/>
            <a:chOff x="1905120" y="2895480"/>
            <a:chExt cx="6476760" cy="2209680"/>
          </a:xfrm>
        </p:grpSpPr>
        <p:sp>
          <p:nvSpPr>
            <p:cNvPr id="1047" name="Rectangle 11"/>
            <p:cNvSpPr/>
            <p:nvPr/>
          </p:nvSpPr>
          <p:spPr>
            <a:xfrm>
              <a:off x="2000160" y="2895480"/>
              <a:ext cx="638172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rmAutofit fontScale="88000"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BrowalliaUPC"/>
                </a:rPr>
                <a:t> </a:t>
              </a: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cs typeface="BrowalliaUPC"/>
                </a:rPr>
                <a:t>ระบุกิจกรรมควบคุมโรคที่ดำเนินการแล้ว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BrowalliaUPC"/>
                </a:rPr>
                <a:t> </a:t>
              </a: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cs typeface="BrowalliaUPC"/>
                </a:rPr>
                <a:t>ระบุหน่วยงานที่ร่วมดำเนินการควบคุมโร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ea typeface="BrowalliaUPC"/>
                </a:rPr>
                <a:t> </a:t>
              </a: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cs typeface="BrowalliaUPC"/>
                </a:rPr>
                <a:t>รายงานผลการควบคุมโรคในเบื้องต้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8" name="Group 12"/>
            <p:cNvGrpSpPr/>
            <p:nvPr/>
          </p:nvGrpSpPr>
          <p:grpSpPr>
            <a:xfrm>
              <a:off x="1905120" y="3124080"/>
              <a:ext cx="5941800" cy="1942920"/>
              <a:chOff x="1905120" y="3124080"/>
              <a:chExt cx="5941800" cy="1942920"/>
            </a:xfrm>
          </p:grpSpPr>
          <p:sp>
            <p:nvSpPr>
              <p:cNvPr id="1049" name="Rectangle 13"/>
              <p:cNvSpPr/>
              <p:nvPr/>
            </p:nvSpPr>
            <p:spPr>
              <a:xfrm>
                <a:off x="1905120" y="3124080"/>
                <a:ext cx="5941800" cy="647640"/>
              </a:xfrm>
              <a:prstGeom prst="rect">
                <a:avLst/>
              </a:prstGeom>
              <a:noFill/>
              <a:ln w="381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Rectangle 14"/>
              <p:cNvSpPr/>
              <p:nvPr/>
            </p:nvSpPr>
            <p:spPr>
              <a:xfrm>
                <a:off x="1905120" y="3771720"/>
                <a:ext cx="5941800" cy="64764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Rectangle 15"/>
              <p:cNvSpPr/>
              <p:nvPr/>
            </p:nvSpPr>
            <p:spPr>
              <a:xfrm>
                <a:off x="1905120" y="4419360"/>
                <a:ext cx="5941800" cy="647640"/>
              </a:xfrm>
              <a:prstGeom prst="rect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2"/>
          <p:cNvGrpSpPr/>
          <p:nvPr/>
        </p:nvGrpSpPr>
        <p:grpSpPr>
          <a:xfrm>
            <a:off x="1247760" y="1100160"/>
            <a:ext cx="3476160" cy="1323000"/>
            <a:chOff x="1247760" y="1100160"/>
            <a:chExt cx="3476160" cy="1323000"/>
          </a:xfrm>
        </p:grpSpPr>
        <p:grpSp>
          <p:nvGrpSpPr>
            <p:cNvPr id="1053" name="Group 3"/>
            <p:cNvGrpSpPr/>
            <p:nvPr/>
          </p:nvGrpSpPr>
          <p:grpSpPr>
            <a:xfrm>
              <a:off x="1247760" y="1100160"/>
              <a:ext cx="3476160" cy="880920"/>
              <a:chOff x="1247760" y="1100160"/>
              <a:chExt cx="3476160" cy="880920"/>
            </a:xfrm>
          </p:grpSpPr>
          <p:sp>
            <p:nvSpPr>
              <p:cNvPr id="1054" name="Rectangle 4"/>
              <p:cNvSpPr/>
              <p:nvPr/>
            </p:nvSpPr>
            <p:spPr>
              <a:xfrm>
                <a:off x="1285200" y="1158840"/>
                <a:ext cx="3438720" cy="822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Rectangle 5"/>
              <p:cNvSpPr/>
              <p:nvPr/>
            </p:nvSpPr>
            <p:spPr>
              <a:xfrm>
                <a:off x="1247760" y="1100160"/>
                <a:ext cx="3438720" cy="822240"/>
              </a:xfrm>
              <a:prstGeom prst="rect">
                <a:avLst/>
              </a:prstGeom>
              <a:solidFill>
                <a:srgbClr val="ff0033"/>
              </a:solidFill>
              <a:ln cap="sq" w="1260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6" name="Rectangle 6"/>
            <p:cNvSpPr/>
            <p:nvPr/>
          </p:nvSpPr>
          <p:spPr>
            <a:xfrm>
              <a:off x="1252440" y="1171440"/>
              <a:ext cx="342900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000" spc="-1" strike="noStrike">
                  <a:solidFill>
                    <a:srgbClr val="ffffff"/>
                  </a:solidFill>
                  <a:latin typeface="Times New Roman"/>
                </a:rPr>
                <a:t>แนวโน้มของการระบาด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7" name="Text Box 10"/>
          <p:cNvSpPr/>
          <p:nvPr/>
        </p:nvSpPr>
        <p:spPr>
          <a:xfrm>
            <a:off x="1828800" y="228600"/>
            <a:ext cx="6781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CordiaUPC"/>
              </a:rPr>
              <a:t>วิธีการเขียนรายงานการสอบสวนเบื้องต้น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8" name="Group 11"/>
          <p:cNvGrpSpPr/>
          <p:nvPr/>
        </p:nvGrpSpPr>
        <p:grpSpPr>
          <a:xfrm>
            <a:off x="1600200" y="2133720"/>
            <a:ext cx="7009920" cy="1526400"/>
            <a:chOff x="1600200" y="2133720"/>
            <a:chExt cx="7009920" cy="1526400"/>
          </a:xfrm>
        </p:grpSpPr>
        <p:sp>
          <p:nvSpPr>
            <p:cNvPr id="1059" name="AutoShape 12"/>
            <p:cNvSpPr/>
            <p:nvPr/>
          </p:nvSpPr>
          <p:spPr>
            <a:xfrm>
              <a:off x="1698840" y="2281320"/>
              <a:ext cx="6663960" cy="838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AutoShape 13"/>
            <p:cNvSpPr/>
            <p:nvPr/>
          </p:nvSpPr>
          <p:spPr>
            <a:xfrm>
              <a:off x="1693800" y="2210040"/>
              <a:ext cx="6613560" cy="8380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Text Box 14"/>
            <p:cNvSpPr/>
            <p:nvPr/>
          </p:nvSpPr>
          <p:spPr>
            <a:xfrm>
              <a:off x="1600200" y="2133720"/>
              <a:ext cx="7009920" cy="15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5400" spc="-1" strike="noStrike">
                  <a:solidFill>
                    <a:srgbClr val="000000"/>
                  </a:solidFill>
                  <a:latin typeface="Arial"/>
                  <a:ea typeface="BrowalliaUPC"/>
                </a:rPr>
                <a:t> </a:t>
              </a:r>
              <a:r>
                <a:rPr b="1" lang="th-TH" sz="4000" spc="-1" strike="noStrike">
                  <a:solidFill>
                    <a:srgbClr val="ff0033"/>
                  </a:solidFill>
                  <a:latin typeface="Times New Roman"/>
                </a:rPr>
                <a:t>พยากรณ์แนวโน้มการระบาด โดยประมวลจาก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2" name="Group 15"/>
          <p:cNvGrpSpPr/>
          <p:nvPr/>
        </p:nvGrpSpPr>
        <p:grpSpPr>
          <a:xfrm>
            <a:off x="1981080" y="3657600"/>
            <a:ext cx="6553080" cy="2590920"/>
            <a:chOff x="1981080" y="3657600"/>
            <a:chExt cx="6553080" cy="2590920"/>
          </a:xfrm>
        </p:grpSpPr>
        <p:sp>
          <p:nvSpPr>
            <p:cNvPr id="1063" name="Rectangle 16"/>
            <p:cNvSpPr/>
            <p:nvPr/>
          </p:nvSpPr>
          <p:spPr>
            <a:xfrm>
              <a:off x="2152440" y="3762360"/>
              <a:ext cx="638172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rmAutofit fontScale="77000"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BrowalliaUPC"/>
                </a:rPr>
                <a:t> </a:t>
              </a: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cs typeface="BrowalliaUPC"/>
                </a:rPr>
                <a:t>จำนวนผู้ป่วยยืนยัน ผู้ป่วยสงสัยที่พบ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BrowalliaUPC"/>
                </a:rPr>
                <a:t> </a:t>
              </a: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cs typeface="BrowalliaUPC"/>
                </a:rPr>
                <a:t>พบสาเหตุหรือแหล่งรังโรคหรือไม่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ea typeface="BrowalliaUPC"/>
                </a:rPr>
                <a:t> </a:t>
              </a: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cs typeface="BrowalliaUPC"/>
                </a:rPr>
                <a:t>มาตรการควบคุมโรคมีประสิทธิภาพหรือไม่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ea typeface="BrowalliaUPC"/>
                </a:rPr>
                <a:t> </a:t>
              </a: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cs typeface="BrowalliaUPC"/>
                </a:rPr>
                <a:t>อยู่ในฤดูการระบาดของโรคหรือไม่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4" name="Group 17"/>
            <p:cNvGrpSpPr/>
            <p:nvPr/>
          </p:nvGrpSpPr>
          <p:grpSpPr>
            <a:xfrm>
              <a:off x="1981080" y="3657600"/>
              <a:ext cx="5941440" cy="2590920"/>
              <a:chOff x="1981080" y="3657600"/>
              <a:chExt cx="5941440" cy="2590920"/>
            </a:xfrm>
          </p:grpSpPr>
          <p:sp>
            <p:nvSpPr>
              <p:cNvPr id="1065" name="Rectangle 18"/>
              <p:cNvSpPr/>
              <p:nvPr/>
            </p:nvSpPr>
            <p:spPr>
              <a:xfrm>
                <a:off x="1981080" y="3657600"/>
                <a:ext cx="5941440" cy="64764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Rectangle 19"/>
              <p:cNvSpPr/>
              <p:nvPr/>
            </p:nvSpPr>
            <p:spPr>
              <a:xfrm>
                <a:off x="1981080" y="4305240"/>
                <a:ext cx="5941440" cy="64800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Rectangle 20"/>
              <p:cNvSpPr/>
              <p:nvPr/>
            </p:nvSpPr>
            <p:spPr>
              <a:xfrm>
                <a:off x="1981080" y="4953240"/>
                <a:ext cx="5941440" cy="64764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Rectangle 21"/>
              <p:cNvSpPr/>
              <p:nvPr/>
            </p:nvSpPr>
            <p:spPr>
              <a:xfrm>
                <a:off x="1981080" y="5600880"/>
                <a:ext cx="5941440" cy="64764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Group 2"/>
          <p:cNvGrpSpPr/>
          <p:nvPr/>
        </p:nvGrpSpPr>
        <p:grpSpPr>
          <a:xfrm>
            <a:off x="1247760" y="1100160"/>
            <a:ext cx="7361640" cy="1323000"/>
            <a:chOff x="1247760" y="1100160"/>
            <a:chExt cx="7361640" cy="1323000"/>
          </a:xfrm>
        </p:grpSpPr>
        <p:grpSp>
          <p:nvGrpSpPr>
            <p:cNvPr id="1070" name="Group 3"/>
            <p:cNvGrpSpPr/>
            <p:nvPr/>
          </p:nvGrpSpPr>
          <p:grpSpPr>
            <a:xfrm>
              <a:off x="1247760" y="1100160"/>
              <a:ext cx="7361640" cy="880920"/>
              <a:chOff x="1247760" y="1100160"/>
              <a:chExt cx="7361640" cy="880920"/>
            </a:xfrm>
          </p:grpSpPr>
          <p:sp>
            <p:nvSpPr>
              <p:cNvPr id="1071" name="Rectangle 4"/>
              <p:cNvSpPr/>
              <p:nvPr/>
            </p:nvSpPr>
            <p:spPr>
              <a:xfrm>
                <a:off x="1327320" y="1158840"/>
                <a:ext cx="7282080" cy="822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Rectangle 5"/>
              <p:cNvSpPr/>
              <p:nvPr/>
            </p:nvSpPr>
            <p:spPr>
              <a:xfrm>
                <a:off x="1247760" y="1100160"/>
                <a:ext cx="7282080" cy="822240"/>
              </a:xfrm>
              <a:prstGeom prst="rect">
                <a:avLst/>
              </a:prstGeom>
              <a:solidFill>
                <a:srgbClr val="ff0033"/>
              </a:solidFill>
              <a:ln cap="sq" w="12600">
                <a:solidFill>
                  <a:srgbClr val="99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Rectangle 6"/>
            <p:cNvSpPr/>
            <p:nvPr/>
          </p:nvSpPr>
          <p:spPr>
            <a:xfrm>
              <a:off x="1257480" y="1171440"/>
              <a:ext cx="726156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000" spc="-1" strike="noStrike">
                  <a:solidFill>
                    <a:srgbClr val="ffffff"/>
                  </a:solidFill>
                  <a:latin typeface="Times New Roman"/>
                </a:rPr>
                <a:t>สรุปความสำคัญทางสาธารณสุข และความเร่งด่วน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4" name="Text Box 10"/>
          <p:cNvSpPr/>
          <p:nvPr/>
        </p:nvSpPr>
        <p:spPr>
          <a:xfrm>
            <a:off x="1828800" y="228600"/>
            <a:ext cx="6781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CordiaUPC"/>
              </a:rPr>
              <a:t>วิธีการเขียนรายงานการสอบสวนเบื้องต้น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5" name="Group 11"/>
          <p:cNvGrpSpPr/>
          <p:nvPr/>
        </p:nvGrpSpPr>
        <p:grpSpPr>
          <a:xfrm>
            <a:off x="1676520" y="2819520"/>
            <a:ext cx="7467120" cy="2590200"/>
            <a:chOff x="1676520" y="2819520"/>
            <a:chExt cx="7467120" cy="2590200"/>
          </a:xfrm>
        </p:grpSpPr>
        <p:sp>
          <p:nvSpPr>
            <p:cNvPr id="1076" name="Rectangle 12"/>
            <p:cNvSpPr/>
            <p:nvPr/>
          </p:nvSpPr>
          <p:spPr>
            <a:xfrm>
              <a:off x="1872000" y="2923920"/>
              <a:ext cx="7271640" cy="22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rmAutofit fontScale="77000"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BrowalliaUPC"/>
                </a:rPr>
                <a:t> </a:t>
              </a: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cs typeface="BrowalliaUPC"/>
                </a:rPr>
                <a:t>สรุปขนาดของปัญหา และผลกระทบต่อประชาช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BrowalliaUPC"/>
                </a:rPr>
                <a:t> </a:t>
              </a:r>
              <a:r>
                <a:rPr b="1" lang="th-TH" sz="3200" spc="-1" strike="noStrike">
                  <a:solidFill>
                    <a:srgbClr val="000000"/>
                  </a:solidFill>
                  <a:latin typeface="Browallia New"/>
                  <a:cs typeface="Browallia New"/>
                </a:rPr>
                <a:t>ระดับของผลกระทบด้านเศรษฐกิจ การท่องเที่ยว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cs typeface="BrowalliaUPC"/>
                </a:rPr>
                <a:t>เป็นการระบาดหรือเป็นโรคอุบัติใหม่หรือไม่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ea typeface="BrowalliaUPC"/>
                </a:rPr>
                <a:t> </a:t>
              </a: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cs typeface="BrowalliaUPC"/>
                </a:rPr>
                <a:t>ต้องการความเร่งด่วนในการแก้ไขปัญหาหรือไม่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7" name="Group 13"/>
            <p:cNvGrpSpPr/>
            <p:nvPr/>
          </p:nvGrpSpPr>
          <p:grpSpPr>
            <a:xfrm>
              <a:off x="1676520" y="2819520"/>
              <a:ext cx="6770160" cy="2590200"/>
              <a:chOff x="1676520" y="2819520"/>
              <a:chExt cx="6770160" cy="2590200"/>
            </a:xfrm>
          </p:grpSpPr>
          <p:sp>
            <p:nvSpPr>
              <p:cNvPr id="1078" name="Rectangle 14"/>
              <p:cNvSpPr/>
              <p:nvPr/>
            </p:nvSpPr>
            <p:spPr>
              <a:xfrm>
                <a:off x="1676520" y="2819520"/>
                <a:ext cx="6770160" cy="64728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Rectangle 15"/>
              <p:cNvSpPr/>
              <p:nvPr/>
            </p:nvSpPr>
            <p:spPr>
              <a:xfrm>
                <a:off x="1676520" y="3466800"/>
                <a:ext cx="6770160" cy="64764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Rectangle 16"/>
              <p:cNvSpPr/>
              <p:nvPr/>
            </p:nvSpPr>
            <p:spPr>
              <a:xfrm>
                <a:off x="1676520" y="4114800"/>
                <a:ext cx="6770160" cy="64728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Rectangle 17"/>
              <p:cNvSpPr/>
              <p:nvPr/>
            </p:nvSpPr>
            <p:spPr>
              <a:xfrm>
                <a:off x="1676520" y="4762440"/>
                <a:ext cx="6770160" cy="64728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2" name="Group 2"/>
          <p:cNvGrpSpPr/>
          <p:nvPr/>
        </p:nvGrpSpPr>
        <p:grpSpPr>
          <a:xfrm>
            <a:off x="226080" y="1100160"/>
            <a:ext cx="6733800" cy="880920"/>
            <a:chOff x="226080" y="1100160"/>
            <a:chExt cx="6733800" cy="880920"/>
          </a:xfrm>
        </p:grpSpPr>
        <p:sp>
          <p:nvSpPr>
            <p:cNvPr id="1083" name="Rectangle 3"/>
            <p:cNvSpPr/>
            <p:nvPr/>
          </p:nvSpPr>
          <p:spPr>
            <a:xfrm>
              <a:off x="1298160" y="1158840"/>
              <a:ext cx="4665600" cy="82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Rectangle 4"/>
            <p:cNvSpPr/>
            <p:nvPr/>
          </p:nvSpPr>
          <p:spPr>
            <a:xfrm>
              <a:off x="1247760" y="1100160"/>
              <a:ext cx="4665600" cy="82224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Rectangle 5"/>
            <p:cNvSpPr/>
            <p:nvPr/>
          </p:nvSpPr>
          <p:spPr>
            <a:xfrm>
              <a:off x="226080" y="1176120"/>
              <a:ext cx="67338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000" spc="-1" strike="noStrike">
                  <a:solidFill>
                    <a:srgbClr val="ffffff"/>
                  </a:solidFill>
                  <a:latin typeface="Times New Roman"/>
                </a:rPr>
                <a:t>ข้อเสนอเพื่อพิจารณาดำเนินการ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6" name="Text Box 9"/>
          <p:cNvSpPr/>
          <p:nvPr/>
        </p:nvSpPr>
        <p:spPr>
          <a:xfrm>
            <a:off x="1247760" y="174600"/>
            <a:ext cx="6781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  <a:cs typeface="CordiaUPC"/>
              </a:rPr>
              <a:t>วิธีการเขียนรายงานการสอบสวนเบื้องต้น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7" name="Group 10"/>
          <p:cNvGrpSpPr/>
          <p:nvPr/>
        </p:nvGrpSpPr>
        <p:grpSpPr>
          <a:xfrm>
            <a:off x="1359000" y="2438280"/>
            <a:ext cx="6857280" cy="2590920"/>
            <a:chOff x="1359000" y="2438280"/>
            <a:chExt cx="6857280" cy="2590920"/>
          </a:xfrm>
        </p:grpSpPr>
        <p:sp>
          <p:nvSpPr>
            <p:cNvPr id="1088" name="Rectangle 11"/>
            <p:cNvSpPr/>
            <p:nvPr/>
          </p:nvSpPr>
          <p:spPr>
            <a:xfrm>
              <a:off x="1538280" y="2543040"/>
              <a:ext cx="667800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rmAutofit fontScale="77000"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BrowalliaUPC"/>
                </a:rPr>
                <a:t> </a:t>
              </a: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cs typeface="BrowalliaUPC"/>
                </a:rPr>
                <a:t>มาตรการควบคุมโรคเดิมที่ต้องดำเนินการต่อ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BrowalliaUPC"/>
                </a:rPr>
                <a:t> </a:t>
              </a: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cs typeface="BrowalliaUPC"/>
                </a:rPr>
                <a:t>ระบุมาตรการใหม่ที่ต้องดำเนินการเพิ่ม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ea typeface="BrowalliaUPC"/>
                </a:rPr>
                <a:t> </a:t>
              </a: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cs typeface="BrowalliaUPC"/>
                </a:rPr>
                <a:t>ระบุหน่วยงานที่ต้องประสานงานดำเนินการ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SzPct val="80000"/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ea typeface="BrowalliaUPC"/>
                </a:rPr>
                <a:t> </a:t>
              </a:r>
              <a:r>
                <a:rPr b="1" lang="th-TH" sz="3200" spc="-1" strike="noStrike">
                  <a:solidFill>
                    <a:srgbClr val="000000"/>
                  </a:solidFill>
                  <a:latin typeface="Arial"/>
                  <a:cs typeface="BrowalliaUPC"/>
                </a:rPr>
                <a:t>ให้ความสำคัญกับการเฝ้าระวังโรคต่อเนื่อง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9" name="Group 12"/>
            <p:cNvGrpSpPr/>
            <p:nvPr/>
          </p:nvGrpSpPr>
          <p:grpSpPr>
            <a:xfrm>
              <a:off x="1359000" y="2438280"/>
              <a:ext cx="6217560" cy="2590920"/>
              <a:chOff x="1359000" y="2438280"/>
              <a:chExt cx="6217560" cy="2590920"/>
            </a:xfrm>
          </p:grpSpPr>
          <p:sp>
            <p:nvSpPr>
              <p:cNvPr id="1090" name="Rectangle 13"/>
              <p:cNvSpPr/>
              <p:nvPr/>
            </p:nvSpPr>
            <p:spPr>
              <a:xfrm>
                <a:off x="1359000" y="2438280"/>
                <a:ext cx="6217560" cy="64764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Rectangle 14"/>
              <p:cNvSpPr/>
              <p:nvPr/>
            </p:nvSpPr>
            <p:spPr>
              <a:xfrm>
                <a:off x="1359000" y="3085920"/>
                <a:ext cx="6217560" cy="64800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Rectangle 15"/>
              <p:cNvSpPr/>
              <p:nvPr/>
            </p:nvSpPr>
            <p:spPr>
              <a:xfrm>
                <a:off x="1359000" y="3733920"/>
                <a:ext cx="6217560" cy="64764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Rectangle 16"/>
              <p:cNvSpPr/>
              <p:nvPr/>
            </p:nvSpPr>
            <p:spPr>
              <a:xfrm>
                <a:off x="1359000" y="4381560"/>
                <a:ext cx="6217560" cy="64764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5"/>
          <p:cNvSpPr/>
          <p:nvPr/>
        </p:nvSpPr>
        <p:spPr>
          <a:xfrm>
            <a:off x="1273320" y="2670120"/>
            <a:ext cx="7162560" cy="20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5000"/>
              </a:lnSpc>
              <a:spcBef>
                <a:spcPts val="2001"/>
              </a:spcBef>
              <a:buClr>
                <a:srgbClr val="0000bf"/>
              </a:buClr>
              <a:buSzPct val="80000"/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bf"/>
                </a:solidFill>
                <a:latin typeface="Angsana New"/>
                <a:cs typeface="CordiaUPC"/>
              </a:rPr>
              <a:t>หลักการเดียวกันกับการเขียนรายงานฉบับสมบูรณ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5000"/>
              </a:lnSpc>
              <a:spcBef>
                <a:spcPts val="2001"/>
              </a:spcBef>
              <a:buClr>
                <a:srgbClr val="0000bf"/>
              </a:buClr>
              <a:buSzPct val="80000"/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bf"/>
                </a:solidFill>
                <a:latin typeface="Angsana New"/>
                <a:cs typeface="CordiaUPC"/>
              </a:rPr>
              <a:t>แต่มีเพียงองค์ประกอบหลักเท่านั้น ได้แก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5" name="Group 6"/>
          <p:cNvGrpSpPr/>
          <p:nvPr/>
        </p:nvGrpSpPr>
        <p:grpSpPr>
          <a:xfrm>
            <a:off x="1273320" y="209520"/>
            <a:ext cx="6629040" cy="2133360"/>
            <a:chOff x="1273320" y="209520"/>
            <a:chExt cx="6629040" cy="2133360"/>
          </a:xfrm>
        </p:grpSpPr>
        <p:sp>
          <p:nvSpPr>
            <p:cNvPr id="1096" name="AutoShape 7"/>
            <p:cNvSpPr/>
            <p:nvPr/>
          </p:nvSpPr>
          <p:spPr>
            <a:xfrm>
              <a:off x="1294560" y="209520"/>
              <a:ext cx="6369120" cy="2133360"/>
            </a:xfrm>
            <a:custGeom>
              <a:avLst/>
              <a:gdLst>
                <a:gd name="textAreaLeft" fmla="*/ 138240 w 6369120"/>
                <a:gd name="textAreaRight" fmla="*/ 6230880 w 6369120"/>
                <a:gd name="textAreaTop" fmla="*/ 138240 h 2133360"/>
                <a:gd name="textAreaBottom" fmla="*/ 1995120 h 2133360"/>
              </a:gdLst>
              <a:ahLst/>
              <a:rect l="textAreaLeft" t="textAreaTop" r="textAreaRight" b="textAreaBottom"/>
              <a:pathLst>
                <a:path w="64479" h="21600">
                  <a:moveTo>
                    <a:pt x="0" y="0"/>
                  </a:moveTo>
                  <a:lnTo>
                    <a:pt x="64479" y="0"/>
                  </a:lnTo>
                  <a:lnTo>
                    <a:pt x="64479" y="21600"/>
                  </a:lnTo>
                  <a:lnTo>
                    <a:pt x="0" y="21600"/>
                  </a:lnTo>
                  <a:close/>
                </a:path>
                <a:path fill="lightenLess" w="64479" h="21600">
                  <a:moveTo>
                    <a:pt x="0" y="0"/>
                  </a:moveTo>
                  <a:lnTo>
                    <a:pt x="64479" y="0"/>
                  </a:lnTo>
                  <a:lnTo>
                    <a:pt x="63079" y="1400"/>
                  </a:lnTo>
                  <a:lnTo>
                    <a:pt x="1400" y="1400"/>
                  </a:lnTo>
                  <a:close/>
                </a:path>
                <a:path fill="darken" w="64479" h="21600">
                  <a:moveTo>
                    <a:pt x="64479" y="0"/>
                  </a:moveTo>
                  <a:lnTo>
                    <a:pt x="64479" y="21600"/>
                  </a:lnTo>
                  <a:lnTo>
                    <a:pt x="63079" y="20200"/>
                  </a:lnTo>
                  <a:lnTo>
                    <a:pt x="63079" y="1400"/>
                  </a:lnTo>
                  <a:close/>
                </a:path>
                <a:path fill="darkenLess" w="64479" h="21600">
                  <a:moveTo>
                    <a:pt x="6447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3079" y="20200"/>
                  </a:lnTo>
                  <a:close/>
                </a:path>
                <a:path fill="lighten" w="6447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Rectangle 8"/>
            <p:cNvSpPr/>
            <p:nvPr/>
          </p:nvSpPr>
          <p:spPr>
            <a:xfrm>
              <a:off x="1273320" y="406080"/>
              <a:ext cx="6629040" cy="17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ngsana New"/>
                </a:rPr>
                <a:t>3. </a:t>
              </a:r>
              <a:r>
                <a:rPr b="1" lang="en-US" sz="4400" spc="-1" strike="noStrike">
                  <a:solidFill>
                    <a:srgbClr val="000000"/>
                  </a:solidFill>
                  <a:latin typeface="Angsana New"/>
                </a:rPr>
                <a:t>วิธีการเขียนรายงานการสอบสวน    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ngsana New"/>
                </a:rPr>
                <a:t>   </a:t>
              </a:r>
              <a:r>
                <a:rPr b="1" lang="en-US" sz="4400" spc="-1" strike="noStrike">
                  <a:solidFill>
                    <a:srgbClr val="000000"/>
                  </a:solidFill>
                  <a:latin typeface="Angsana New"/>
                </a:rPr>
                <a:t>สรุปเสนอผู้บริหาร </a:t>
              </a:r>
              <a:r>
                <a:rPr b="1" lang="en-US" sz="4400" spc="-1" strike="noStrike">
                  <a:solidFill>
                    <a:srgbClr val="000000"/>
                  </a:solidFill>
                  <a:latin typeface="Angsana New"/>
                </a:rPr>
                <a:t>(Final Report)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8" name="Text Box 9"/>
          <p:cNvSpPr/>
          <p:nvPr/>
        </p:nvSpPr>
        <p:spPr>
          <a:xfrm>
            <a:off x="1214280" y="4143240"/>
            <a:ext cx="3810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imes New Roman"/>
              </a:rPr>
              <a:t>ชื่อเรื่อ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imes New Roman"/>
              </a:rPr>
              <a:t>ผู้รายงานและทีมสอบสวนโร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imes New Roman"/>
              </a:rPr>
              <a:t>ความเป็นม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imes New Roman"/>
              </a:rPr>
              <a:t>วัตถุประสงค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Text Box 10"/>
          <p:cNvSpPr/>
          <p:nvPr/>
        </p:nvSpPr>
        <p:spPr>
          <a:xfrm>
            <a:off x="5019840" y="4038480"/>
            <a:ext cx="350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0000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d5"/>
                </a:solidFill>
                <a:latin typeface="Times New Roman"/>
              </a:rPr>
              <a:t>วิธีการศึกษ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buClr>
                <a:srgbClr val="0000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d5"/>
                </a:solidFill>
                <a:latin typeface="Times New Roman"/>
              </a:rPr>
              <a:t>ผลการสอบสว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buClr>
                <a:srgbClr val="0000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d5"/>
                </a:solidFill>
                <a:latin typeface="Times New Roman"/>
              </a:rPr>
              <a:t>มาตรการควบคุมป้องกันโร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buClr>
                <a:srgbClr val="0000d5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d5"/>
                </a:solidFill>
                <a:latin typeface="Times New Roman"/>
              </a:rPr>
              <a:t>สรุปผ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0" name="Picture 11" descr="book"/>
          <p:cNvPicPr/>
          <p:nvPr/>
        </p:nvPicPr>
        <p:blipFill>
          <a:blip r:embed="rId1"/>
          <a:stretch/>
        </p:blipFill>
        <p:spPr>
          <a:xfrm>
            <a:off x="8077320" y="3886200"/>
            <a:ext cx="895320" cy="7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Text Box 4"/>
          <p:cNvSpPr/>
          <p:nvPr/>
        </p:nvSpPr>
        <p:spPr>
          <a:xfrm>
            <a:off x="2057400" y="25146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2" name="Object 10" descr=""/>
          <p:cNvPicPr/>
          <p:nvPr/>
        </p:nvPicPr>
        <p:blipFill>
          <a:blip r:embed="rId1"/>
          <a:stretch/>
        </p:blipFill>
        <p:spPr>
          <a:xfrm>
            <a:off x="1244520" y="1328760"/>
            <a:ext cx="5994360" cy="1414440"/>
          </a:xfrm>
          <a:prstGeom prst="rect">
            <a:avLst/>
          </a:prstGeom>
          <a:ln w="0">
            <a:noFill/>
          </a:ln>
        </p:spPr>
      </p:pic>
      <p:sp>
        <p:nvSpPr>
          <p:cNvPr id="1103" name="Text Box 12"/>
          <p:cNvSpPr/>
          <p:nvPr/>
        </p:nvSpPr>
        <p:spPr>
          <a:xfrm>
            <a:off x="1281240" y="3363840"/>
            <a:ext cx="7391160" cy="52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ผู้เขียนได้รับความรู้เพิ่มเติมจากขบวนการเขียน เรียบเรียงข้อมู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ผู้บริหารและผู้เกี่ยวข้องได้รับทราบเหตุการณ์ที่เกิดขึ้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และนำไปใช้ประโยชน์ วางแผนควบคุมและป้องกันโรคต่อไ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</a:rPr>
              <a:t>ผู้อ่านได้รับความรู้ในเรื่องการสอบสวนทางระบาดวิทย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</a:rPr>
              <a:t>พัฒนาคุณภาพของการสอบสวนทางระบาดวิทย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4" name="Group 19"/>
          <p:cNvGrpSpPr/>
          <p:nvPr/>
        </p:nvGrpSpPr>
        <p:grpSpPr>
          <a:xfrm>
            <a:off x="990720" y="322200"/>
            <a:ext cx="7467120" cy="1388880"/>
            <a:chOff x="990720" y="322200"/>
            <a:chExt cx="7467120" cy="1388880"/>
          </a:xfrm>
        </p:grpSpPr>
        <p:grpSp>
          <p:nvGrpSpPr>
            <p:cNvPr id="1105" name="Group 18"/>
            <p:cNvGrpSpPr/>
            <p:nvPr/>
          </p:nvGrpSpPr>
          <p:grpSpPr>
            <a:xfrm>
              <a:off x="990720" y="322200"/>
              <a:ext cx="7467120" cy="761760"/>
              <a:chOff x="990720" y="322200"/>
              <a:chExt cx="7467120" cy="761760"/>
            </a:xfrm>
          </p:grpSpPr>
          <p:sp>
            <p:nvSpPr>
              <p:cNvPr id="1106" name="Rectangle 13"/>
              <p:cNvSpPr/>
              <p:nvPr/>
            </p:nvSpPr>
            <p:spPr>
              <a:xfrm>
                <a:off x="1095840" y="398160"/>
                <a:ext cx="7362000" cy="685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Rectangle 14"/>
              <p:cNvSpPr/>
              <p:nvPr/>
            </p:nvSpPr>
            <p:spPr>
              <a:xfrm>
                <a:off x="990720" y="322200"/>
                <a:ext cx="7362000" cy="685800"/>
              </a:xfrm>
              <a:prstGeom prst="rect">
                <a:avLst/>
              </a:prstGeom>
              <a:solidFill>
                <a:srgbClr val="ff0033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8" name="Rectangle 15"/>
            <p:cNvSpPr/>
            <p:nvPr/>
          </p:nvSpPr>
          <p:spPr>
            <a:xfrm>
              <a:off x="1447560" y="398160"/>
              <a:ext cx="6694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000" spc="-1" strike="noStrike">
                  <a:solidFill>
                    <a:srgbClr val="ffffff"/>
                  </a:solidFill>
                  <a:latin typeface="Times New Roman"/>
                </a:rPr>
                <a:t>ประโยชน์ที่ได้รับจากการเขียนรายงาน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3"/>
          <p:cNvSpPr/>
          <p:nvPr/>
        </p:nvSpPr>
        <p:spPr>
          <a:xfrm>
            <a:off x="380880" y="43200"/>
            <a:ext cx="8352000" cy="82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CordiaUPC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rdiaUPC"/>
                <a:cs typeface="CordiaUPC"/>
              </a:rPr>
              <a:t>ความเป็นมา</a:t>
            </a:r>
            <a:r>
              <a:rPr b="1" lang="en-US" sz="3600" spc="-1" strike="noStrike">
                <a:solidFill>
                  <a:srgbClr val="000000"/>
                </a:solidFill>
                <a:latin typeface="CordiaUPC"/>
                <a:ea typeface="CordiaUPC"/>
              </a:rPr>
              <a:t>:</a:t>
            </a:r>
            <a:r>
              <a:rPr b="1" lang="th-TH" sz="3600" spc="-1" strike="noStrike">
                <a:solidFill>
                  <a:srgbClr val="000000"/>
                </a:solidFill>
                <a:latin typeface="CordiaUPC"/>
                <a:ea typeface="CordiaUPC"/>
              </a:rPr>
              <a:t>- </a:t>
            </a:r>
            <a:r>
              <a:rPr b="1" lang="th-TH" sz="3600" spc="-1" strike="noStrike">
                <a:solidFill>
                  <a:srgbClr val="000000"/>
                </a:solidFill>
                <a:latin typeface="CordiaUPC"/>
                <a:cs typeface="CordiaUPC"/>
              </a:rPr>
              <a:t>ยังไม่ครอบคลุมประเด็นที่ควรจะมี เช่น ข้อมูลของ </a:t>
            </a:r>
            <a:r>
              <a:rPr b="1" lang="en-US" sz="3600" spc="-1" strike="noStrike">
                <a:solidFill>
                  <a:srgbClr val="000000"/>
                </a:solidFill>
                <a:latin typeface="CordiaUPC"/>
                <a:ea typeface="CordiaUPC"/>
              </a:rPr>
              <a:t>index case </a:t>
            </a:r>
            <a:r>
              <a:rPr b="1" lang="th-TH" sz="3600" spc="-1" strike="noStrike">
                <a:solidFill>
                  <a:srgbClr val="000000"/>
                </a:solidFill>
                <a:latin typeface="CordiaUPC"/>
                <a:cs typeface="CordiaUPC"/>
              </a:rPr>
              <a:t>ความจำเป็นที่ต้องสอบสวนโรค ทีมสอบสวน ระยะเวลาที่ออกสอบสวน </a:t>
            </a:r>
            <a:r>
              <a:rPr b="1" lang="en-US" sz="3600" spc="-1" strike="noStrike">
                <a:solidFill>
                  <a:srgbClr val="000000"/>
                </a:solidFill>
                <a:latin typeface="CordiaUPC"/>
                <a:ea typeface="CordiaUP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2701"/>
              </a:spcBef>
              <a:buClr>
                <a:srgbClr val="000000"/>
              </a:buClr>
              <a:buSzPct val="80000"/>
              <a:buFont typeface="CordiaUPC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rdiaUPC"/>
                <a:cs typeface="CordiaUPC"/>
              </a:rPr>
              <a:t>วัตถุประสงค์ของการสอบสวนโรค ไม่ชัดเจ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2701"/>
              </a:spcBef>
              <a:buClr>
                <a:srgbClr val="000000"/>
              </a:buClr>
              <a:buSzPct val="80000"/>
              <a:buFont typeface="CordiaUPC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rdiaUPC"/>
                <a:cs typeface="CordiaUPC"/>
              </a:rPr>
              <a:t>วิธีการสอบสวนไม่สอดคล้องกับวัตถุประสงค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2701"/>
              </a:spcBef>
              <a:buClr>
                <a:srgbClr val="000000"/>
              </a:buClr>
              <a:buSzPct val="80000"/>
              <a:buFont typeface="CordiaUPC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rdiaUPC"/>
                <a:cs typeface="CordiaUPC"/>
              </a:rPr>
              <a:t>การตั้งนิยามผู้ป่วย เพื่อการค้นหาผู้ป่วยเพิ่มเติม ส่วนใหญ่ไม่ถูกต้อง ไม่ครอบคลุม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5000"/>
              </a:lnSpc>
              <a:spcBef>
                <a:spcPts val="18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Text Box 4"/>
          <p:cNvSpPr/>
          <p:nvPr/>
        </p:nvSpPr>
        <p:spPr>
          <a:xfrm>
            <a:off x="257760" y="270000"/>
            <a:ext cx="8401320" cy="764280"/>
          </a:xfrm>
          <a:prstGeom prst="rect">
            <a:avLst/>
          </a:prstGeom>
          <a:solidFill>
            <a:srgbClr val="ff0000"/>
          </a:solidFill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CordiaUPC"/>
                <a:cs typeface="CordiaUPC"/>
              </a:rPr>
              <a:t>จุดอ่อนของรายงานการสอบสวนโร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2"/>
          <p:cNvSpPr/>
          <p:nvPr/>
        </p:nvSpPr>
        <p:spPr>
          <a:xfrm>
            <a:off x="468360" y="-1201680"/>
            <a:ext cx="8496360" cy="93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5.   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ผลการสอบสวนไม่ตอบวัตถุประสงค์ </a:t>
            </a:r>
            <a:r>
              <a:rPr b="1" lang="en-US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&amp;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ไม่สามารถบอกประเด็นสำคัญของการสอบสวนโรคได้  เช่น ขนาดของปัญหาการเกิดโรคในครั้งนั้น ๆ </a:t>
            </a:r>
            <a:r>
              <a:rPr b="1" lang="en-US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,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ขอบเขตการเกิดโรคไม่ชัดเจน</a:t>
            </a:r>
            <a:r>
              <a:rPr b="1" lang="en-US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,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การถ่ายทอดโรค</a:t>
            </a:r>
            <a:r>
              <a:rPr b="1" lang="en-US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, 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ปัจจัยสนับสนุนให้เกิดการแพร่ระบาด ฯลฯ  จึงเสมือนเป็นเพียง การรายงานผู้ป่วยเท่านั้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6. 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ลำดับขั้นตอนการเขียน</a:t>
            </a:r>
            <a:r>
              <a:rPr b="1" lang="en-US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:-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กล่าวถึงประเด็นเดียวกัน ซ้ำ ไป ซ้ำม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7. 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เนื้อหามากเกินความจำเป็น</a:t>
            </a:r>
            <a:r>
              <a:rPr b="1" lang="en-US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:- 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การลอกรายละเอีย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      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ของ อาการ การรักษา ผล </a:t>
            </a:r>
            <a:r>
              <a:rPr b="1" lang="en-US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Lab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จากแฟ้มทะเบียนผู้ป่วยเกือบทั้งหมด มาไว้ในรายงานสอบสวนโรค</a:t>
            </a:r>
            <a:r>
              <a:rPr b="1" lang="en-US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 ที่ควรเป็นคือสรุปประเด็นจากรายละเอียดเหล่านั้นออกมาให้ได้ว่า</a:t>
            </a:r>
            <a:r>
              <a:rPr b="1" lang="en-US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ลักษณะอาการหลัก คืออะไร สอดคล้องกับ ผล </a:t>
            </a:r>
            <a:r>
              <a:rPr b="1" lang="en-US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Lab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/ 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การรักษาของแพทย์หรือไม่  และจากข้อมูลดังกล่าว สามารถสรุปได้หรือไม่ว่า น่าจะเป็นโรคใด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2"/>
          <p:cNvSpPr/>
          <p:nvPr/>
        </p:nvSpPr>
        <p:spPr>
          <a:xfrm>
            <a:off x="609480" y="19728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80000"/>
              <a:buFont typeface="CordiaUPC"/>
              <a:buAutoNum type="arabicPeriod" startAt="8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ข้อเสนอมาตรการควบคุมป้องกัน ยังไม่สามารถระบุมาตรการที่จำเพาะและสอดคล้องกับสถานการณ์จริง เช่น การให้ยาแก่ผู้สัมผัสมากเกินความจำเป็น</a:t>
            </a:r>
            <a:r>
              <a:rPr b="1" lang="en-US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,  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คำแนะนำในการควบคุมโรค ควรระบุให้ชัดเจนว่า ข้อเสนอเหล่านั้น จะให้ใครทำ จะทำอย่างไร และเริ่มทำ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/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สิ้นสุดเมื่อไร</a:t>
            </a:r>
            <a:r>
              <a:rPr b="1" lang="en-US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, </a:t>
            </a:r>
            <a:r>
              <a:rPr b="1" lang="th-TH" sz="3200" spc="-1" strike="noStrike">
                <a:solidFill>
                  <a:srgbClr val="000000"/>
                </a:solidFill>
                <a:latin typeface="CordiaUPC"/>
                <a:ea typeface="CordiaUP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80000"/>
              <a:buFont typeface="CordiaUPC"/>
              <a:buAutoNum type="arabicPeriod" startAt="8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CordiaUPC"/>
                <a:cs typeface="CordiaUPC"/>
              </a:rPr>
              <a:t>ขาดความเข้าใจเรื่องการสอบสวนเชิงพรรณนาและเชิงวิเคราะห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Picture 4" descr=""/>
          <p:cNvPicPr/>
          <p:nvPr/>
        </p:nvPicPr>
        <p:blipFill>
          <a:blip r:embed="rId1"/>
          <a:stretch/>
        </p:blipFill>
        <p:spPr>
          <a:xfrm>
            <a:off x="733320" y="2387520"/>
            <a:ext cx="4991040" cy="3054600"/>
          </a:xfrm>
          <a:prstGeom prst="rect">
            <a:avLst/>
          </a:prstGeom>
          <a:ln w="0">
            <a:noFill/>
          </a:ln>
        </p:spPr>
      </p:pic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228480" y="1285560"/>
            <a:ext cx="5791320" cy="28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AngsanaUPC"/>
                <a:ea typeface="AngsanaUPC"/>
              </a:rPr>
              <a:t>Thank you 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8"/>
          <p:cNvSpPr/>
          <p:nvPr/>
        </p:nvSpPr>
        <p:spPr>
          <a:xfrm>
            <a:off x="1295280" y="1981080"/>
            <a:ext cx="7848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BrowalliaUPC"/>
              </a:rPr>
              <a:t>1.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cs typeface="BrowalliaUPC"/>
              </a:rPr>
              <a:t>รายงานการสอบสวนเสนอผู้บริหา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BrowalliaUPC"/>
              </a:rPr>
              <a:t>1.1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cs typeface="BrowalliaUPC"/>
              </a:rPr>
              <a:t>รายงานการสอบสวนเบื้องต้น 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BrowalliaUPC"/>
              </a:rPr>
              <a:t>(Preliminary Repor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BrowalliaUPC"/>
              </a:rPr>
              <a:t>1.2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cs typeface="BrowalliaUPC"/>
              </a:rPr>
              <a:t>รายงานการสอบสวนสรุปเสนอผู้บริหาร 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BrowalliaUPC"/>
              </a:rPr>
              <a:t>(Final Repor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6" name="Group 39"/>
          <p:cNvGrpSpPr/>
          <p:nvPr/>
        </p:nvGrpSpPr>
        <p:grpSpPr>
          <a:xfrm>
            <a:off x="1143000" y="228600"/>
            <a:ext cx="6019560" cy="1066680"/>
            <a:chOff x="1143000" y="228600"/>
            <a:chExt cx="6019560" cy="1066680"/>
          </a:xfrm>
        </p:grpSpPr>
        <p:sp>
          <p:nvSpPr>
            <p:cNvPr id="597" name="AutoShape 9"/>
            <p:cNvSpPr/>
            <p:nvPr/>
          </p:nvSpPr>
          <p:spPr>
            <a:xfrm>
              <a:off x="1261080" y="228600"/>
              <a:ext cx="5783040" cy="1066680"/>
            </a:xfrm>
            <a:custGeom>
              <a:avLst/>
              <a:gdLst>
                <a:gd name="textAreaLeft" fmla="*/ 69120 w 5783040"/>
                <a:gd name="textAreaRight" fmla="*/ 5713920 w 5783040"/>
                <a:gd name="textAreaTop" fmla="*/ 69120 h 1066680"/>
                <a:gd name="textAreaBottom" fmla="*/ 997560 h 1066680"/>
              </a:gdLst>
              <a:ahLst/>
              <a:rect l="textAreaLeft" t="textAreaTop" r="textAreaRight" b="textAreaBottom"/>
              <a:pathLst>
                <a:path w="117073" h="21600">
                  <a:moveTo>
                    <a:pt x="0" y="0"/>
                  </a:moveTo>
                  <a:lnTo>
                    <a:pt x="117073" y="0"/>
                  </a:lnTo>
                  <a:lnTo>
                    <a:pt x="117073" y="21600"/>
                  </a:lnTo>
                  <a:lnTo>
                    <a:pt x="0" y="21600"/>
                  </a:lnTo>
                  <a:close/>
                </a:path>
                <a:path fill="lightenLess" w="117073" h="21600">
                  <a:moveTo>
                    <a:pt x="0" y="0"/>
                  </a:moveTo>
                  <a:lnTo>
                    <a:pt x="117073" y="0"/>
                  </a:lnTo>
                  <a:lnTo>
                    <a:pt x="115673" y="1400"/>
                  </a:lnTo>
                  <a:lnTo>
                    <a:pt x="1400" y="1400"/>
                  </a:lnTo>
                  <a:close/>
                </a:path>
                <a:path fill="darken" w="117073" h="21600">
                  <a:moveTo>
                    <a:pt x="117073" y="0"/>
                  </a:moveTo>
                  <a:lnTo>
                    <a:pt x="117073" y="21600"/>
                  </a:lnTo>
                  <a:lnTo>
                    <a:pt x="115673" y="20200"/>
                  </a:lnTo>
                  <a:lnTo>
                    <a:pt x="115673" y="1400"/>
                  </a:lnTo>
                  <a:close/>
                </a:path>
                <a:path fill="darkenLess" w="117073" h="21600">
                  <a:moveTo>
                    <a:pt x="11707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5673" y="20200"/>
                  </a:lnTo>
                  <a:close/>
                </a:path>
                <a:path fill="lighten" w="11707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Rectangle 10"/>
            <p:cNvSpPr/>
            <p:nvPr/>
          </p:nvSpPr>
          <p:spPr>
            <a:xfrm>
              <a:off x="1143000" y="304920"/>
              <a:ext cx="601956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800" spc="-1" strike="noStrike">
                  <a:solidFill>
                    <a:srgbClr val="ffffff"/>
                  </a:solidFill>
                  <a:latin typeface="Angsana New"/>
                </a:rPr>
                <a:t>ประเภทของรายงานการสอบสวน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9" name="Rectangle 19"/>
          <p:cNvSpPr/>
          <p:nvPr/>
        </p:nvSpPr>
        <p:spPr>
          <a:xfrm>
            <a:off x="1371600" y="4070520"/>
            <a:ext cx="777240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BrowalliaUPC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cs typeface="BrowalliaUPC"/>
              </a:rPr>
              <a:t>รายงานการสอบสวนฉบับสมบูรณ์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BrowalliaUPC"/>
              </a:rPr>
              <a:t>(Full Report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BrowalliaUPC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cs typeface="BrowalliaUPC"/>
              </a:rPr>
              <a:t>รายงานบทความวิชาการ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BrowalliaUPC"/>
              </a:rPr>
              <a:t>(Scientific Articl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2"/>
          <p:cNvGrpSpPr/>
          <p:nvPr/>
        </p:nvGrpSpPr>
        <p:grpSpPr>
          <a:xfrm>
            <a:off x="1447920" y="382680"/>
            <a:ext cx="6857640" cy="2056680"/>
            <a:chOff x="1447920" y="382680"/>
            <a:chExt cx="6857640" cy="2056680"/>
          </a:xfrm>
        </p:grpSpPr>
        <p:sp>
          <p:nvSpPr>
            <p:cNvPr id="601" name="AutoShape 3"/>
            <p:cNvSpPr/>
            <p:nvPr/>
          </p:nvSpPr>
          <p:spPr>
            <a:xfrm>
              <a:off x="1447920" y="382680"/>
              <a:ext cx="6222960" cy="1980000"/>
            </a:xfrm>
            <a:custGeom>
              <a:avLst/>
              <a:gdLst>
                <a:gd name="textAreaLeft" fmla="*/ 128160 w 6222960"/>
                <a:gd name="textAreaRight" fmla="*/ 6094800 w 6222960"/>
                <a:gd name="textAreaTop" fmla="*/ 128160 h 1980000"/>
                <a:gd name="textAreaBottom" fmla="*/ 1851840 h 1980000"/>
              </a:gdLst>
              <a:ahLst/>
              <a:rect l="textAreaLeft" t="textAreaTop" r="textAreaRight" b="textAreaBottom"/>
              <a:pathLst>
                <a:path w="67878" h="21600">
                  <a:moveTo>
                    <a:pt x="0" y="0"/>
                  </a:moveTo>
                  <a:lnTo>
                    <a:pt x="67878" y="0"/>
                  </a:lnTo>
                  <a:lnTo>
                    <a:pt x="67878" y="21600"/>
                  </a:lnTo>
                  <a:lnTo>
                    <a:pt x="0" y="21600"/>
                  </a:lnTo>
                  <a:close/>
                </a:path>
                <a:path fill="lightenLess" w="67878" h="21600">
                  <a:moveTo>
                    <a:pt x="0" y="0"/>
                  </a:moveTo>
                  <a:lnTo>
                    <a:pt x="67878" y="0"/>
                  </a:lnTo>
                  <a:lnTo>
                    <a:pt x="66478" y="1400"/>
                  </a:lnTo>
                  <a:lnTo>
                    <a:pt x="1400" y="1400"/>
                  </a:lnTo>
                  <a:close/>
                </a:path>
                <a:path fill="darken" w="67878" h="21600">
                  <a:moveTo>
                    <a:pt x="67878" y="0"/>
                  </a:moveTo>
                  <a:lnTo>
                    <a:pt x="67878" y="21600"/>
                  </a:lnTo>
                  <a:lnTo>
                    <a:pt x="66478" y="20200"/>
                  </a:lnTo>
                  <a:lnTo>
                    <a:pt x="66478" y="1400"/>
                  </a:lnTo>
                  <a:close/>
                </a:path>
                <a:path fill="darkenLess" w="67878" h="21600">
                  <a:moveTo>
                    <a:pt x="6787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66478" y="20200"/>
                  </a:lnTo>
                  <a:close/>
                </a:path>
                <a:path fill="lighten" w="6787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Rectangle 4"/>
            <p:cNvSpPr/>
            <p:nvPr/>
          </p:nvSpPr>
          <p:spPr>
            <a:xfrm>
              <a:off x="1828800" y="827640"/>
              <a:ext cx="6476760" cy="161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ngsana New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ngsana New"/>
                </a:rPr>
                <a:t>1. </a:t>
              </a:r>
              <a:r>
                <a:rPr b="1" lang="en-US" sz="4400" spc="-1" strike="noStrike">
                  <a:solidFill>
                    <a:srgbClr val="000000"/>
                  </a:solidFill>
                  <a:latin typeface="Angsana New"/>
                </a:rPr>
                <a:t>วิธีการเขียนรายงานการสอบสวน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ngsana New"/>
                </a:rPr>
                <a:t>ฉบับสมบูรณ์ </a:t>
              </a:r>
              <a:r>
                <a:rPr b="1" lang="en-US" sz="4400" spc="-1" strike="noStrike">
                  <a:solidFill>
                    <a:srgbClr val="000000"/>
                  </a:solidFill>
                  <a:latin typeface="Angsana New"/>
                </a:rPr>
                <a:t>(Full report)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03" name="Picture 10" descr="report"/>
          <p:cNvPicPr/>
          <p:nvPr/>
        </p:nvPicPr>
        <p:blipFill>
          <a:blip r:embed="rId1"/>
          <a:stretch/>
        </p:blipFill>
        <p:spPr>
          <a:xfrm>
            <a:off x="2882880" y="2590920"/>
            <a:ext cx="3352680" cy="25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8"/>
          <p:cNvSpPr/>
          <p:nvPr/>
        </p:nvSpPr>
        <p:spPr>
          <a:xfrm>
            <a:off x="736560" y="1600200"/>
            <a:ext cx="792468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ชื่อเรื่อง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Tit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ผู้รายงานและทีมสอบสวนโรค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Principal Investigator &amp; Tea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บทคัดย่อ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Abstract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บทนำหรือความเป็นมา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Introduction or Backgroun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วัตถุประสงค์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Objectiv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วิธีการศึกษา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Methodolog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ผลการสอบสวน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Resul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5" name="Group 9"/>
          <p:cNvGrpSpPr/>
          <p:nvPr/>
        </p:nvGrpSpPr>
        <p:grpSpPr>
          <a:xfrm>
            <a:off x="838080" y="434880"/>
            <a:ext cx="7848360" cy="1191240"/>
            <a:chOff x="838080" y="434880"/>
            <a:chExt cx="7848360" cy="1191240"/>
          </a:xfrm>
        </p:grpSpPr>
        <p:sp>
          <p:nvSpPr>
            <p:cNvPr id="606" name="Rectangle 10"/>
            <p:cNvSpPr/>
            <p:nvPr/>
          </p:nvSpPr>
          <p:spPr>
            <a:xfrm>
              <a:off x="1532520" y="457200"/>
              <a:ext cx="715392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Rectangle 11"/>
            <p:cNvSpPr/>
            <p:nvPr/>
          </p:nvSpPr>
          <p:spPr>
            <a:xfrm>
              <a:off x="838080" y="434880"/>
              <a:ext cx="7154280" cy="119124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2b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Angsana New"/>
                </a:rPr>
                <a:t>องค์ประกอบของรายงานการสอบสวน ฉบับสมบูรณ์ </a:t>
              </a:r>
              <a:r>
                <a:rPr b="1" lang="en-US" sz="3600" spc="-1" strike="noStrike">
                  <a:solidFill>
                    <a:srgbClr val="ffffff"/>
                  </a:solidFill>
                  <a:latin typeface="Angsana New"/>
                </a:rPr>
                <a:t>(1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8"/>
          <p:cNvSpPr/>
          <p:nvPr/>
        </p:nvSpPr>
        <p:spPr>
          <a:xfrm>
            <a:off x="874800" y="1295280"/>
            <a:ext cx="7086600" cy="62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Angsana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มาตรการควบคุมและป้องกันโรค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Prevention &amp; Control Measure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Angsana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วิจารณ์ผล 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Discuss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Angsana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สรุปผล 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Conclus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Angsana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ข้อเสนอแนะ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Recommenda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Angsana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ปัญหาและข้อจำกัดในการสอบสวน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Limita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Angsana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กิตติกรรมประกาศ 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Acknowledgment)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80000"/>
              <a:buFont typeface="Angsana New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เอกสารอ้างอิง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Refere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9" name="Group 9"/>
          <p:cNvGrpSpPr/>
          <p:nvPr/>
        </p:nvGrpSpPr>
        <p:grpSpPr>
          <a:xfrm>
            <a:off x="762120" y="380880"/>
            <a:ext cx="7238520" cy="1191240"/>
            <a:chOff x="762120" y="380880"/>
            <a:chExt cx="7238520" cy="1191240"/>
          </a:xfrm>
        </p:grpSpPr>
        <p:sp>
          <p:nvSpPr>
            <p:cNvPr id="610" name="Rectangle 10"/>
            <p:cNvSpPr/>
            <p:nvPr/>
          </p:nvSpPr>
          <p:spPr>
            <a:xfrm>
              <a:off x="846360" y="457200"/>
              <a:ext cx="715428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Rectangle 11"/>
            <p:cNvSpPr/>
            <p:nvPr/>
          </p:nvSpPr>
          <p:spPr>
            <a:xfrm>
              <a:off x="762120" y="380880"/>
              <a:ext cx="7154640" cy="119124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2b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Angsana New"/>
                </a:rPr>
                <a:t>องค์ประกอบของรายงานการสอบสวน ฉบับสมบูรณ์ </a:t>
              </a:r>
              <a:r>
                <a:rPr b="1" lang="en-US" sz="3600" spc="-1" strike="noStrike">
                  <a:solidFill>
                    <a:srgbClr val="ffffff"/>
                  </a:solidFill>
                  <a:latin typeface="Angsana New"/>
                </a:rPr>
                <a:t>(2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10"/>
          <p:cNvSpPr/>
          <p:nvPr/>
        </p:nvSpPr>
        <p:spPr>
          <a:xfrm>
            <a:off x="122400" y="814320"/>
            <a:ext cx="2352600" cy="752040"/>
          </a:xfrm>
          <a:prstGeom prst="rect">
            <a:avLst/>
          </a:prstGeom>
          <a:solidFill>
            <a:srgbClr val="ff0033"/>
          </a:solidFill>
          <a:ln w="9360">
            <a:solidFill>
              <a:srgbClr val="2bf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BrowalliaUPC"/>
              </a:rPr>
              <a:t>ชื่อเรื่อ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3" name="Picture 17" descr="pe01616_"/>
          <p:cNvPicPr/>
          <p:nvPr/>
        </p:nvPicPr>
        <p:blipFill>
          <a:blip r:embed="rId1"/>
          <a:stretch/>
        </p:blipFill>
        <p:spPr>
          <a:xfrm>
            <a:off x="138240" y="2708280"/>
            <a:ext cx="2382840" cy="22352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24"/>
          <p:cNvSpPr/>
          <p:nvPr/>
        </p:nvSpPr>
        <p:spPr>
          <a:xfrm>
            <a:off x="457200" y="60480"/>
            <a:ext cx="79246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ff"/>
                </a:solidFill>
                <a:latin typeface="Angsana New"/>
                <a:cs typeface="CordiaUPC"/>
              </a:rPr>
              <a:t>องค์ประกอบและวิธีการเขียนรายงาน ฉบับสมบูรณ์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Rectangle 25"/>
          <p:cNvSpPr/>
          <p:nvPr/>
        </p:nvSpPr>
        <p:spPr>
          <a:xfrm>
            <a:off x="2286000" y="1390680"/>
            <a:ext cx="6400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บอกถึงเนื้อหาว่าสอบสวนโรคอะไร ที่ไหน เมื่อไหร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CordiaUPC"/>
              </a:rPr>
              <a:t>ไม่ยาวเกินไป  หรือสั้นเกินไปจนผู้อ่านไม่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ea typeface="CordiaUPC"/>
              </a:rPr>
              <a:t>  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CordiaUPC"/>
              </a:rPr>
              <a:t>เข้าใ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CordiaUPC"/>
              </a:rPr>
              <a:t>ชื่อเรื่องจะน่าสนใจมากขึ้นหากมีประเด็นจำเพาะ เช่น การสอบสวนการระบาดไข้หวัดนกในครอบครัว การระบาดของโรคหัดจากวัคซีนที่มีประสิทธิผลต่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Rectangle 26"/>
          <p:cNvSpPr/>
          <p:nvPr/>
        </p:nvSpPr>
        <p:spPr>
          <a:xfrm>
            <a:off x="1298520" y="5157720"/>
            <a:ext cx="6934320" cy="825480"/>
          </a:xfrm>
          <a:prstGeom prst="rect">
            <a:avLst/>
          </a:prstGeom>
          <a:noFill/>
          <a:ln w="25560">
            <a:solidFill>
              <a:srgbClr val="000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e2a7c"/>
                </a:solidFill>
                <a:latin typeface="Times New Roman"/>
                <a:cs typeface="CordiaUPC"/>
              </a:rPr>
              <a:t>ข้อแนะนำ </a:t>
            </a:r>
            <a:r>
              <a:rPr b="1" lang="th-TH" sz="2400" spc="-1" strike="noStrike">
                <a:solidFill>
                  <a:srgbClr val="ffff00"/>
                </a:solidFill>
                <a:latin typeface="Times New Roman"/>
                <a:ea typeface="CordiaUPC"/>
              </a:rPr>
              <a:t> </a:t>
            </a:r>
            <a:r>
              <a:rPr b="1" lang="th-TH" sz="2400" spc="-1" strike="noStrike">
                <a:solidFill>
                  <a:srgbClr val="0e2a7c"/>
                </a:solidFill>
                <a:latin typeface="Times New Roman"/>
                <a:cs typeface="CordiaUPC"/>
              </a:rPr>
              <a:t>ให้ตั้งชื่อเรื่องภายหลังเขียนส่วนอื่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e2a7c"/>
                </a:solidFill>
                <a:latin typeface="Times New Roman"/>
                <a:cs typeface="CordiaUPC"/>
              </a:rPr>
              <a:t>ทุกอย่างเสร็จสิ้นแล้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Oval 27"/>
          <p:cNvSpPr/>
          <p:nvPr/>
        </p:nvSpPr>
        <p:spPr>
          <a:xfrm>
            <a:off x="7061040" y="3352680"/>
            <a:ext cx="1676520" cy="533520"/>
          </a:xfrm>
          <a:prstGeom prst="ellipse">
            <a:avLst/>
          </a:prstGeom>
          <a:noFill/>
          <a:ln cap="sq"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Oval 28"/>
          <p:cNvSpPr/>
          <p:nvPr/>
        </p:nvSpPr>
        <p:spPr>
          <a:xfrm>
            <a:off x="5280120" y="3827520"/>
            <a:ext cx="3124080" cy="60948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1T04:23:15Z</dcterms:created>
  <dc:creator>Art</dc:creator>
  <dc:description/>
  <dc:language>en-US</dc:language>
  <cp:lastModifiedBy>Windows User</cp:lastModifiedBy>
  <dcterms:modified xsi:type="dcterms:W3CDTF">2018-02-28T04:10:56Z</dcterms:modified>
  <cp:revision>549</cp:revision>
  <dc:subject/>
  <dc:title>งานนำเสนอ PowerPoint</dc:title>
</cp:coreProperties>
</file>